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EF4C-F9E9-4496-AB39-878829EA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95F1-5C16-4CA8-B458-341A9489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3336-3945-4BE5-A8D5-5267156BC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0D2F-DE08-43F9-9323-139BE9C64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BBCA-9B3B-45FF-A7F3-9F642A9A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AB5B-64C1-4A6F-A303-EFF4FB58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FA88-22CD-4792-B956-CFFE8B33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5AF7-D3B1-4540-B03E-80C990DA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52D1-5DC1-4B54-A7DF-DBA2F385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11C2-C657-4C49-9400-E27E109E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D065-EC61-4F57-9341-FE8E66D0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5312-0814-407D-A2F3-6E02A6CF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260E-155F-4ADA-B5D4-177B928DC579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16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000000"/>
                </a:solidFill>
                <a:latin typeface="Calibri"/>
              </a:rPr>
              <a:t>Сонце — наша зоря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Місце для дати 4"/>
          <p:cNvSpPr/>
          <p:nvPr/>
        </p:nvSpPr>
        <p:spPr>
          <a:xfrm>
            <a:off x="0" y="6492960"/>
            <a:ext cx="6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0008-57AD-496B-BD9E-F2FD08822813}" type="datetime10">
              <a:rPr b="0" lang="uk-UA" sz="1200" spc="-1" strike="noStrike">
                <a:solidFill>
                  <a:srgbClr val="000000"/>
                </a:solidFill>
                <a:latin typeface="Calibri"/>
              </a:rPr>
              <a:t>05:0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Зона радіаці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91592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У зоні променистої рівноваги,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або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зоні радіації,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що оточує ядро на відстані до 2/3 радіуса Сонця, енергія поширюється шляхом послідовного поглинання і наступного перевипромінювання речовиною квантів електромагнітної енерг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Місце для дати 4"/>
          <p:cNvSpPr/>
          <p:nvPr/>
        </p:nvSpPr>
        <p:spPr>
          <a:xfrm>
            <a:off x="0" y="6492960"/>
            <a:ext cx="6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6D38-A33C-4686-AA07-CD100DC4D031}" type="datetime10">
              <a:rPr b="0" lang="uk-UA" sz="1200" spc="-1" strike="noStrike">
                <a:solidFill>
                  <a:srgbClr val="000000"/>
                </a:solidFill>
                <a:latin typeface="Calibri"/>
              </a:rPr>
              <a:t>05:0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Конвективна з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У конвективній зоні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(від верхнього шару зони радіації, майже до самої видимої межі Сонця —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фотосфери)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енергія передається вже не випромінюванням, а за допомогою конвекції, тобто шляхом перемішування речовини, коли утворюються своєрідні окремі комірки, які трохи відрізняються одна від одної температурою та густино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Місце для дати 4"/>
          <p:cNvSpPr/>
          <p:nvPr/>
        </p:nvSpPr>
        <p:spPr>
          <a:xfrm>
            <a:off x="0" y="6492960"/>
            <a:ext cx="6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2DEA-BB5B-49CC-80BF-0EC7A59EEDC0}" type="datetime10">
              <a:rPr b="0" lang="uk-UA" sz="1200" spc="-1" strike="noStrike">
                <a:solidFill>
                  <a:srgbClr val="000000"/>
                </a:solidFill>
                <a:latin typeface="Calibri"/>
              </a:rPr>
              <a:t>05:0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Атмосфе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Атмосферою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вважаються зовнішні шари Сонця, що умовно поділені на три оболонки. Найглибший шар атмосфери Сонця, що складається з газів,—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фотосфера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(від грец.—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сфера світла),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200—300 км завтовшки, сприймається нами як поверхня Сонця. Густина газів у фотосфері в мільйони разів менша за густину повітря біля поверхні Землі, а температура фотосфери зменшується з висотою. Середній шар фотосфери, випромінювання якого ми сприймаємо, має температуру 5780 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дати 4"/>
          <p:cNvSpPr/>
          <p:nvPr/>
        </p:nvSpPr>
        <p:spPr>
          <a:xfrm>
            <a:off x="0" y="6492960"/>
            <a:ext cx="6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3472-1FF2-4662-A034-573FF8C6CF96}" type="datetime10">
              <a:rPr b="0" lang="uk-UA" sz="1200" spc="-1" strike="noStrike">
                <a:solidFill>
                  <a:srgbClr val="000000"/>
                </a:solidFill>
                <a:latin typeface="Calibri"/>
              </a:rPr>
              <a:t>05:0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У сонячний телескоп можна спостерігати структуру фотосфери, у якій конвекційні комірки мають вигляд світлих і темних зерен —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гранул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. Над фотосферою розташована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хромосфера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(від грец.—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кольорова сфера),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де атомами різних речовин утворюються темні лінії поглинання у спектрі Сонця. Загальна товщина хромосфери становить 10—15 тис. км, а температура у її верхніх шарах сягає 100000 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дати 4"/>
          <p:cNvSpPr/>
          <p:nvPr/>
        </p:nvSpPr>
        <p:spPr>
          <a:xfrm>
            <a:off x="0" y="6492960"/>
            <a:ext cx="6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0904-30BE-4DB9-9A47-74DBFEB75AC3}" type="datetime10">
              <a:rPr b="0" lang="uk-UA" sz="1200" spc="-1" strike="noStrike">
                <a:solidFill>
                  <a:srgbClr val="000000"/>
                </a:solidFill>
                <a:latin typeface="Calibri"/>
              </a:rPr>
              <a:t>05:0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Над хромосферою розміщений зовнішній шар атмосфери Сонця —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сонячна корона,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температура якої сягає кількох мільйонів градусів. Речовина корони, яка постійно витікає у міжпланетний простір, називається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сонячним вітр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дати 4"/>
          <p:cNvSpPr/>
          <p:nvPr/>
        </p:nvSpPr>
        <p:spPr>
          <a:xfrm>
            <a:off x="0" y="6492960"/>
            <a:ext cx="6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B9DF-3055-426C-B99D-9C3A9192AB23}" type="datetime10">
              <a:rPr b="0" lang="uk-UA" sz="1200" spc="-1" strike="noStrike">
                <a:solidFill>
                  <a:srgbClr val="000000"/>
                </a:solidFill>
                <a:latin typeface="Calibri"/>
              </a:rPr>
              <a:t>05:0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Місце для дати 4"/>
          <p:cNvSpPr/>
          <p:nvPr/>
        </p:nvSpPr>
        <p:spPr>
          <a:xfrm>
            <a:off x="0" y="6492960"/>
            <a:ext cx="6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AF3A-8EA3-4155-9EFA-EE8CADC4DFEC}" type="datetime10">
              <a:rPr b="0" lang="uk-UA" sz="1200" spc="-1" strike="noStrike">
                <a:solidFill>
                  <a:srgbClr val="000000"/>
                </a:solidFill>
                <a:latin typeface="Calibri"/>
              </a:rPr>
              <a:t>05:0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2521080" cy="2519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4356000" y="549360"/>
            <a:ext cx="3899160" cy="2519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rcRect l="1883" t="44279" r="4599" b="16181"/>
          <a:stretch/>
        </p:blipFill>
        <p:spPr>
          <a:xfrm>
            <a:off x="1332000" y="3933720"/>
            <a:ext cx="6553080" cy="1582920"/>
          </a:xfrm>
          <a:prstGeom prst="rect">
            <a:avLst/>
          </a:prstGeom>
          <a:ln w="0">
            <a:noFill/>
          </a:ln>
        </p:spPr>
      </p:pic>
      <p:sp>
        <p:nvSpPr>
          <p:cNvPr id="85" name="TextBox 7"/>
          <p:cNvSpPr/>
          <p:nvPr/>
        </p:nvSpPr>
        <p:spPr>
          <a:xfrm>
            <a:off x="1332000" y="3213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ото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4500720" y="3213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ранули у фотосфер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1332000" y="5661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пектр Сонц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мні лінії поглинання утворюються у хромосфер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3. Сонячна активні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12500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Сонячна активність визначається кількістю плям та їхньою загальною площею. Дослідження показали, що температура всередині плями досить висока і сягає 4500 К, але пляма здається темною на тлі більш гарячої фотосфери з температурою 5780 К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дати 4"/>
          <p:cNvSpPr/>
          <p:nvPr/>
        </p:nvSpPr>
        <p:spPr>
          <a:xfrm>
            <a:off x="0" y="6492960"/>
            <a:ext cx="6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91BA-6EC6-4134-B8C9-2805EFC8EFB6}" type="datetime10">
              <a:rPr b="0" lang="uk-UA" sz="1200" spc="-1" strike="noStrike">
                <a:solidFill>
                  <a:srgbClr val="000000"/>
                </a:solidFill>
                <a:latin typeface="Calibri"/>
              </a:rPr>
              <a:t>05:0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539640" y="4005360"/>
            <a:ext cx="1704960" cy="180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6227640" y="4005360"/>
            <a:ext cx="2387880" cy="180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3" name="Picture 4" descr="image1"/>
          <p:cNvPicPr/>
          <p:nvPr/>
        </p:nvPicPr>
        <p:blipFill>
          <a:blip r:embed="rId3"/>
          <a:stretch/>
        </p:blipFill>
        <p:spPr>
          <a:xfrm>
            <a:off x="2843280" y="4005360"/>
            <a:ext cx="2746440" cy="180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4" name="TextBox 7"/>
          <p:cNvSpPr/>
          <p:nvPr/>
        </p:nvSpPr>
        <p:spPr>
          <a:xfrm>
            <a:off x="539640" y="59500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онячна пля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2843280" y="595008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лями з’єднані між собою попарно, як полюси в магніті, кожна пляма має свою магнітну поляр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иникає питання: що знижує температуру всередині плями? Плями на Сонці можуть існувати протягом кількох місяців, тому виникла гіпотеза, що якийсь процес гальмує конвекцію плазми в сонячній плямі та підтримує різницю температур. Зараз доведено, що таким «ізолятором» є сильне магнітне поле, яке взаємодіє з електрично зарядженими частинками плазми і гальмує конвекційні процеси всередині пл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дати 4"/>
          <p:cNvSpPr/>
          <p:nvPr/>
        </p:nvSpPr>
        <p:spPr>
          <a:xfrm>
            <a:off x="0" y="6492960"/>
            <a:ext cx="6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F790-6455-40C1-B2A0-DCABF7D8F400}" type="datetime10">
              <a:rPr b="0" lang="uk-UA" sz="1200" spc="-1" strike="noStrike">
                <a:solidFill>
                  <a:srgbClr val="000000"/>
                </a:solidFill>
                <a:latin typeface="Calibri"/>
              </a:rPr>
              <a:t>05:0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68360" y="692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Ще одна загадка активності Сонця захована в її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періодичності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— цикл зміни кількості плям повторюється приблизно через кожні 11 рокі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дати 4"/>
          <p:cNvSpPr/>
          <p:nvPr/>
        </p:nvSpPr>
        <p:spPr>
          <a:xfrm>
            <a:off x="0" y="6492960"/>
            <a:ext cx="6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B042-1AB7-4409-AE3C-9F7206085B7E}" type="datetime10">
              <a:rPr b="0" lang="uk-UA" sz="1200" spc="-1" strike="noStrike">
                <a:solidFill>
                  <a:srgbClr val="000000"/>
                </a:solidFill>
                <a:latin typeface="Calibri"/>
              </a:rPr>
              <a:t>05:0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image2"/>
          <p:cNvPicPr/>
          <p:nvPr/>
        </p:nvPicPr>
        <p:blipFill>
          <a:blip r:embed="rId1"/>
          <a:stretch/>
        </p:blipFill>
        <p:spPr>
          <a:xfrm>
            <a:off x="395280" y="3141720"/>
            <a:ext cx="8439120" cy="215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1" name="TextBox 5"/>
          <p:cNvSpPr/>
          <p:nvPr/>
        </p:nvSpPr>
        <p:spPr>
          <a:xfrm>
            <a:off x="395280" y="566100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міна сонячної активності визначається кількістю плям та їхньою площе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4. Вплив сонячної активності на Земл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Досліджуючи Сонце за допомогою супутників та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MC,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астрономи виявили його сильне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корпускулярне випромінювання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— потік елементарних частинок (протонів, нейтронів, електронів). Наприклад, під час так званих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хромосферних спалахів,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які вибухають поблизу плям, виділяється така величезна енергія, яку можна порівняти з випромінюванням всієї фотосфери Сонця. Не треба плутати спалахи з протуберанцями.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дати 4"/>
          <p:cNvSpPr/>
          <p:nvPr/>
        </p:nvSpPr>
        <p:spPr>
          <a:xfrm>
            <a:off x="0" y="6492960"/>
            <a:ext cx="6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3E78-B82F-4C89-B75F-4CA1B9B6A4FF}" type="datetime10">
              <a:rPr b="0" lang="uk-UA" sz="1200" spc="-1" strike="noStrike">
                <a:solidFill>
                  <a:srgbClr val="000000"/>
                </a:solidFill>
                <a:latin typeface="Calibri"/>
              </a:rPr>
              <a:t>05:0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План уро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24210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Фізичні характеристики Сонц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удова Сонц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Сонячна активні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Вплив сонячної активності на Земл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Місце для дати 4"/>
          <p:cNvSpPr/>
          <p:nvPr/>
        </p:nvSpPr>
        <p:spPr>
          <a:xfrm>
            <a:off x="0" y="6492960"/>
            <a:ext cx="6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1996-777D-4BAA-8B13-802123407304}" type="datetime10">
              <a:rPr b="0" lang="uk-UA" sz="1200" spc="-1" strike="noStrike">
                <a:solidFill>
                  <a:srgbClr val="000000"/>
                </a:solidFill>
                <a:latin typeface="Calibri"/>
              </a:rPr>
              <a:t>05:0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Місце для дати 4"/>
          <p:cNvSpPr/>
          <p:nvPr/>
        </p:nvSpPr>
        <p:spPr>
          <a:xfrm>
            <a:off x="0" y="6492960"/>
            <a:ext cx="6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0FD3-B0C1-4B3C-8581-79EA04737FA3}" type="datetime10">
              <a:rPr b="0" lang="uk-UA" sz="1200" spc="-1" strike="noStrike">
                <a:solidFill>
                  <a:srgbClr val="000000"/>
                </a:solidFill>
                <a:latin typeface="Calibri"/>
              </a:rPr>
              <a:t>05:0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4572000" y="3232080"/>
            <a:ext cx="4334040" cy="336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249800" cy="424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8" name="TextBox 6"/>
          <p:cNvSpPr/>
          <p:nvPr/>
        </p:nvSpPr>
        <p:spPr>
          <a:xfrm>
            <a:off x="4643280" y="1413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Хромосферні спалах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611280" y="530064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рпускулярне випроміню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68360" y="404640"/>
            <a:ext cx="273528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Протуберанці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(від лат.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protubero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здуваюсь)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існують постійно — це щільні холодні хмари водню, які піднімаються в корону і рухаються вздовж магнітних силових ліній. Завдяки протуберанцям відбувається обмін речовин між хромосферою і короно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дати 4"/>
          <p:cNvSpPr/>
          <p:nvPr/>
        </p:nvSpPr>
        <p:spPr>
          <a:xfrm>
            <a:off x="0" y="6492960"/>
            <a:ext cx="6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3400-F45D-4597-A15A-501D4260C8E5}" type="datetime10">
              <a:rPr b="0" lang="uk-UA" sz="1200" spc="-1" strike="noStrike">
                <a:solidFill>
                  <a:srgbClr val="000000"/>
                </a:solidFill>
                <a:latin typeface="Calibri"/>
              </a:rPr>
              <a:t>05:0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3492360" y="692280"/>
            <a:ext cx="5477040" cy="5352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палах виникає між двома плямами з протилежною полярністю, коли протягом кількох годин температура в цій зоні зростає до 5•10</a:t>
            </a:r>
            <a:r>
              <a:rPr b="0" lang="uk-UA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К і виділяється енергія 10</a:t>
            </a:r>
            <a:r>
              <a:rPr b="0" lang="uk-UA" sz="3200" spc="-1" strike="noStrike" baseline="30000">
                <a:solidFill>
                  <a:srgbClr val="000000"/>
                </a:solidFill>
                <a:latin typeface="Calibri"/>
              </a:rPr>
              <a:t>21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—10</a:t>
            </a:r>
            <a:r>
              <a:rPr b="0" lang="uk-UA" sz="3200" spc="-1" strike="noStrike" baseline="30000">
                <a:solidFill>
                  <a:srgbClr val="000000"/>
                </a:solidFill>
                <a:latin typeface="Calibri"/>
              </a:rPr>
              <a:t>25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Дж, що майже сумісне зі світністю Сонця у видимій частині спектра. Під час спалаху енергія випромінюється в основному в невидимій частині спектра (радіо, ультрафіолетовому та рентгенівському діапазоні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дати 4"/>
          <p:cNvSpPr/>
          <p:nvPr/>
        </p:nvSpPr>
        <p:spPr>
          <a:xfrm>
            <a:off x="0" y="6492960"/>
            <a:ext cx="6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31D0-AEE5-4B8F-9029-7D8451C240AA}" type="datetime10">
              <a:rPr b="0" lang="uk-UA" sz="1200" spc="-1" strike="noStrike">
                <a:solidFill>
                  <a:srgbClr val="000000"/>
                </a:solidFill>
                <a:latin typeface="Calibri"/>
              </a:rPr>
              <a:t>05:0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6836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ід час спалахів у міжпланетний простір також викидаються потоки заряджених частинок, які летять зі швидкістю до 20000 км/с. Через кілька годин після спалаху корпускулярні потоки можуть долетіти до Землі й викликати збурення її магнітного поля та свічення іоносфери, що проявляється у вигляді інтенсивних полярних сяй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дати 4"/>
          <p:cNvSpPr/>
          <p:nvPr/>
        </p:nvSpPr>
        <p:spPr>
          <a:xfrm>
            <a:off x="0" y="6492960"/>
            <a:ext cx="6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EDB4-9D51-4C87-9A55-BEB31F8EFC94}" type="datetime10">
              <a:rPr b="0" lang="uk-UA" sz="1200" spc="-1" strike="noStrike">
                <a:solidFill>
                  <a:srgbClr val="000000"/>
                </a:solidFill>
                <a:latin typeface="Calibri"/>
              </a:rPr>
              <a:t>05:0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900000" y="4221000"/>
            <a:ext cx="3240360" cy="21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5003640" y="4221000"/>
            <a:ext cx="3222720" cy="21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Виснов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Основним джерелом енергії для нашої цивілізації є Сонце, яке дає нам не тільки тепло, але й суттєво впливає на всі процеси, що відбуваються на Земл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Ми визначили розміри, масу, температуру і світність Сонця; знаємо, що джерелом сонячної енергії є термоядерні реакції у його надрах, і розгадали причину зниження температури в сонячних плямах. Але залишаються нерозгаданими причини сонячної активності й чому існує 11-річний цикл появи плям. У майбутньому сонячне світло стане основним джерелом електричної енергії як на Землі, так і в космічних поселеннях при освоєнні інших план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дати 4"/>
          <p:cNvSpPr/>
          <p:nvPr/>
        </p:nvSpPr>
        <p:spPr>
          <a:xfrm>
            <a:off x="0" y="6492960"/>
            <a:ext cx="6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FC0D-7A0C-46D2-8AF8-C0F5620BD1AF}" type="datetime10">
              <a:rPr b="0" lang="uk-UA" sz="1200" spc="-1" strike="noStrike">
                <a:solidFill>
                  <a:srgbClr val="000000"/>
                </a:solidFill>
                <a:latin typeface="Calibri"/>
              </a:rPr>
              <a:t>05:0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Те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дати 4"/>
          <p:cNvSpPr/>
          <p:nvPr/>
        </p:nvSpPr>
        <p:spPr>
          <a:xfrm>
            <a:off x="0" y="6492960"/>
            <a:ext cx="6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D0F6-AE44-4280-BD36-8811F10E9AEA}" type="datetime10">
              <a:rPr b="0" lang="uk-UA" sz="1200" spc="-1" strike="noStrike">
                <a:solidFill>
                  <a:srgbClr val="000000"/>
                </a:solidFill>
                <a:latin typeface="Calibri"/>
              </a:rPr>
              <a:t>05:0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66760" y="1125720"/>
            <a:ext cx="36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. Сонячна стала визначає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324000" y="149292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.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Кількість енергії, що випромінює Сонце за рік.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Б.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Кількість енергії, що випромінює Сонце за 1 с.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В.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Температуру Сонця.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Г.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Кількість енергії, яку отримує вся поверхня Землі за одиницю часу.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Д.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Енергію, яку отримує 1м</a:t>
            </a:r>
            <a:r>
              <a:rPr b="0" lang="uk-UA" sz="24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поверхні Землі за 1 с, якщо сонячні промені падають перпендикулярно до поверхн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кутник 5"/>
          <p:cNvSpPr/>
          <p:nvPr/>
        </p:nvSpPr>
        <p:spPr>
          <a:xfrm>
            <a:off x="1116000" y="2637000"/>
            <a:ext cx="7777080" cy="431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кутник 6"/>
          <p:cNvSpPr/>
          <p:nvPr/>
        </p:nvSpPr>
        <p:spPr>
          <a:xfrm>
            <a:off x="324000" y="3068640"/>
            <a:ext cx="7777080" cy="431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50920" y="3430080"/>
            <a:ext cx="70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Для визначення світності Сонця необхідно зна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250920" y="379368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.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Радіус Сонця.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Б.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Радіус Землі.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В.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Відстань від Землі до Сонця.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.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Температуру на поверхні Землі.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Д.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Температуру на поверхні Сонц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кутник 9"/>
          <p:cNvSpPr/>
          <p:nvPr/>
        </p:nvSpPr>
        <p:spPr>
          <a:xfrm>
            <a:off x="4643280" y="3860640"/>
            <a:ext cx="4249800" cy="432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250920" y="487008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3. Які з цих хімічних елементів найбільш поширені на Сонці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250920" y="523152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.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Оксиген і Ферум.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Б.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Гідроген і Гелій.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В.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Гідроген і Оксиген.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Г.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Нітроген і Оксиген.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Д.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Ферум і Нітрог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кутник 12"/>
          <p:cNvSpPr/>
          <p:nvPr/>
        </p:nvSpPr>
        <p:spPr>
          <a:xfrm>
            <a:off x="2987640" y="5300640"/>
            <a:ext cx="2592360" cy="432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дати 4"/>
          <p:cNvSpPr/>
          <p:nvPr/>
        </p:nvSpPr>
        <p:spPr>
          <a:xfrm>
            <a:off x="0" y="6492960"/>
            <a:ext cx="6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DCFE-A878-48D2-8062-120448629CA9}" type="datetime10">
              <a:rPr b="0" lang="uk-UA" sz="1200" spc="-1" strike="noStrike">
                <a:solidFill>
                  <a:srgbClr val="000000"/>
                </a:solidFill>
                <a:latin typeface="Calibri"/>
              </a:rPr>
              <a:t>05:0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50920" y="216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4. У результаті якого процесу виділяється енергія в надрах Сонц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50920" y="69516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.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Ядерної реакції.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Б.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Гравітаційного стиснення.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В.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Термоядерної реакції.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.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Горіння водню.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Д.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Падіння метеорит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кутник 6"/>
          <p:cNvSpPr/>
          <p:nvPr/>
        </p:nvSpPr>
        <p:spPr>
          <a:xfrm>
            <a:off x="6588000" y="765000"/>
            <a:ext cx="2376720" cy="36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кутник 7"/>
          <p:cNvSpPr/>
          <p:nvPr/>
        </p:nvSpPr>
        <p:spPr>
          <a:xfrm>
            <a:off x="179280" y="1125360"/>
            <a:ext cx="1152720" cy="358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250920" y="141408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5. Грануляція у фотосфері утворюється в результаті того, щ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250920" y="177768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.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Корона дуже гаряча.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Б.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Енергія передається конвекцією.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В.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Плями дуже холодні.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Г.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Випромінюються нейтрино.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Д.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На поверхні Сонця є хвил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кутник 10"/>
          <p:cNvSpPr/>
          <p:nvPr/>
        </p:nvSpPr>
        <p:spPr>
          <a:xfrm>
            <a:off x="3635280" y="1844640"/>
            <a:ext cx="4753080" cy="36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250920" y="285588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6. Сонце називають жовтою зорею, у той час як для більшості людей воно має білий колір. Як пояснити цю суперечні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250920" y="3583080"/>
            <a:ext cx="864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398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нце випромінює електромагнітні хвилі завдовжки від 400 нм (фіолетова частина спектра) до 700 нм (червона частина спектра), суміш яких ми називаємо білим світлом. Але найбільше енергії Сонце випромінює в жовто-зеленій частині спектра на довжині хвилі близько 500 нм, тому астрономи мають право називати Сонце жовтою зоре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Місце для дати 4"/>
          <p:cNvSpPr/>
          <p:nvPr/>
        </p:nvSpPr>
        <p:spPr>
          <a:xfrm>
            <a:off x="0" y="6492960"/>
            <a:ext cx="6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4143-FF55-47B6-AEEE-AC5645C83011}" type="datetime10">
              <a:rPr b="0" lang="uk-UA" sz="1200" spc="-1" strike="noStrike">
                <a:solidFill>
                  <a:srgbClr val="000000"/>
                </a:solidFill>
                <a:latin typeface="Calibri"/>
              </a:rPr>
              <a:t>05:0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276480" y="190080"/>
            <a:ext cx="71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7. Що знижує температуру всередині сонячних пля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250920" y="69516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398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мпература всередині сонячної плями знижується завдяки сильному магнітному полю, яке зупиняє конвекці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250920" y="19173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8. Яке явище астрономи називають сонячною активніст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250920" y="235368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398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нячна активність — це явище, пов'язане з хромосферними спалахами та зростанням короткохвильового випромінювання Сонц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250920" y="379152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9. Які процеси на Сонці можуть суттєво впливати на стан земної атмосфер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250920" y="465732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398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стан земної атмосфери суттєво впливають хромосферні спалахи, які виникають поблизу плям, і пов'язана з цим зміна кількості частинок із великою енергією в сонячному вітр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працювати § 1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ідготувати доповіді на тем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Анкета зорі — її фізичні характерист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оняття зоряної величини та її вид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пособи визначення відстаней до зі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дати 4"/>
          <p:cNvSpPr/>
          <p:nvPr/>
        </p:nvSpPr>
        <p:spPr>
          <a:xfrm>
            <a:off x="0" y="6492960"/>
            <a:ext cx="6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26D8-38C5-4BB9-84F5-75ACED2F4B03}" type="datetime10">
              <a:rPr b="0" lang="uk-UA" sz="1200" spc="-1" strike="noStrike">
                <a:solidFill>
                  <a:srgbClr val="000000"/>
                </a:solidFill>
                <a:latin typeface="Calibri"/>
              </a:rPr>
              <a:t>05:0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1. Фізичні характеристики Сонц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8360" y="112500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Сонце — одна з мільярдів зір нашої Галактики, центральне світило в Сонячній системі, вік якого близько 5 млрд. років. Воно дає Землі тепло і світло, що підтримує життя на нашій планеті. Сонце розташовується на близькій відстані від Землі — усього 150 млн. км, тому ми бачимо його у формі дис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Місце для дати 4"/>
          <p:cNvSpPr/>
          <p:nvPr/>
        </p:nvSpPr>
        <p:spPr>
          <a:xfrm>
            <a:off x="0" y="6492960"/>
            <a:ext cx="6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9E40-7681-4B3A-B739-05F8C17505F3}" type="datetime10">
              <a:rPr b="0" lang="uk-UA" sz="1200" spc="-1" strike="noStrike">
                <a:solidFill>
                  <a:srgbClr val="000000"/>
                </a:solidFill>
                <a:latin typeface="Calibri"/>
              </a:rPr>
              <a:t>05:0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5076720" y="4005360"/>
            <a:ext cx="3359160" cy="25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TextBox 5"/>
          <p:cNvSpPr/>
          <p:nvPr/>
        </p:nvSpPr>
        <p:spPr>
          <a:xfrm>
            <a:off x="468360" y="4149720"/>
            <a:ext cx="410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Вивчення Сонця має дуже важливе практичне значення для розвитку земної цивілізаці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Температура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Сонця вимірюється за допомогою законів випромінювання чорного тіла. Сонце випромінює електромагнітні хвилі різної довжини, які нашим оком сприймаються як біле світло. Насправді, біле світло складається з цілого спектра електромагнітних хвиль від червоного кольору до фіолетового, але Сонце випромінює найбільше енергії у жовто-зеленій частині спектра, тому астрономи називають Сонце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 жовтою зорею.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Температура на поверхні Сонця становить 5780 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дати 4"/>
          <p:cNvSpPr/>
          <p:nvPr/>
        </p:nvSpPr>
        <p:spPr>
          <a:xfrm>
            <a:off x="0" y="6492960"/>
            <a:ext cx="6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1F77-48CC-42E5-9A30-44C10A96183B}" type="datetime10">
              <a:rPr b="0" lang="uk-UA" sz="1200" spc="-1" strike="noStrike">
                <a:solidFill>
                  <a:srgbClr val="000000"/>
                </a:solidFill>
                <a:latin typeface="Calibri"/>
              </a:rPr>
              <a:t>05:0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Світність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Сонця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1" lang="uk-UA" sz="2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визначає потужність його випромінювання, тобто кількість енергії, що випромінює поверхня Сонця у всіх напрямках за одиницю часу. Для визначення світності Сонця треба виміряти </a:t>
            </a: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сонячну сталу</a:t>
            </a:r>
            <a:r>
              <a:rPr b="1" i="1" lang="uk-UA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q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— енергію, яку отримує 1м</a:t>
            </a:r>
            <a:r>
              <a:rPr b="0" lang="uk-UA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поверхні Землі за 1 с за умови, що Сонце розташоване в зеніті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Для визначення світності Сонця необхідно величину сонячної сталої помножити на площу сфери з радіусом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4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4*10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Calibri"/>
              </a:rPr>
              <a:t>26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Вт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де R=1,5*10</a:t>
            </a:r>
            <a:r>
              <a:rPr b="0" lang="uk-UA" sz="28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м — відстань від Землі до Сонц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Місце для дати 4"/>
          <p:cNvSpPr/>
          <p:nvPr/>
        </p:nvSpPr>
        <p:spPr>
          <a:xfrm>
            <a:off x="0" y="6492960"/>
            <a:ext cx="6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4CE0-405C-4194-9B92-41F11C55F0B0}" type="datetime10">
              <a:rPr b="0" lang="uk-UA" sz="1200" spc="-1" strike="noStrike">
                <a:solidFill>
                  <a:srgbClr val="000000"/>
                </a:solidFill>
                <a:latin typeface="Calibri"/>
              </a:rPr>
              <a:t>05:0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кутник 1"/>
          <p:cNvSpPr/>
          <p:nvPr/>
        </p:nvSpPr>
        <p:spPr>
          <a:xfrm>
            <a:off x="2843280" y="5229360"/>
            <a:ext cx="345744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Сонц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Радіус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109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Маса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330000 M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ередня густина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1,4 г/см</a:t>
            </a:r>
            <a:r>
              <a:rPr b="0" lang="uk-UA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Хімічний склад за масою, %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7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вітність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4*10</a:t>
            </a:r>
            <a:r>
              <a:rPr b="0" lang="uk-UA" sz="3200" spc="-1" strike="noStrike" baseline="30000">
                <a:solidFill>
                  <a:srgbClr val="000000"/>
                </a:solidFill>
                <a:latin typeface="Calibri"/>
              </a:rPr>
              <a:t>26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В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Температура, К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фотосфери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5 78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ядра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15 000 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Місце для дати 4"/>
          <p:cNvSpPr/>
          <p:nvPr/>
        </p:nvSpPr>
        <p:spPr>
          <a:xfrm>
            <a:off x="0" y="6492960"/>
            <a:ext cx="6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51F8-0594-44DB-8913-53D52C33FCFF}" type="datetime10">
              <a:rPr b="0" lang="uk-UA" sz="1200" spc="-1" strike="noStrike">
                <a:solidFill>
                  <a:srgbClr val="000000"/>
                </a:solidFill>
                <a:latin typeface="Calibri"/>
              </a:rPr>
              <a:t>05:0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2. Будова Сонц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онце — величезна розжарена плазмова куля, що має складну будову її зовнішніх і внутрішніх шарі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У результаті фізичних процесів, що протікають в надрах Сонця, безперервно виділяється енергія, яка передається зовнішнім шарам і розподіляється на все більшу площу. Внаслідок цього з наближенням до поверхні температура сонячної плазми поступово знижуєть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Місце для дати 4"/>
          <p:cNvSpPr/>
          <p:nvPr/>
        </p:nvSpPr>
        <p:spPr>
          <a:xfrm>
            <a:off x="0" y="6492960"/>
            <a:ext cx="6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AF6F-B367-43D3-80B2-C1E74C9225C8}" type="datetime10">
              <a:rPr b="0" lang="uk-UA" sz="1200" spc="-1" strike="noStrike">
                <a:solidFill>
                  <a:srgbClr val="000000"/>
                </a:solidFill>
                <a:latin typeface="Calibri"/>
              </a:rPr>
              <a:t>05:0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68360" y="25992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алежно від температури та характеру процесів, що визначаються цією температурою, Сонце умовно розділяють на такі області з різним фізичним станом речовини та розподілом енергії: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ядро, зона радіації, конвективна зона та атмосфера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дати 4"/>
          <p:cNvSpPr/>
          <p:nvPr/>
        </p:nvSpPr>
        <p:spPr>
          <a:xfrm>
            <a:off x="0" y="6492960"/>
            <a:ext cx="6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9A07-EF1A-43C3-B069-E8C52D2C545C}" type="datetime10">
              <a:rPr b="0" lang="uk-UA" sz="1200" spc="-1" strike="noStrike">
                <a:solidFill>
                  <a:srgbClr val="000000"/>
                </a:solidFill>
                <a:latin typeface="Calibri"/>
              </a:rPr>
              <a:t>05:0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image1"/>
          <p:cNvPicPr/>
          <p:nvPr/>
        </p:nvPicPr>
        <p:blipFill>
          <a:blip r:embed="rId1"/>
          <a:stretch/>
        </p:blipFill>
        <p:spPr>
          <a:xfrm>
            <a:off x="2050920" y="3284640"/>
            <a:ext cx="5113440" cy="3446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Центральна область (ядро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169992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аймає відносно невеликий об'єм, але завдяки великій густині ядра, яка збільшується до центра, там зосереджена значна частина маси Сонця. Величезний тиск та надвисока температура забезпечують протікання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термоядерних реакцій,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які є основним джерелом енергії Сонця. Радіус ядра становить приблизно 1/3 радіуса Сонц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дати 4"/>
          <p:cNvSpPr/>
          <p:nvPr/>
        </p:nvSpPr>
        <p:spPr>
          <a:xfrm>
            <a:off x="0" y="6492960"/>
            <a:ext cx="6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F75B-B57F-4E0E-AFC2-B34DCA7D700D}" type="datetime10">
              <a:rPr b="0" lang="uk-UA" sz="1200" spc="-1" strike="noStrike">
                <a:solidFill>
                  <a:srgbClr val="000000"/>
                </a:solidFill>
                <a:latin typeface="Calibri"/>
              </a:rPr>
              <a:t>05:0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05:51:21Z</dcterms:created>
  <dc:creator>Вчитель</dc:creator>
  <dc:description/>
  <dc:language>en-US</dc:language>
  <cp:lastModifiedBy>Two_2</cp:lastModifiedBy>
  <dcterms:modified xsi:type="dcterms:W3CDTF">2014-11-19T06:26:08Z</dcterms:modified>
  <cp:revision>43</cp:revision>
  <dc:subject/>
  <dc:title>Слайд 1</dc:title>
</cp:coreProperties>
</file>