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27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media/image8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776-6795-44E8-A709-4787B466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6F9-74BC-4DEF-B25D-F8942F8C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86D-DC08-4DD2-B08A-7EE8AC87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B36-0E85-407C-B229-B6465010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F75-22AD-403C-9FD2-9E23E792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F80-E994-4D4A-986B-269C41D4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D60-BF3D-4E64-809C-0EB35AAF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B71-15FD-4405-8E5C-5F62FD3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4D8-5288-46A2-93B7-4765675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44F-B95D-4CD3-B51D-7B826FE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BC8-F464-40AE-A6FB-1F91174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4FF-D01D-4C38-9EC5-AFF6B51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B0DA-8937-4DD3-B504-D806ED6A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5510160" cy="576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836640"/>
            <a:ext cx="5688000" cy="20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4be0">
                      <a:alpha val="50000"/>
                    </a:srgbClr>
                  </a:outerShdw>
                </a:effectLst>
                <a:latin typeface="Comic Sans MS"/>
              </a:rPr>
              <a:t>Сонце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2700000" blurRad="0" rotWithShape="0">
                  <a:srgbClr val="004be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46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Фотосф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4005360"/>
            <a:ext cx="8785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вітло Сонця, яке ми бачимо, виникає в його тонкому зовнішньому шарі – нижчому шарі сонячної атмосфери - який називається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фотосферою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 Товщина цього шару 0,001R = 70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Уся фотосфера Сонця складається зі світлих зерняток, бульбашок -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гранул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 Розміри гранул невеликі, 1000-2000 км, відстань між ними - 300-600 км. На Сонці спостерігається одночасно близько мільйона гранул. Кожна гранула існує декілька хвилин. У гранулах речовина піднімається, а навколо них - опускається.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Грануляція - прояв конвекції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в глибших шарах Сонц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5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547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33ff"/>
                </a:solidFill>
                <a:latin typeface="Comic Sans MS"/>
              </a:rPr>
              <a:t>Фотосферні утворення</a:t>
            </a:r>
            <a:r>
              <a:rPr b="0" lang="ru-RU" sz="3600" spc="-1" strike="noStrike">
                <a:solidFill>
                  <a:srgbClr val="99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052640"/>
            <a:ext cx="532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еріодично у фотосфері то з'являються, то зникають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сонячні плями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 Розміри плям в середньому сягають 40 000 кілометрів (втроє більше Землі), проте деякі великі плями досягають 180 00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Зазвичай плями виникають групами. Кількість плям та їх груп періодично змінюється, тому для характеристики плямотворної діяльності Сонця введено число Вольф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e4b"/>
                </a:solidFill>
                <a:latin typeface="Arial"/>
              </a:rPr>
              <a:t>W = 10g +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де </a:t>
            </a:r>
            <a:r>
              <a:rPr b="1" lang="en-US" sz="1800" spc="-1" strike="noStrike">
                <a:solidFill>
                  <a:srgbClr val="f6ce86"/>
                </a:solidFill>
                <a:latin typeface="Arial"/>
              </a:rPr>
              <a:t>g –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кількість груп плям, </a:t>
            </a:r>
            <a:r>
              <a:rPr b="1" lang="en-US" sz="1800" spc="-1" strike="noStrike">
                <a:solidFill>
                  <a:srgbClr val="f6ce86"/>
                </a:solidFill>
                <a:latin typeface="Arial"/>
              </a:rPr>
              <a:t>f –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загальна кількість усіх плям на  диску Сонця на це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упутниками плям є яскраві світлі утворення –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факели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3166920" cy="316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52720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3357360"/>
            <a:ext cx="5472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За контрастом з навколишніми ділянками плями темніші, бо температура у них досягає лише 4500 К – порівняно з навколишньою температурою 6000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У великих плямах видяляють темніше ядро і світлішу півтінь.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Час життя плям – від кількох годин до кількох місяців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ояву плям пов'язують зі зростанням у цьому місці магнітного поля , яке гальмує вихід гарячої сонячної речовини з надр Сонця – саме через це температура у плямах ниж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2881440" cy="288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88000" y="333360"/>
            <a:ext cx="4032000" cy="284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280" y="475920"/>
            <a:ext cx="475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Геліосейсмолог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064040" y="155736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3961080" cy="60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оверхня сонця постійно пульсує. Через це у сонячній атмосфері поширюються </a:t>
            </a:r>
            <a:r>
              <a:rPr b="1" lang="uk-UA" sz="1800" spc="-1" strike="noStrike">
                <a:solidFill>
                  <a:srgbClr val="ff9900"/>
                </a:solidFill>
                <a:latin typeface="Arial"/>
              </a:rPr>
              <a:t>акустичні хвилі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з довжиною в декілька тисяч кілометрів, подібні до звукових хвиль в повітрі. Коливання мають резонансний характер і мають період близько 5 хви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У верхніх шарах сонячної атмосфери хвилі, що виникли в конвективній зоні і у фотосфері, передають сонячній речовині частину механічної енергії конвективних рухів і провокують нагрівання газів наступних шарів атмосфери - хромосфери і корони. В результаті верхні шари фотосфери з температурою близько 4500 K виявляються "найхолоднішими" на Сонці. Як углиб, так і вгору від них температура газів швидко ро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788000" cy="4251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Хромосф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00720" y="476280"/>
            <a:ext cx="446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Хромосфера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Сонця – наступний шар сонячної атмосфери, розташований над фотосфер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Хромосферу видно  тільки в моменти повних сонячних затемнень. Місяць повністю закриває фотосферу, і хромосфера спалахує, як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невелике кільце яскраво-червоного кольору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, оточене перлинно-білою короною. Хромосфера дістала свою назву саме із-за цього явища (в перекладі з грецької - "забарвлена сфера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Розміри хромосфери 10-15 тисяч кілометрів, а щільність речовини в сотні тисяч разів менша, ніж у фотосфер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Хромосф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11640" y="259920"/>
            <a:ext cx="4681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Температура в хромосфері швидко росте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– від 4500 К на межі з фотосферою до 100 000 К  у верхніх її шарах. Зростання температури пояснюється дією магнітних полів і хвиль, проникаючих в хромосферу із зони конвективних рухів. Тут нагрів відбувається, як в мікрохвильовій печі, тільки гігантських розмі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На краю хромосфери спостерігаються виступаючі язички полум'я -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спікули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- витягнуті стовпчики з ущільненого газу. Температура цих струменів у 2-3 рази вища, ніж температура фотосфери. Діаметр основи спікули – до 3000 км, час життя – до 5 хви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809880" cy="3535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5229360"/>
            <a:ext cx="864216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Хромосферні спалахи</a:t>
            </a:r>
            <a:r>
              <a:rPr b="0" lang="ru-RU" sz="4000" spc="-1" strike="noStrike">
                <a:solidFill>
                  <a:srgbClr val="9933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197000"/>
            <a:ext cx="3816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Найграндіознішими активними утвореннями у хромосфері є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 хромосферні спалахи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– раптові викиди величезної кількості енергії, накопиченої у магнітному полі активної зони. За час одного спалаху Сонце виділяє енергію, рівну кількості енергії, що її отримує Земля за цілий рі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Тривалість невеликих спалахів 5-10 хвилин, найпотужніших – до кількох годин. Під час таких спалахів у простір викидається величезна кількість частинок високих енергій (електронів, протонів, нейтронів, альфа-частинок) та потужна доза рентгенівського та гама-випроміню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3898800" cy="54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260280"/>
            <a:ext cx="604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Хромосферні спалахи</a:t>
            </a:r>
            <a:r>
              <a:rPr b="0" lang="ru-RU" sz="4000" spc="-1" strike="noStrike">
                <a:solidFill>
                  <a:srgbClr val="9933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952720" cy="2436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2879640" cy="2543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92360" y="1125360"/>
            <a:ext cx="5327640" cy="523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Сонячна коро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4762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Найрозрідженіша і найгарячіша частина сонячної атмосфери –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корона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– верхній шар сонячної атмосфери. Вона простежується від сонячного диску до відстаней в десятки сонячних радіусів, поступово переходячи у космічний простір. Корона не має чітких обрисів, її вигляд змінюється з ча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постерігати корону можна під час сонячних затемн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19640" y="1268280"/>
            <a:ext cx="390204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332240" cy="504036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f6e4b"/>
                </a:solidFill>
                <a:latin typeface="Arial Black"/>
              </a:rPr>
              <a:t>Сонце</a:t>
            </a:r>
            <a:r>
              <a:rPr b="0" lang="uk-UA" sz="1600" spc="-1" strike="noStrike">
                <a:solidFill>
                  <a:srgbClr val="f6ce86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– це не звичайний жовтий карлик, як раніше було прийнято говорити. Це зірка, біля якої є планети, що містять багато важких елементів. Це зірка, яка утворилася після вибухів наднових, вона багата залізом і іншими елементами. Біля якої змогла сформуватися така планетна система, на третій планеті якої - Землі - виникло життя.</a:t>
            </a:r>
            <a:br>
              <a:rPr sz="1800"/>
            </a:b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П'ять мільярдів років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- вік нашого Сонця. За рахунок чого воно світить? Яка структура і подальша еволюція Сонця? Який вплив робить Сонце на Земл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356000" cy="435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4797360"/>
            <a:ext cx="4332240" cy="184464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онце - зірка, навколо якої обертається наша планета.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Середня відстань від Землі до Сонця, тобто велика піввісь орбіти Землі, складає 149,6 млн. км = 1 а.о.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(астрономічна одиниц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599000"/>
            <a:ext cx="3564000" cy="22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Сонячна коро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4149720"/>
            <a:ext cx="5977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Незважаючи на сильне гравітаційне поле Сонця, існування сонячної корони можливе завдяки величезним швидкостям руху її часток. Корона має температуру </a:t>
            </a:r>
            <a:r>
              <a:rPr b="1" lang="uk-UA" sz="1800" spc="-1" strike="noStrike">
                <a:solidFill>
                  <a:srgbClr val="ff9900"/>
                </a:solidFill>
                <a:latin typeface="Arial"/>
              </a:rPr>
              <a:t>близько мільйона градусів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і складається з високоіонізованого газу. Можливо, причиною такої високої температури є поверхневі викиди сонячної речовини у вигляді петель і арок. Мільйони колосальних фонтанів переносять в корону речовину, нагріту в глибинних шарах Сонця.</a:t>
            </a:r>
            <a:r>
              <a:rPr b="0" lang="uk-UA" sz="1800" spc="-1" strike="noStrike">
                <a:solidFill>
                  <a:srgbClr val="f6ce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4114800" cy="3119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77080" y="4149720"/>
            <a:ext cx="1979640" cy="2492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83664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907560"/>
            <a:ext cx="608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Протуберанцями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називаються величезні утворення в короні Сонця – викиди газу, що рухаються у магнітному полі по дугоподібних траєкторіях. 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ротуберанці - холодні і щільні утворення з температурою близько 20 000 К. Деякі з них існують декілька місяців, інші з'являються поряд з плямами, рухаються з швидкостями близько 100 км/с і існують декілька тижнів. Окремі протуберанці рухаються з ще більшими швидкостями і несподівано вибухають; вони називаються </a:t>
            </a:r>
            <a:r>
              <a:rPr b="1" lang="uk-UA" sz="1800" spc="-1" strike="noStrike">
                <a:solidFill>
                  <a:srgbClr val="ff9900"/>
                </a:solidFill>
                <a:latin typeface="Arial"/>
              </a:rPr>
              <a:t>еруптивними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Розміри протуберанців можуть бути різними. Типовий протуберанець має висоту близько </a:t>
            </a:r>
            <a:br>
              <a:rPr sz="1800"/>
            </a:b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40 000 км і ширину близько 200 000 км. Дугоподібні протуберанці досягають розмірів 800 000 км. Зареєстровані і рекордсмени серед протуберанців, їх розміри перевищували 3 000 00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189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Протуберанці у коро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2358720" cy="29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505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Сонячний віте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онце є джерелом постійного потоку часток. Нейтрино, електрони, протони, альфа-частки, а також важчі атомні ядра всі разом складають корпускулярне випромінювання Сонця. Значна частина цього випромінювання є більш менш безперервним витіканням плазми, так званим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сонячним вітром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, що є продовженням зовнішніх шарів сонячної атмосфери, - сонячної корони. Поблизу Землі його швидкість складає зазвичай 400-500 км/с. Потік заряджених часток викидається з Сонця через </a:t>
            </a:r>
            <a:r>
              <a:rPr b="1" lang="uk-UA" sz="1800" spc="-1" strike="noStrike">
                <a:solidFill>
                  <a:srgbClr val="ff9900"/>
                </a:solidFill>
                <a:latin typeface="Arial"/>
              </a:rPr>
              <a:t>корональні діри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- області в атмосфері Сонця з відкритим в міжпланетний простір магнітним пол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Різкі зміни потоку сонячного вітру (спричинені спалахами на Сонці), викликають збурення геомагнітного поля Землі -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магнітні бурі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675240" cy="268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3692520" cy="246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9933ff"/>
                </a:solidFill>
                <a:latin typeface="Comic Sans MS"/>
              </a:rPr>
              <a:t>Кінец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74680" cy="36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27640" y="1370160"/>
            <a:ext cx="4716360" cy="47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04640"/>
            <a:ext cx="439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Розміри Сонця дуже великі. Так, радіус Сонця в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109 разів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, а маса - в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330 000 разів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більше радіусу і маси Землі. А ось середня густина нашого світила невелика - всього в 1,4 рази більше густини в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овна кількість енергії, що випромінюється Сонцем, складає L = 3,86∙10</a:t>
            </a:r>
            <a:r>
              <a:rPr b="1" lang="uk-UA" sz="1800" spc="-1" strike="noStrike" baseline="30000">
                <a:solidFill>
                  <a:srgbClr val="f6ce86"/>
                </a:solidFill>
                <a:latin typeface="Arial"/>
              </a:rPr>
              <a:t>33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ерг/с = 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3,86∙10</a:t>
            </a:r>
            <a:r>
              <a:rPr b="1" lang="uk-UA" sz="1800" spc="-1" strike="noStrike" baseline="30000">
                <a:solidFill>
                  <a:srgbClr val="ef6e4b"/>
                </a:solidFill>
                <a:latin typeface="Arial"/>
              </a:rPr>
              <a:t>26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 Вт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 Це відповідає 6,5 кВт з кожного квадратного сантиметра його поверхні! Лише одну двохмільярдну частину цієї енергії отримує 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На 1 м</a:t>
            </a:r>
            <a:r>
              <a:rPr b="1" lang="uk-UA" sz="1800" spc="-1" strike="noStrike" baseline="30000">
                <a:solidFill>
                  <a:srgbClr val="ef6e4b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 поверхні в околицях Землі щосекунди поступає 1400 Дж енергії сонячного випромінювання.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Ця величина називається</a:t>
            </a:r>
            <a:r>
              <a:rPr b="1" lang="uk-UA" sz="1800" spc="-1" strike="noStrike">
                <a:solidFill>
                  <a:srgbClr val="ef6e4b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сонячною постійною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 Іншими словами, щільність потоку енергії сонячного випромінювання складає 1,4 кВт/м</a:t>
            </a:r>
            <a:r>
              <a:rPr b="1" lang="uk-UA" sz="1800" spc="-1" strike="noStrike" baseline="30000">
                <a:solidFill>
                  <a:srgbClr val="f6ce86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2746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84720" y="333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6ce86"/>
                </a:solidFill>
                <a:latin typeface="Arial"/>
              </a:rPr>
              <a:t>Сонце, як і Земля, </a:t>
            </a:r>
            <a:r>
              <a:rPr b="1" lang="uk-UA" sz="2000" spc="-1" strike="noStrike">
                <a:solidFill>
                  <a:srgbClr val="fd3829"/>
                </a:solidFill>
                <a:latin typeface="Arial"/>
              </a:rPr>
              <a:t>обертається навколо власної осі</a:t>
            </a:r>
            <a:r>
              <a:rPr b="1" lang="uk-UA" sz="2000" spc="-1" strike="noStrike">
                <a:solidFill>
                  <a:srgbClr val="f6ce86"/>
                </a:solidFill>
                <a:latin typeface="Arial"/>
              </a:rPr>
              <a:t>. Вперше обертання Сонця спостерігав Галілей по руху плям по поверх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2419200"/>
            <a:ext cx="4572000" cy="423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3527280" cy="266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292428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6ce86"/>
                </a:solidFill>
                <a:latin typeface="Arial"/>
              </a:rPr>
              <a:t>Однак на відміну від Землі, різні зони Сонця обертаються навколо осі з різними швидкостями. Так точки на екваторі мають період обертання близько </a:t>
            </a:r>
            <a:r>
              <a:rPr b="1" lang="uk-UA" sz="2000" spc="-1" strike="noStrike">
                <a:solidFill>
                  <a:srgbClr val="ef6e4b"/>
                </a:solidFill>
                <a:latin typeface="Arial"/>
              </a:rPr>
              <a:t>25 діб</a:t>
            </a:r>
            <a:r>
              <a:rPr b="1" lang="uk-UA" sz="2000" spc="-1" strike="noStrike">
                <a:solidFill>
                  <a:srgbClr val="f6ce86"/>
                </a:solidFill>
                <a:latin typeface="Arial"/>
              </a:rPr>
              <a:t>, на широті 40° період обертання дорівнює </a:t>
            </a:r>
            <a:r>
              <a:rPr b="1" lang="uk-UA" sz="2000" spc="-1" strike="noStrike">
                <a:solidFill>
                  <a:srgbClr val="ef6e4b"/>
                </a:solidFill>
                <a:latin typeface="Arial"/>
              </a:rPr>
              <a:t>27 діб</a:t>
            </a:r>
            <a:r>
              <a:rPr b="1" lang="uk-UA" sz="2000" spc="-1" strike="noStrike">
                <a:solidFill>
                  <a:srgbClr val="f6ce86"/>
                </a:solidFill>
                <a:latin typeface="Arial"/>
              </a:rPr>
              <a:t>, а поблизу полюсів - </a:t>
            </a:r>
            <a:r>
              <a:rPr b="1" lang="uk-UA" sz="2000" spc="-1" strike="noStrike">
                <a:solidFill>
                  <a:srgbClr val="ef6e4b"/>
                </a:solidFill>
                <a:latin typeface="Arial"/>
              </a:rPr>
              <a:t>35 діб</a:t>
            </a:r>
            <a:r>
              <a:rPr b="1" lang="uk-UA" sz="2000" spc="-1" strike="noStrike">
                <a:solidFill>
                  <a:srgbClr val="f6ce86"/>
                </a:solidFill>
                <a:latin typeface="Arial"/>
              </a:rPr>
              <a:t>. Це доводить, що Сонце обертається не як тверде тіло, </a:t>
            </a:r>
            <a:r>
              <a:rPr b="1" lang="uk-UA" sz="2000" spc="-1" strike="noStrike">
                <a:solidFill>
                  <a:srgbClr val="ff9900"/>
                </a:solidFill>
                <a:latin typeface="Arial"/>
              </a:rPr>
              <a:t>швидкість обертання точок на поверхні Сонця зменшується від екватора до полюс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пектр Сонця неперервний, в ньому спостерігається безліч темних фраунгоферових ліній. Фраунгофер був першим, хто описав темні лінії на тлі безперервного спектру сонячного світла в 1814 році. Ці лінії в спектрі Сонця утворюються в результаті поглинання квантів світла, яке виходить з центральних областей Сонця,  холоднішими зовнішніми шарами сонячної атмосфери. За цими лініями і визначають хімічний склад Сонця. Основні елементи на Сонці – водень і гел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5761080" cy="367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2997360"/>
            <a:ext cx="287964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Близько 9 % енергії в сонячному спектрі припадає на ультрафіолетове випромінювання з довжинами хвиль від 100 до 400 нм. Решта енергія розділена приблизно порівну між видимою (400-760 нм) і інфрачервоною (760-5000 м) областями спек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60280"/>
            <a:ext cx="4716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Спектр Сонця</a:t>
            </a:r>
            <a:r>
              <a:rPr b="1" lang="ru-RU" sz="4000" spc="-1" strike="noStrike">
                <a:solidFill>
                  <a:srgbClr val="fd38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71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Під поверхнею</a:t>
            </a:r>
            <a:r>
              <a:rPr b="1" lang="ru-RU" sz="4000" spc="-1" strike="noStrike">
                <a:solidFill>
                  <a:srgbClr val="fd38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3529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онце - розжарена газова куля, температура в центрі якого настільки висока, що там можуть відбуватися термоядерні реакції. У центрі Сонця температура досягає 15 000 000 К, а тиск в 200 000 000 000 атм. Водень та гелій тут стиснуті до густини 150 000 кг/м</a:t>
            </a:r>
            <a:r>
              <a:rPr b="1" lang="uk-UA" sz="1800" spc="-1" strike="noStrike" baseline="30000">
                <a:solidFill>
                  <a:srgbClr val="f6ce86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Сонце - сферично симетричне тіло, що знаходиться в рівновазі. Щільність і тиск швидко наростають углиб; зростання тиску пояснюється вагою усіх вище розміщених шарів. У кожній внутрішній точці Сонця виконується умова гідростатичної рівноваги - тиск розжарених газів урівноважується гравітаційним тяжі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87640" y="907920"/>
            <a:ext cx="5256360" cy="376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7640" y="188640"/>
            <a:ext cx="446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Під поверхнею</a:t>
            </a:r>
            <a:r>
              <a:rPr b="1" lang="ru-RU" sz="4000" spc="-1" strike="noStrike">
                <a:solidFill>
                  <a:srgbClr val="fd38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5265720" cy="576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333360"/>
            <a:ext cx="417672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У центральній області (третина радіусу) -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ядрі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- відбуваються термоядерні реакції синтезу гел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оки температура висока - більше 2 мільйонів градусів, - енергія від ядра переноситься перевипромінюванням фотонів – це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промениста зона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. Вона тягнеться приблизно до відстані до 2/3 радіусу Сонц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Приблизно з відстані 2/3 R знаходиться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конвективна</a:t>
            </a:r>
            <a:r>
              <a:rPr b="1" lang="uk-UA" sz="1800" spc="-1" strike="noStrike">
                <a:solidFill>
                  <a:srgbClr val="f6ce86"/>
                </a:solidFill>
                <a:latin typeface="Arial"/>
              </a:rPr>
              <a:t> зона. У цих шарах непрозорість речовини стає настільки великою а тиск газів настільки зменшується, що виникають великомасштабні конвективні рухи (піднімання гарячих і опускання холодних шарів речовини). Конвективна зона закінчується на видимій поверхні Сонця, де починається </a:t>
            </a:r>
            <a:r>
              <a:rPr b="1" lang="uk-UA" sz="1800" spc="-1" strike="noStrike">
                <a:solidFill>
                  <a:srgbClr val="fd3829"/>
                </a:solidFill>
                <a:latin typeface="Arial"/>
              </a:rPr>
              <a:t>сонячна атм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952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33ff"/>
                </a:solidFill>
                <a:latin typeface="Comic Sans MS"/>
              </a:rPr>
              <a:t>Повер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24:23Z</dcterms:created>
  <dc:creator>Александр</dc:creator>
  <dc:description/>
  <dc:language>en-US</dc:language>
  <cp:lastModifiedBy>User</cp:lastModifiedBy>
  <dcterms:modified xsi:type="dcterms:W3CDTF">2010-11-23T00:25:46Z</dcterms:modified>
  <cp:revision>22</cp:revision>
  <dc:subject/>
  <dc:title>Slide 1</dc:title>
</cp:coreProperties>
</file>