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B76-1CF6-4C95-AA7B-E80C9B16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1C2-49F1-46D1-A5D6-B57759C8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FB2BB-F7A1-4437-AFEC-7EE14EBE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EC7CA-072C-4C3E-862A-00E06906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EA442-FCA9-4D99-B5E8-8354AE61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09649-9BF9-4F14-8837-2ED5EBCE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BF07E-03D2-4694-A442-A3A7173D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1E6F7-26D5-4B6A-9167-E0CCB839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B8DEA-757B-4393-A439-CF51E776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D9C5D-E7FE-4431-91BA-FA030B76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7AFE5-F8F0-4B34-BB04-A66A2E36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55AD1-D8E5-45D8-B1B8-5859FE7B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E92-C14B-4574-A599-50C1EA91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4FB2E-C35F-4E89-A188-26481080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BC4C2-B45C-45DC-956C-86206B94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F44BA-E56B-4B13-9158-A5C46226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3BCF8-4DF3-47A5-A0FC-AEA5600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B30FA-5B2F-467B-8AA1-DBD76522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2939B-72D5-4EA4-BB91-0154F7FA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2F8F5-AFB3-4294-8AAB-5A20E384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C2342-C680-4D9E-900D-744FFF49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01819-D367-49B1-938C-D948A36C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52F94-6CAB-4A56-9173-3AB1E517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83C-1978-49E7-9544-F861D3B8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5E3AD-7BBB-4A88-8F9A-2EC635A9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D788A-9AA1-4242-852E-82A01857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ED1FC-8D3C-44D3-B53C-F73A42F8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E6B2E-B5DA-4BB8-8FCE-63F54893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8FB34-200A-4164-894D-C1D37348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14BB3-B8D1-47CA-806F-9F701B57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B15B0-40D9-4020-A6FB-EFDC6311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31F7E-8FFF-499A-8F44-EB56FC7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C0FD9-AFA9-4437-8782-6821B26F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56F37-F7A9-41A9-8114-C9E6E89A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D8F5-911E-4372-8A23-A9807F90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6F720-7BA8-4420-9ADB-00A37ED9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32923-4C57-4820-B2F8-DA409BBB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EDCC7-DBC0-4233-8CAF-57F1EAFF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1FFAA-FBB4-4D52-95AE-927FC39F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0D30F-86C3-4657-ABE3-D359E79A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39CD4-1723-4246-99F9-F76E259E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BF553-C575-4363-A817-4E01A2B9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12164-FD03-4A97-B9B9-9B7665C8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7B0E9-5E00-465D-8FCC-3AD82397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53B15-6117-4E47-95A8-40D2F934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EE73-1D2C-4259-9512-41BA1A09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D784E-9C1B-4643-9B72-EBDDDFC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C052A-E658-4B43-87D5-62907F76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BFFA3-FACF-4F9D-ACD0-515AF0B9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8C0C9-0DF1-4768-8917-1D085F53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F9932-FF08-49C6-A48C-72C7DAFE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BE03-FAC9-42D3-806B-3CD467A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573B-D648-4E59-9C9D-D7965CA7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046A-74D1-43A4-8B58-75DC188D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AA5C-6757-472A-BCCA-E05E89E0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C70A-DF12-4F13-AF43-56F4473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AEE-9FA2-446D-A0A6-F126B683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0E84-8AAC-4CC8-8375-171FAA4A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EA79-CD30-4A9F-B0AF-2EAEB21E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A7AA-417A-4151-9832-8A77F437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432E-31B5-4139-AC36-B492545A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DFBA-7E0D-491F-9550-4A7BFA6D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97B1-16CD-4888-BCD1-5B1C35EB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8C0E-9C54-43A0-B75E-98AF52D4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EB69-F719-4A83-8513-CD1889A2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0A248-6A88-4754-A787-E564363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B245-0729-42D1-B42D-2B42837C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916-3A08-4CD1-86CB-BECDC5D5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3E88D-DD56-4DEF-B8E7-F0120F4F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E83A-4FEF-4D2D-A53E-72E9FCF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56F8-5529-4D56-8FD7-0DE3ACF5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2426-C061-4DB0-B31F-2F2D372D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ACBB-4452-4648-9E74-1811DF3F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AB77-576E-41C4-8B9A-A963E69E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3C5DE-BA05-4642-809D-57809CDC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FFC5-660A-4396-8324-3C35C4CF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DD1D-CE07-413E-99BB-6B5D1321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6F80-4292-42A0-86B7-1766209A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9C8-AF9F-4439-9A26-EFB4CC3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A0983-4199-43D8-BB71-29672AB1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D7D6-F175-4E87-9012-9C6F0364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C74E-FD3B-4510-A5D4-EC2DE479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9E1D-93C1-4934-AEC8-E2759B89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FF88-0177-40BE-BF1B-59580875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82E27-B46B-44F9-99FA-7C6C4BEE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2DE6-2C14-4E59-B83E-672C7278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C2E4-62C7-4CD4-AB6C-5F89B80D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419E-4C07-4DBF-BDD7-43409650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41F5D-AED3-4F14-A897-E96B05E5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DE9-0148-4E93-88BB-37693D7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2518-92AF-4BD5-8387-9A47A2D3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EB0E-9542-47D0-897E-C1FE7A20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308E2-52FC-4BBE-BE72-A930F134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F8229-420C-4D01-8807-15327D51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2D2B-43B1-480A-BAC3-01829F1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14C3-1F38-4129-8006-00ED8F09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619A9-3790-46C8-9159-AA60057B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16A9-021D-43C1-A922-CDB4568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635C3-B0AE-4DF3-8752-74D5D61F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78A4-A0C7-466F-BEAD-4D8078E2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56F-372E-4B8A-9878-4C9560B6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886E-4958-41E7-AECF-EC599907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BC3C-5A4B-4318-918A-9E0655B2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B52C6-BD4C-4015-A6E9-B915036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BDA5A-98AB-4DDD-8A8B-6A48D38F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CC385-C271-4882-AB0C-EEF6E9F2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60E0B-91E6-4E87-97ED-DCFF54D7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4A1F0-9AD4-4290-8824-F888BA71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339EA-667F-4454-9E20-CFBDAD48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9ED54-2D27-488E-B330-5D76190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22958-F867-4EF5-8997-BA0F219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90A-7BF4-45D7-9A1A-EE1F797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5C04-C76D-4BD7-9298-2AC6AA7D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AA2C-75A3-4B23-87D6-CDFD439A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DF89B-ACFC-4E24-884F-3C841BD9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6E928-2ACE-43E0-87F7-1C69BF0E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7E1F3-8CF9-4A6C-B5A9-5A1507C6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E82D4-A677-48D5-BB0E-26B0E137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04D81-EABF-4BA3-BC40-18D13FEE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1FECF-AAE4-4551-A4BB-85220150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F023-16BF-4FBA-ACC8-0B3296C4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8BDEB-F48F-4C08-B1F4-E5D95F2E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052-1F41-479E-82CA-5147BBA6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DC1DD-44E1-4A90-B18F-94FE5C27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4BC7-FF87-4CDA-8687-09E3342F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76B68-FF88-46EC-854F-CD20BFFF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996E1-24FB-4CF9-95CF-714F5D52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4746C-62A1-4C0B-AEA0-CBC94D8F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94266-74F2-4FEA-A7C5-70E4134F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A9789-5A98-412A-BEE7-D212B657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5DBC8-D423-437A-A1D0-4A54A3AA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1BA2D-272D-4561-96D0-E8D17894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4D3FD-96B3-4459-B147-CD1BC6C9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777-EC02-4FE2-86DA-C9532A6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BC790-4750-41DA-8E9C-267A3445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1FD4-C8EE-4C4D-8AF3-BEF7614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1D7F1-659D-4C97-A227-221914F9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5CA2E-9ED1-449D-A05E-B5CFC50A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FC013-6AF1-49D1-A6E0-056A8BF3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9EBF-ECF3-41B2-83F8-78D7F5FB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0C337-25DE-4F39-AD1B-8020D634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2FB6E-E7C5-4D89-8B19-D35D1755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3E0C5-75F9-4023-A668-48D8FF0D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36803-E9BB-4FA7-90D9-CA0964B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76E8-2589-4526-B698-9F5390E41FFA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5C6E-69B5-47BD-A8D9-AC45842EAFB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7053-FFF7-4FC6-AB3E-40C77EC6002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B9A0-1FF5-4CE7-9C32-904EFD2615D3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20E9-60B1-49F3-9BE5-9803C316643E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9635-38A4-48DE-B218-731F0C6A35C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E60D-491E-4271-B9FF-949D4534117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6E09-1AC1-4738-8ADC-2256C8EE4152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387F-2438-4E2D-BFD7-4E718C47D46D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FAA5-E3DA-4EA4-AB03-3E35DF11C56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E88A-F537-4311-A582-FD6DF5DDA3AE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1E91-7741-4667-881D-A325161F7B9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D4B3-A03F-474D-8E45-CC53CB495A05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CE6D-D96C-4584-B891-5A9A9EB0319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9F5D-41B8-4E32-A769-9FA5A7951C82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2FED-D705-4ACB-977B-0F74C709DC1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F52-EA2D-4BAB-869B-2232AD7C5407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8B49-B3B2-4B03-B826-25C7E06024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2795-F0BF-480F-A4E5-F32941DA0988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7B68-8534-42A4-A82F-AD73BA7B6DE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985B-C3A4-4649-B431-F7CFF6BC0FA1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DB07-F9EC-42FF-8219-325CD366286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B7C0-622C-4FD0-944F-C46ADD51B50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BF48-7394-4E66-9C8C-E6E5288778E1}" type="datetime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pupil@school.region.ua" TargetMode="External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reemail.ukr.net/" TargetMode="External"/><Relationship Id="rId2" Type="http://schemas.openxmlformats.org/officeDocument/2006/relationships/hyperlink" Target="http://freemail.ukr.net/" TargetMode="External"/><Relationship Id="rId3" Type="http://schemas.openxmlformats.org/officeDocument/2006/relationships/hyperlink" Target="http://freemail.ukr.net/" TargetMode="External"/><Relationship Id="rId4" Type="http://schemas.openxmlformats.org/officeDocument/2006/relationships/hyperlink" Target="http://freemail.ukr.net/" TargetMode="External"/><Relationship Id="rId5" Type="http://schemas.openxmlformats.org/officeDocument/2006/relationships/hyperlink" Target="http://freemail.ukr.net/" TargetMode="External"/><Relationship Id="rId6" Type="http://schemas.openxmlformats.org/officeDocument/2006/relationships/hyperlink" Target="http://freemail.ukr.net/" TargetMode="External"/><Relationship Id="rId7" Type="http://schemas.openxmlformats.org/officeDocument/2006/relationships/hyperlink" Target="http://freemail.ukr.net/" TargetMode="External"/><Relationship Id="rId8" Type="http://schemas.openxmlformats.org/officeDocument/2006/relationships/hyperlink" Target="http://webmail.meta.ua/" TargetMode="External"/><Relationship Id="rId9" Type="http://schemas.openxmlformats.org/officeDocument/2006/relationships/hyperlink" Target="http://webmail.meta.ua/" TargetMode="External"/><Relationship Id="rId10" Type="http://schemas.openxmlformats.org/officeDocument/2006/relationships/hyperlink" Target="http://webmail.meta.ua/" TargetMode="External"/><Relationship Id="rId11" Type="http://schemas.openxmlformats.org/officeDocument/2006/relationships/hyperlink" Target="http://webmail.meta.ua/" TargetMode="External"/><Relationship Id="rId12" Type="http://schemas.openxmlformats.org/officeDocument/2006/relationships/hyperlink" Target="http://webmail.meta.ua/" TargetMode="External"/><Relationship Id="rId13" Type="http://schemas.openxmlformats.org/officeDocument/2006/relationships/hyperlink" Target="http://webmail.meta.ua/" TargetMode="External"/><Relationship Id="rId14" Type="http://schemas.openxmlformats.org/officeDocument/2006/relationships/hyperlink" Target="http://webmail.meta.ua/" TargetMode="External"/><Relationship Id="rId15" Type="http://schemas.openxmlformats.org/officeDocument/2006/relationships/hyperlink" Target="http://mail.ru/" TargetMode="External"/><Relationship Id="rId16" Type="http://schemas.openxmlformats.org/officeDocument/2006/relationships/hyperlink" Target="http://gmail.com/" TargetMode="External"/><Relationship Id="rId17" Type="http://schemas.openxmlformats.org/officeDocument/2006/relationships/hyperlink" Target="http://gmail.com/" TargetMode="External"/><Relationship Id="rId18" Type="http://schemas.openxmlformats.org/officeDocument/2006/relationships/hyperlink" Target="http://gmail.com/" TargetMode="External"/><Relationship Id="rId19" Type="http://schemas.openxmlformats.org/officeDocument/2006/relationships/hyperlink" Target="http://gmail.com/" TargetMode="External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646b86"/>
                </a:solidFill>
                <a:latin typeface="Georgia"/>
              </a:rPr>
              <a:t>10 КЛАС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646b86"/>
                </a:solidFill>
                <a:latin typeface="Georgia"/>
              </a:rPr>
              <a:t>ЗА ПІДРУЧНИКОМ «ІНФОРМАТИКА. 10 КЛАС» Й.Я. РИВКІНДА, Т.І. ЛИСЕНКО, Л.А. ЧЕРНІКОВОЇ, В.В. ШАКОТЬКО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16349"/>
                </a:solidFill>
                <a:latin typeface="Georgia"/>
              </a:rPr>
              <a:t>Вивчаємо інформатику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Дата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CC34-752B-44EB-8FC5-FFE64FAA1544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Номер слайда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B6F9-B3E5-4B11-9BF9-501371DBE6F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Нижний колонтитул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Схема доставки електронних листі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FF24-456D-43FE-9557-7AEDB49DEAD6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C98C-F512-4D5C-B024-9A0A6C4110D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Georgia"/>
              </a:rPr>
              <a:t>За неможливості доставки листа за вказаною поштовою адресою від правнику надсилається повідомлення про помилку під час пересилання. Якщо проблема пов'язана з неправильною адресою поштової скриньки можна відправити листа повторно, виправивши помилку. Якщо лист не  доставлено через технічні проблеми, спроба відправити його повторно буде виконуватись автоматично поштовою службою через певні інтервали часу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1"/>
          <a:stretch/>
        </p:blipFill>
        <p:spPr>
          <a:xfrm>
            <a:off x="214200" y="3571920"/>
            <a:ext cx="86947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78688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Електронне листування в межах локальної мережі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6036-36A4-4FBD-BCB2-9715EE7CEEB0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797C-5C50-4A95-80AD-0D53024DDA8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428480"/>
            <a:ext cx="8504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Електронне листування можна організувати в межах локальної мережі. Для цього на одному з комп'ютерів повинна бути встановлена програма поштовий сервер, а на інших - поштові клієнти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Поштовий сервер буде забезпечувати функціонування електронної пошти та здійснювати доставку електронних листів між клієнтами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Один з популярних поштових серверів для локальних мереж - </a:t>
            </a:r>
            <a:r>
              <a:rPr b="1" lang="uk-UA" sz="1700" spc="-1" strike="noStrike">
                <a:solidFill>
                  <a:srgbClr val="000000"/>
                </a:solidFill>
                <a:latin typeface="Georgia"/>
              </a:rPr>
              <a:t>програма EServ 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(офіційний сайт розробників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http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Georgia"/>
              </a:rPr>
              <a:t>://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www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eserv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214200" y="3143160"/>
            <a:ext cx="4143600" cy="3257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68" name="Picture 2" descr=""/>
          <p:cNvPicPr/>
          <p:nvPr/>
        </p:nvPicPr>
        <p:blipFill>
          <a:blip r:embed="rId2"/>
          <a:stretch/>
        </p:blipFill>
        <p:spPr>
          <a:xfrm>
            <a:off x="4500720" y="3143160"/>
            <a:ext cx="44384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З історії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059D-23EC-466A-BC66-B0EA2B02DA9B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6AA7-DC53-4944-89E1-78F4C3ACFD4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ша поштова програма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SNDMSG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 (англ.</a:t>
            </a:r>
            <a:r>
              <a:rPr b="0" i="1" lang="uk-UA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Send  message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- відправити повідомлення) була розроблена в 1971 році Реєм Томлінсоном (нар. у 1941 p.), інженером компанії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olt Beranek and Newman 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(BBN) для мережі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RPANet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шою адресою електронної пошти була адреса її винахідника</a:t>
            </a:r>
            <a:r>
              <a:rPr b="1" i="1" lang="uk-UA" sz="1600" spc="-1" strike="noStrike">
                <a:solidFill>
                  <a:srgbClr val="000000"/>
                </a:solidFill>
                <a:latin typeface="Georgia"/>
              </a:rPr>
              <a:t> tomlinson@bbn-tenexa.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eorgia"/>
              </a:rPr>
              <a:t>Символ @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 для з'єднання частин поштової адреси був обраний ним же за його значення</a:t>
            </a:r>
            <a:r>
              <a:rPr b="0" i="1" lang="uk-UA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1600" spc="-1" strike="noStrike">
                <a:solidFill>
                  <a:srgbClr val="ff0000"/>
                </a:solidFill>
                <a:latin typeface="Georgia"/>
              </a:rPr>
              <a:t>на</a:t>
            </a:r>
            <a:r>
              <a:rPr b="0" i="1" lang="uk-UA" sz="16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 Українські користувачі частіше називають його сленговими словами </a:t>
            </a:r>
            <a:r>
              <a:rPr b="1" lang="uk-UA" sz="1600" spc="-1" strike="noStrike">
                <a:solidFill>
                  <a:srgbClr val="ff0000"/>
                </a:solidFill>
                <a:latin typeface="Georgia"/>
              </a:rPr>
              <a:t>«собачка» або «равлик»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шим листом, надісланим електронною поштою, був лист від Рея Томлінсона його колегам з повідомленням про появу нової можливості спілкування в мережі -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електронної пошти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5143680" y="1500120"/>
            <a:ext cx="2968560" cy="2225880"/>
          </a:xfrm>
          <a:prstGeom prst="rect">
            <a:avLst/>
          </a:prstGeom>
          <a:ln w="0">
            <a:noFill/>
          </a:ln>
        </p:spPr>
      </p:pic>
      <p:sp>
        <p:nvSpPr>
          <p:cNvPr id="675" name="Прямоугольник 8"/>
          <p:cNvSpPr/>
          <p:nvPr/>
        </p:nvSpPr>
        <p:spPr>
          <a:xfrm>
            <a:off x="5877000" y="37861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й Томлінсо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2"/>
          <a:stretch/>
        </p:blipFill>
        <p:spPr>
          <a:xfrm>
            <a:off x="6072120" y="4286160"/>
            <a:ext cx="1690920" cy="1782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Структура та властивості електронного листа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7A3D-4833-40AE-BAB5-472F451A5CCD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45CD-8EC0-4F2F-930D-AD968E8EBA9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13840" y="1371240"/>
            <a:ext cx="4357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Georgia"/>
              </a:rPr>
              <a:t>Під час користування традиційною поштою поштовий лист складається з двох частин: конверта з адресами відправника й одержувача та аркушів з текстом листа. У конверт також можуть бути вкладені фотографії, вітальні листівки та інші додатк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Georgia"/>
              </a:rPr>
              <a:t>Електронний лист має схожу структуру: аналогом конверта є заголовок листа, тіло листа містить текст повідомлення, прикріплені файли нагадують вкладені в конверт додатк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4500720" y="1622520"/>
            <a:ext cx="450036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Заголовок лис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2605-082D-42B1-8C73-81F9FC7A94AE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6E41-5EDA-42BF-9684-CA9327B6F83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1320" y="1527120"/>
            <a:ext cx="8504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Заголовок листа містить службові дані, які потрібні для забезпечення доставки листа адресату, та складається з кількох полів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Схема 6" descr=""/>
          <p:cNvPicPr/>
          <p:nvPr/>
        </p:nvPicPr>
        <p:blipFill>
          <a:blip r:embed="rId1"/>
          <a:stretch/>
        </p:blipFill>
        <p:spPr>
          <a:xfrm>
            <a:off x="195120" y="2133720"/>
            <a:ext cx="8729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Тіло лис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7B5F-D2E9-402B-99E4-D95AE3499BAF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6FEF-28C7-448B-A9BF-9DFA6112CC4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56760" y="1571760"/>
            <a:ext cx="8504280" cy="20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Тіло листа містить безпосередньо текст повідомлення адресату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У ході оформлення листа можна змінювати значення властивостей символів та абзаців тексту, застосовувати кольоровий фон, вставляти горизонтальну розділову лінію, гіперпосилання та зображення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Користувач може розробити текст власного підпису, який буде автоматично додаватися до лист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1"/>
          <a:stretch/>
        </p:blipFill>
        <p:spPr>
          <a:xfrm>
            <a:off x="2714760" y="3716280"/>
            <a:ext cx="2874960" cy="18576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95" name="Picture 3" descr=""/>
          <p:cNvPicPr/>
          <p:nvPr/>
        </p:nvPicPr>
        <p:blipFill>
          <a:blip r:embed="rId2"/>
          <a:stretch/>
        </p:blipFill>
        <p:spPr>
          <a:xfrm>
            <a:off x="942840" y="3716280"/>
            <a:ext cx="1543320" cy="1552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96" name="Picture 4" descr=""/>
          <p:cNvPicPr/>
          <p:nvPr/>
        </p:nvPicPr>
        <p:blipFill>
          <a:blip r:embed="rId3"/>
          <a:stretch/>
        </p:blipFill>
        <p:spPr>
          <a:xfrm>
            <a:off x="5740560" y="3716280"/>
            <a:ext cx="2786040" cy="2262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Електронні листи можуть мати такі властивості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EFB9-99B7-4285-8D54-0E797CBBE6AD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678F-2066-446F-9A34-616042544F8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Georgia"/>
              </a:rPr>
              <a:t>Кодування</a:t>
            </a: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 - визначає таблицю кодів, яка використовується під час написання лист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Georgia"/>
              </a:rPr>
              <a:t>Важливість</a:t>
            </a: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 - характеризує зміст листа. Значення встановлює відправник. Важливість листа може бути </a:t>
            </a:r>
            <a:r>
              <a:rPr b="0" i="1" lang="uk-UA" sz="2300" spc="-1" strike="noStrike">
                <a:solidFill>
                  <a:srgbClr val="000000"/>
                </a:solidFill>
                <a:latin typeface="Georgia"/>
              </a:rPr>
              <a:t>висока, звичайна, низька</a:t>
            </a: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Georgia"/>
              </a:rPr>
              <a:t>Прочитаний </a:t>
            </a: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- визначає, чи був лист відкритий одержувачем; значення властивості - </a:t>
            </a:r>
            <a:r>
              <a:rPr b="0" i="1" lang="uk-UA" sz="2300" spc="-1" strike="noStrike">
                <a:solidFill>
                  <a:srgbClr val="000000"/>
                </a:solidFill>
                <a:latin typeface="Georgia"/>
              </a:rPr>
              <a:t>прочитаний, не прочитаний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Georgia"/>
              </a:rPr>
              <a:t>Наявність вкладення </a:t>
            </a: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- визначає, чи має лист прикріплені файли; значення властивості - </a:t>
            </a:r>
            <a:r>
              <a:rPr b="0" i="1" lang="uk-UA" sz="2300" spc="-1" strike="noStrike">
                <a:solidFill>
                  <a:srgbClr val="000000"/>
                </a:solidFill>
                <a:latin typeface="Georgia"/>
              </a:rPr>
              <a:t>має вкладення, не має вкладенн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та ін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Залежно від значень властивостей і на основі заданих користувачем правил листи розподіляються в різні папк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Етикет електронного спілкуванн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92EE-9F69-472E-BF2F-02E4ABEE398C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822F-6915-48E1-8B20-2648881B610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Електронна пошта - засіб спілкування людей, тому вона перед дотримання певних правил ввічливості. Деякі з них не відрізняються загальноприйнятих норм людського спілкування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починайте текст листа з привітання, завершуйте підпис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якщо звертаєтеся до людини, з якою ви особисто не знайомі, назвіть себе;</a:t>
            </a: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забудьте вжити слова «будь ласка», якщо звертаєтеся до кого- небудь з прохання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подякуйте, якщо хтось допомагає ва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слідкуйте за тоном вашого листа, намагайтеся уникати фраз, що можуть стати причиною конфлікту на релігійній, расовій, політичній іншій основі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надсилайте в листах неперевірені дані без посилання на їхнє джерело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амагайтеся не допускати граматичних помилок, використовуйте засоби перевірки орфографії, надані поштовою службою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Правила спілкування в мережі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6C54-88EA-42D6-B7BC-1BE4EDD22A56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4C84-0751-4F65-9965-0016B6F60D0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01320" y="152676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Окремі правила спілкування в мережі пов'язані з особливостями сприйняття друкованого тексту, специфікою читання повідомлень на екрані, обмеженнями на обсяги даних, що пересилаються мережею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5784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зазначайте тему свого листа. Часто користувач орієнтується саме тему, коли переглядає пошту та обирає листи для отримання із сервера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5784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пишіть увесь текст листа великими літерами - його важко чита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5784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зловживайте позначкою високої важливості листа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5784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надсилайте в листах оголошень і реклами, якщо вони не є предметом обговорення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5784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включайте до повідомлення цитати з листа, на який відповідаєте, якщо ви посилаєтеся на деякі слова співрозмовника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35784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додавайте без потреби прикріплення до листа, це суттєво впливас на його розмір. За можливості стискайте файли, що прикріплюються використовуючи програми-архіватори. Повідомляйте адресата, які файли додаєте до листа, оскільки часто через прикріплені файли розповсюджуються комп'ютерні вірус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Calibri"/>
              </a:rPr>
              <a:t>Використання смайликі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6A81-B913-4AF8-AE71-5D4E5029465E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BEB5-1C21-4294-8973-0A0F86E30A8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01320" y="1527120"/>
            <a:ext cx="850428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Електронна пошта позбавлена можливості передавати міміку та жести, які виражають ваше ставлення до предмета обговорення. Для передавання емоцій в Інтернеті використовують </a:t>
            </a:r>
            <a:r>
              <a:rPr b="1" lang="uk-UA" sz="2100" spc="-1" strike="noStrike">
                <a:solidFill>
                  <a:srgbClr val="000000"/>
                </a:solidFill>
                <a:latin typeface="Calibri"/>
              </a:rPr>
              <a:t>смайлики 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(англ.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 smile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 - усмішка) - послідовності символів, що нагадують обличчя. Правильне використання смайликів додає листу настрій, робить його більш емоційним. Найчастіше використовують такі смайлики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214200" y="3214800"/>
          <a:ext cx="8643960" cy="3122640"/>
        </p:xfrm>
        <a:graphic>
          <a:graphicData uri="http://schemas.openxmlformats.org/drawingml/2006/table">
            <a:tbl>
              <a:tblPr/>
              <a:tblGrid>
                <a:gridCol w="1643040"/>
                <a:gridCol w="2462400"/>
                <a:gridCol w="1585800"/>
                <a:gridCol w="2952720"/>
              </a:tblGrid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ідовність симво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ідовність симво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мішка; відображення радості, задово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-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щасливе обличчя; відображення співчут­тя чи розчар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;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;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иччя, що під­моргує; виражає іронію, ж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-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, незадоволення, зл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і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-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ив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85480" y="380520"/>
            <a:ext cx="8643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16349"/>
                </a:solidFill>
                <a:latin typeface="Georgia"/>
              </a:rPr>
              <a:t>Розділ 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3</a:t>
            </a:r>
            <a:br>
              <a:rPr sz="4200"/>
            </a:br>
            <a:r>
              <a:rPr b="0" lang="uk-UA" sz="4200" spc="-1" strike="noStrike">
                <a:solidFill>
                  <a:srgbClr val="d16349"/>
                </a:solidFill>
                <a:latin typeface="Georgia"/>
              </a:rPr>
              <a:t>Служби Інтернету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Дата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05C3-F563-4B94-9527-FEC54832F397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Номер слайда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2A6-4F83-4908-90EA-E3ED28D407C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Нижний колонтитул 5"/>
          <p:cNvSpPr/>
          <p:nvPr/>
        </p:nvSpPr>
        <p:spPr>
          <a:xfrm>
            <a:off x="304920" y="6410160"/>
            <a:ext cx="39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13880" y="228600"/>
            <a:ext cx="81219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Правила безпеки під час користування електронною поштою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111B-E560-485B-9E7D-671B6DD232B5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8F05-3114-4784-AED3-D1478C6DEBE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Спілкуючись в Інтернеті, варто пам'ятати про можливі небезпеки та ризики, пов'язані з особливостями роботи в мережі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Якщо відправник листа вам невідомий, правдивість його слів і справжні наміри перевірити неможливо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Часто листи надсилають з метою реклами - так званий спам (англ.</a:t>
            </a:r>
            <a:r>
              <a:rPr b="0" i="1" lang="uk-UA" sz="2300" spc="-1" strike="noStrike">
                <a:solidFill>
                  <a:srgbClr val="000000"/>
                </a:solidFill>
                <a:latin typeface="Georgia"/>
              </a:rPr>
              <a:t> spam</a:t>
            </a: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 - консерви, реклама яких була занадто нав'язливою), з намаганням привернути вашу увагу до певної продукції або послуг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Georgia"/>
              </a:rPr>
              <a:t>Іноді використовують шкідливі програми для автоматичного розсилання листів рекламного характеру або навіть безглуздого змісту. А тому варто критично ставитися до листів, які можуть надійти від сторонніх осіб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0224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57160" y="228600"/>
            <a:ext cx="79790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Правила безпеки під час користування електронною поштою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7EA0-C05E-44BE-9E91-52EBC9700E90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7B6F-5D33-4810-873F-8D8BC76A1F1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01320" y="152676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Під час листування електронною поштою рекомендується дотримуватися таких правил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іколи не відкривайте прикріплені файли, отримані в листах від невідомих осіб. У них можуть бути шкідливі програми. Такі листи рекомендується видаля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ставтеся критично до вмісту отриманих електронних листів, не все, що в них наведено, є правдою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відповідайте на листи, що приходять від невідомих осіб. Відповідаючи на ці листи, ви підтверджуєте існування адреси, що дає змогу надсилати і надалі листи зі спам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наводьте в листах приватні дані про себе та свою родину, якщо особисто не знайомі з адресат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погоджуйтеся на особисту зустріч з особами, знайомими вам тільки за електронним листуванням, - вони можуть виявитися не тими, за кого себе видавал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Georgia"/>
              </a:rPr>
              <a:t>не повідомляйте пароль від поштової скриньки стороннім особам, щоб ваша кореспонденція не потрапила до чужих рук та щоб ніхто не міг відправити листа вашим кореспондентам від вашого імені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9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0224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Georgia"/>
              </a:rPr>
              <a:t>3.1. Електронна пошт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Дата 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96BD-0DD1-4ABB-AB23-408845A225B4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Номер слайда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6D52-D21E-417D-967A-0BA5459325F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Нижний колонтитул 5"/>
          <p:cNvSpPr/>
          <p:nvPr/>
        </p:nvSpPr>
        <p:spPr>
          <a:xfrm>
            <a:off x="304920" y="641016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3429000" y="3071880"/>
            <a:ext cx="32860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Calibri"/>
              </a:rPr>
              <a:t>Принципи функціонування електронної пошт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17AE-E05E-4E10-B018-152D253BA258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DD8C-BA9E-4AD0-9D16-762E091F0A2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42560" y="1371240"/>
            <a:ext cx="4357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швидкого та надійного отримання повідомлень почали використовувати канали супутникового зв'язку та комп'ютерні мережі, телефонний зв'язок став мобільним, традиційне листування витісняється електронни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Електронна пошта,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або e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-mail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(англ.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electronic mail -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електронна пошта) - це служба Інтернету, призначена для пересилання комп'ютерними мережами повідомлень (електронних листів) від деякого користувача одному чи групі адресатів. Разом з текстовим повідомленням можуть бути передані прикріплені до електронного листа файли будь-яких форматі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4684680" y="1562040"/>
            <a:ext cx="4243320" cy="266400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кутник 7"/>
          <p:cNvSpPr/>
          <p:nvPr/>
        </p:nvSpPr>
        <p:spPr>
          <a:xfrm>
            <a:off x="4692600" y="4292640"/>
            <a:ext cx="423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лектронна пошта працює за клієнт-серверною технологією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Calibri"/>
              </a:rPr>
              <a:t>Принципи функціонування електронної пошт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974-9820-4562-ABAD-D38F1C673704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6A11-3BBE-4A11-8E1A-0EABF6E5B48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42560" y="1371240"/>
            <a:ext cx="4357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До функцій поштового сервера входить виділення певного обсягу дискового простору на комп'ютері-сервері для збереження повідомлень користувача, забезпечення їх отримання та відправлення. При виділенні користувачу відповідних апаратних і програмних ресурсів говорять про створення його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електронної поштової скриньк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оштова скринька може бути створена на сервері провайдера. Крім того, на багатьох веб-сайтах пропонується створення безкоштовної електронної поштової скриньки. Такі сайти називають сайтами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веб-пошт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Кожна електронна поштова скринька має унікальну адресу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дреса електронної поштової скриньки складається з імені користувача, під яким він зареєстрований на сервері електронної пошти, та доменного імені сервера, розділених символом @ (англ.</a:t>
            </a:r>
            <a:r>
              <a:rPr b="1" i="1" lang="uk-UA" sz="1600" spc="-1" strike="noStrike">
                <a:solidFill>
                  <a:srgbClr val="000000"/>
                </a:solidFill>
                <a:latin typeface="Calibri"/>
              </a:rPr>
              <a:t> комерційне at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- на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rcRect l="0" t="0" r="0" b="34371"/>
          <a:stretch/>
        </p:blipFill>
        <p:spPr>
          <a:xfrm>
            <a:off x="4572000" y="1584360"/>
            <a:ext cx="4357800" cy="2630520"/>
          </a:xfrm>
          <a:prstGeom prst="rect">
            <a:avLst/>
          </a:prstGeom>
          <a:ln w="0">
            <a:noFill/>
          </a:ln>
        </p:spPr>
      </p:pic>
      <p:sp>
        <p:nvSpPr>
          <p:cNvPr id="633" name="Прямокутник 6"/>
          <p:cNvSpPr/>
          <p:nvPr/>
        </p:nvSpPr>
        <p:spPr>
          <a:xfrm>
            <a:off x="4643280" y="4221000"/>
            <a:ext cx="435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Наприклад, поштова адреса </a:t>
            </a:r>
            <a:r>
              <a:rPr b="0" lang="uk-UA" sz="1600" spc="-1" strike="noStrike" u="sng">
                <a:solidFill>
                  <a:srgbClr val="00a3d6"/>
                </a:solidFill>
                <a:uFillTx/>
                <a:latin typeface="Calibri"/>
                <a:hlinkClick r:id="rId2"/>
              </a:rPr>
              <a:t>pupil@school.region.ua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означає, що для користувача </a:t>
            </a:r>
            <a:r>
              <a:rPr b="1" i="1" lang="uk-UA" sz="1600" spc="-1" strike="noStrike">
                <a:solidFill>
                  <a:srgbClr val="000000"/>
                </a:solidFill>
                <a:latin typeface="Calibri"/>
              </a:rPr>
              <a:t>pupil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створена поштова скринька на сервері з доменним іменем </a:t>
            </a:r>
            <a:r>
              <a:rPr b="1" i="1" lang="uk-UA" sz="1600" spc="-1" strike="noStrike">
                <a:solidFill>
                  <a:srgbClr val="000000"/>
                </a:solidFill>
                <a:latin typeface="Calibri"/>
              </a:rPr>
              <a:t>school.region.ua.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Ім'я користувача, під яким він зареєстрований на сервері електронної пошти, називають </a:t>
            </a:r>
            <a:r>
              <a:rPr b="1" lang="uk-UA" sz="1600" spc="-1" strike="noStrike">
                <a:solidFill>
                  <a:srgbClr val="ff0000"/>
                </a:solidFill>
                <a:latin typeface="Calibri"/>
              </a:rPr>
              <a:t>логіном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(англ.</a:t>
            </a:r>
            <a:r>
              <a:rPr b="0" i="1" lang="uk-UA" sz="1600" spc="-1" strike="noStrike">
                <a:solidFill>
                  <a:srgbClr val="000000"/>
                </a:solidFill>
                <a:latin typeface="Calibri"/>
              </a:rPr>
              <a:t> log in -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вхід до системи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b9899"/>
                </a:solidFill>
                <a:latin typeface="Calibri"/>
              </a:rPr>
              <a:t>Поштова адреса. Програми - поштові клієнти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4F56-F02A-499A-9B7A-E0C91C2C572A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F04-379B-4322-A5F2-B8EBDE7018C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На комп'ютерах користувачів для отримання послуг електронної пошти встановлюють спеціальні програми - поштові клієнти. Поштові клієнти призначені для підготовки, відправлення, отримання та опрацювання електронних листів, що передаються службою електронної пошт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Поштові клієнти належать до прикладних програм загального призначення. Популярними є програми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look Express, The Bat!, Mozilla Thunderbird, Opera Mail, Netscape Messenger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а ін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Содержимое 10" descr=""/>
          <p:cNvPicPr/>
          <p:nvPr/>
        </p:nvPicPr>
        <p:blipFill>
          <a:blip r:embed="rId1"/>
          <a:stretch/>
        </p:blipFill>
        <p:spPr>
          <a:xfrm>
            <a:off x="158760" y="3713040"/>
            <a:ext cx="8845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b9899"/>
                </a:solidFill>
                <a:latin typeface="Calibri"/>
              </a:rPr>
              <a:t>Можливості програм - поштових клієнті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A45A-209F-45D5-81CF-6AD2C5D18319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DDC-EE46-4A01-AE62-ACE67B807D1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42920" y="1526760"/>
            <a:ext cx="86630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оштові клієнти відрізняються один від одного інтерфейсом та окремими функціями, але використання більшості з них надає користувачам такі можливості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ідготовка тексту лист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ідправлення листа одному чи групі адресатів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рикріплення до листа файлів різних форматів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еревірка орфографії в текстовому повідомленні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втоматичне додавання електронного підпису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тримання та зберігання електронних листів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створення папок для впорядкованого зберігання листів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інформування користувача про надходження нових листів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сортування та фільтрація вхідних листів за встановленими правилами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ересилання отриманих листів іншим адресатам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цитування тексту отриманого листа у відповіді на нього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идалення електронних листів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формування та використання адресної книги - засобу для впорядкованого зберігання поштових адрес та їхнього швидкого введення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шифрування/дешифрування електронних листів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ключення до листів запиту на підтвердження факту отримання листа адресатом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та ін.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b9899"/>
                </a:solidFill>
                <a:latin typeface="Calibri"/>
              </a:rPr>
              <a:t>Робота з електронною поштою через веб-інтерфейс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Дата 2"/>
          <p:cNvSpPr/>
          <p:nvPr/>
        </p:nvSpPr>
        <p:spPr>
          <a:xfrm>
            <a:off x="5791320" y="6410160"/>
            <a:ext cx="304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B7A-4851-42A7-83C1-AD6721B0BFD3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Номер слайда 4"/>
          <p:cNvSpPr/>
          <p:nvPr/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6E6-5F09-4E1C-8A23-DB556BA0640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42920" y="1371240"/>
            <a:ext cx="40687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При створенні поштової скриньки на веб-сайті для користування нею можна використовувати браузер. При цьому говорять про роботу з електронною поштою через веб-інтерфейс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З використанням веб-інтерфейсу можна звернутися до поштових скриньок, створених на сайтах веб-пошти та порталах, наприклад,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REEMAIL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1900" spc="-1" strike="noStrike" u="sng">
                <a:solidFill>
                  <a:srgbClr val="00a3d6"/>
                </a:solidFill>
                <a:uFillTx/>
                <a:latin typeface="Calibri"/>
                <a:hlinkClick r:id="rId2"/>
              </a:rPr>
              <a:t>://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3"/>
              </a:rPr>
              <a:t>freemail</a:t>
            </a:r>
            <a:r>
              <a:rPr b="0" lang="ru-RU" sz="1900" spc="-1" strike="noStrike" u="sng">
                <a:solidFill>
                  <a:srgbClr val="00a3d6"/>
                </a:solidFill>
                <a:uFillTx/>
                <a:latin typeface="Calibri"/>
                <a:hlinkClick r:id="rId4"/>
              </a:rPr>
              <a:t>.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5"/>
              </a:rPr>
              <a:t>ukr</a:t>
            </a:r>
            <a:r>
              <a:rPr b="0" lang="ru-RU" sz="1900" spc="-1" strike="noStrike" u="sng">
                <a:solidFill>
                  <a:srgbClr val="00a3d6"/>
                </a:solidFill>
                <a:uFillTx/>
                <a:latin typeface="Calibri"/>
                <a:hlinkClick r:id="rId6"/>
              </a:rPr>
              <a:t>.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7"/>
              </a:rPr>
              <a:t>net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та (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1900" spc="-1" strike="noStrike" u="sng">
                <a:solidFill>
                  <a:srgbClr val="00a3d6"/>
                </a:solidFill>
                <a:uFillTx/>
                <a:latin typeface="Calibri"/>
                <a:hlinkClick r:id="rId9"/>
              </a:rPr>
              <a:t>://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10"/>
              </a:rPr>
              <a:t>webmail</a:t>
            </a:r>
            <a:r>
              <a:rPr b="0" lang="ru-RU" sz="1900" spc="-1" strike="noStrike" u="sng">
                <a:solidFill>
                  <a:srgbClr val="00a3d6"/>
                </a:solidFill>
                <a:uFillTx/>
                <a:latin typeface="Calibri"/>
                <a:hlinkClick r:id="rId11"/>
              </a:rPr>
              <a:t>.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12"/>
              </a:rPr>
              <a:t>meta</a:t>
            </a:r>
            <a:r>
              <a:rPr b="0" lang="ru-RU" sz="1900" spc="-1" strike="noStrike" u="sng">
                <a:solidFill>
                  <a:srgbClr val="00a3d6"/>
                </a:solidFill>
                <a:uFillTx/>
                <a:latin typeface="Calibri"/>
                <a:hlinkClick r:id="rId13"/>
              </a:rPr>
              <a:t>.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14"/>
              </a:rPr>
              <a:t>ua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15"/>
              </a:rPr>
              <a:t>http://mail.ru/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mail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16"/>
              </a:rPr>
              <a:t>http</a:t>
            </a:r>
            <a:r>
              <a:rPr b="0" lang="ru-RU" sz="1900" spc="-1" strike="noStrike" u="sng">
                <a:solidFill>
                  <a:srgbClr val="00a3d6"/>
                </a:solidFill>
                <a:uFillTx/>
                <a:latin typeface="Calibri"/>
                <a:hlinkClick r:id="rId17"/>
              </a:rPr>
              <a:t>://</a:t>
            </a:r>
            <a:r>
              <a:rPr b="0" lang="en-US" sz="1900" spc="-1" strike="noStrike" u="sng">
                <a:solidFill>
                  <a:srgbClr val="00a3d6"/>
                </a:solidFill>
                <a:uFillTx/>
                <a:latin typeface="Calibri"/>
                <a:hlinkClick r:id="rId18"/>
              </a:rPr>
              <a:t>gmail</a:t>
            </a:r>
            <a:r>
              <a:rPr b="0" lang="ru-RU" sz="1900" spc="-1" strike="noStrike" u="sng">
                <a:solidFill>
                  <a:srgbClr val="00a3d6"/>
                </a:solidFill>
                <a:uFillTx/>
                <a:latin typeface="Calibri"/>
                <a:hlinkClick r:id="rId19"/>
              </a:rPr>
              <a:t>.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com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Яндекс (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http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://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mail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yandex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ua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а ін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0" name="Содержимое 9" descr=""/>
          <p:cNvPicPr/>
          <p:nvPr/>
        </p:nvPicPr>
        <p:blipFill>
          <a:blip r:embed="rId20"/>
          <a:stretch/>
        </p:blipFill>
        <p:spPr>
          <a:xfrm>
            <a:off x="3932280" y="1371600"/>
            <a:ext cx="4998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b9899"/>
                </a:solidFill>
                <a:latin typeface="Calibri"/>
              </a:rPr>
              <a:t>Протоколи електронної пошт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2FE3-6DB3-4DFC-8596-9A52873ACE31}" type="datetime">
              <a:rPr b="0" lang="uk-UA" sz="1400" spc="-1" strike="noStrike">
                <a:solidFill>
                  <a:srgbClr val="ffffff"/>
                </a:solidFill>
                <a:latin typeface="Georg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Номер слайда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0141-5CFA-4954-9ACA-F3F3FC9A726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2920" y="1526760"/>
            <a:ext cx="86630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силання електронних листів між сервером електронної пошти та комп'ютером клієнта називають доставкою пошти. Для пересилання повідомлень використовують протоколи електронної пошт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РЗ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(англ.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ost Office Protocol version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протокол поштового відділення версії 3) - визначає правила пересилання поштових повідомлень від поштового сервера до комп'ютера користувач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3618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SMTP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(англ.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mple Mail Transfer Protoc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простий протокол пересилання пошти) - визначає правила пересилання поштових повідомлень від комп'ютера користувача до поштового сервера або між поштовими сервер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ставка електронних листів відбувається за лічені хвилини, затримка може виникнути через збої в роботі поштових серверів і мережного обладнанн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5:49:19Z</dcterms:created>
  <dc:creator>KEK$</dc:creator>
  <dc:description/>
  <dc:language>en-US</dc:language>
  <cp:lastModifiedBy>Two_2</cp:lastModifiedBy>
  <dcterms:modified xsi:type="dcterms:W3CDTF">2014-02-16T19:22:45Z</dcterms:modified>
  <cp:revision>38</cp:revision>
  <dc:subject/>
  <dc:title>Вивчаємо інформатику</dc:title>
</cp:coreProperties>
</file>