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0.jpeg" ContentType="image/jpeg"/>
  <Override PartName="/ppt/media/image21.gif" ContentType="image/gif"/>
  <Override PartName="/ppt/media/image14.png" ContentType="image/png"/>
  <Override PartName="/ppt/media/image19.gif" ContentType="image/gif"/>
  <Override PartName="/ppt/media/image23.png" ContentType="image/png"/>
  <Override PartName="/ppt/media/image18.gif" ContentType="image/gif"/>
  <Override PartName="/ppt/media/image17.gif" ContentType="image/gif"/>
  <Override PartName="/ppt/media/image16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12.gif" ContentType="image/gif"/>
  <Override PartName="/ppt/media/image30.jpeg" ContentType="image/jpeg"/>
  <Override PartName="/ppt/media/image24.jpeg" ContentType="image/jpeg"/>
  <Override PartName="/ppt/media/image13.png" ContentType="image/png"/>
  <Override PartName="/ppt/media/image37.jpeg" ContentType="image/jpeg"/>
  <Override PartName="/ppt/media/image36.jpeg" ContentType="image/jpeg"/>
  <Override PartName="/ppt/media/image39.jpeg" ContentType="image/jpeg"/>
  <Override PartName="/ppt/media/image40.jpeg" ContentType="image/jpeg"/>
  <Override PartName="/ppt/media/image8.gif" ContentType="image/gif"/>
  <Override PartName="/ppt/media/image38.gif" ContentType="image/gif"/>
  <Override PartName="/ppt/media/image9.gif" ContentType="image/gif"/>
  <Override PartName="/ppt/media/image31.jpeg" ContentType="image/jpeg"/>
  <Override PartName="/ppt/media/image2.png" ContentType="image/png"/>
  <Override PartName="/ppt/media/image15.png" ContentType="image/png"/>
  <Override PartName="/ppt/media/image22.gif" ContentType="image/gif"/>
  <Override PartName="/ppt/media/image25.png" ContentType="image/png"/>
  <Override PartName="/ppt/media/image41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1.gif" ContentType="image/gif"/>
  <Override PartName="/ppt/media/image5.jpeg" ContentType="image/jpeg"/>
  <Override PartName="/ppt/media/image4.png" ContentType="image/png"/>
  <Override PartName="/ppt/media/image34.gif" ContentType="image/gif"/>
  <Override PartName="/ppt/media/image27.png" ContentType="image/png"/>
  <Override PartName="/ppt/media/image3.png" ContentType="image/png"/>
  <Override PartName="/ppt/media/image33.gif" ContentType="image/gif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0656-EC1E-4EAF-BAB7-AC2024D779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AED5-ED45-44C5-BEED-0CDF8E738B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52B-96AB-457F-A3A9-177224B1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DBA-4CD6-4C93-AE32-1EA4B719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8BBB5-9861-487D-8FF2-42C9AAA2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349CE-510A-4E99-9771-928D7136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FD053-30C1-40E2-9BB5-1A3A3498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93497-3CC1-4397-B2CA-8A9BE9FF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8679A-C231-4D7C-9240-E6445952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4352C-A92D-433E-96ED-6DA505D5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851B4-10D6-41DE-A719-D18867B8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FD9C1-6934-4F96-A1E5-33A5656E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5CE2B-5517-4D5C-843D-DBC57C16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8FE16-2812-4D98-B331-C3DAA44A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EB6-2976-4BDB-86F8-2D295369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5CA5E-388A-4387-9D4F-350A7B11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6C58C-0EAB-4BBD-A437-5FB2A363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B821D-E5F8-4F29-B986-95757989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1E3D0-7DF8-4077-A19B-7976E280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17368-383D-4A6A-92F9-9C79ED38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47B1B-70DA-4A66-837A-F8F1C6EA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F0775-0266-40AC-9D6F-E30AAA6E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16C77-A5F7-4FAB-8A75-376C1008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2B1B4-899E-46FB-85E3-BA06B4C2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8F34F-5801-44BC-9348-D440F025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AC4B-9F18-465F-B22A-14C0E7D5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13342-3108-41FA-9DF0-98BD899D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1C10A-FFDA-4471-B96F-5451C702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A537A-580D-4899-AF0D-5E087FF7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D2255-FF22-4776-BD0B-9BC43F3B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36458-E834-4118-9A9C-DAB1EF7A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8AC49-5389-4016-9D30-CB23DC36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8BD1D-C6C8-45F5-A8E1-2201A3AB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D6F09-C6BC-49EE-9AE1-022DC65B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14463-4F6B-4CC6-911C-7FF3DD15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DB6C6-E89E-4194-A6BC-77E55A8E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1C4C-79A9-4582-B80A-C21ED9FD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BAC73-F679-4DE0-B45F-9708325C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D5CC7-E983-4A2D-9320-164906E4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85DF3-FBF4-4135-8AEF-A7FD0F87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79726-B8E6-489C-97F1-2446A029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F9771-4448-4324-8E6D-0CCC0816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B81C6-AB86-418E-96AD-0A59923D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DA956-CFD6-40F1-A9F3-4FAFF418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286B4-3803-4C50-82E1-FA32E02C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88EFD-80C3-4F93-9256-4DD63DBF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274C7-7FD7-41A1-9542-7ECFFE32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1F2F-A17D-48A7-A6D4-5CEADE80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954F5-330D-4B51-B32B-25A9A933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44388-30B9-4D9F-B397-1268A6A5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99910-04BC-4867-966C-5139B174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EC098-345C-4D0F-A022-265514C7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1F3A4-42ED-491D-B5EE-388FE81A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7054-4E0E-4C56-855A-CAB054A4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4FD7-A055-403B-B969-D3EF70E3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D850-9EB1-424E-94F7-6B6C0893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72A7-21B1-45ED-BD05-567213A4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0C8F-1BEB-4B6A-BA16-8A16CAD6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6AF5-81D3-4643-9CE6-36004267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231A-14AC-4C11-8D49-5BAABC56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3B4F-2760-4E07-93DC-D41CB622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CEDC-05B7-41A9-919D-8F047901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411F-181F-4DC3-9E62-C0D8AE2C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94E6-0054-4F9E-B7A0-6C6C633F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02349-1008-4C2C-98C1-CD00F283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48278-B1CD-4DFB-8A29-2F2403F7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0E996-3064-4D57-A00A-1EEB19A6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A45BF-9E40-400F-B372-D18B2D5B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9FEBD-6918-45FA-B536-4D1D08CA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04F-35DA-49A6-B5D6-EDB2504C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C5EF0-4993-4106-8962-BE647C15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DFE0B-5895-416A-A0D3-F55A5B9A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29953-C8DA-47E1-BD3C-6A03385E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79D7E-8CD7-48AF-BB90-2B4527B0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77F58-02E3-4C38-ABA6-07815B31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6AD7E-146F-4CBE-A72E-25A5BAA2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C0D14-FCF5-4701-88AE-26646C8F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270B5-ED4F-4675-81F7-A8C563A5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62C9E-F8C3-4D47-88D9-AB0D9692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1CA8C-6FB1-4826-A478-1252254C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07EE-131A-468E-B878-C77E7448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7BACE-6BE6-4D8B-A0A0-94BEA73A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37F6F-BBE7-433F-B4AD-AB48FD85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A7691-1BE9-46C8-BA6A-DC804770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BFB0F-9EA8-4D65-9442-BA703CB0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9E6F4-564B-458B-9751-9E21A47A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7C207-9186-4AC6-A6CC-55DE7F67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8B4D4-1FB4-46A6-A655-EF6AAA5D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DB16A-1439-42CF-B933-9709C38E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D519D-CF29-433B-9E3D-D2CE8920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A047E-FCEC-4830-8945-8260F0D4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5E2-A26D-48F1-8B5A-0CE8CAF2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DEDE9-381F-4E39-B34B-3671FE77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99A2D-5A12-48A9-818C-789EF677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D95E3-3BDA-4F9A-AE78-AD436D8B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41A53-2AFE-47C3-943D-9ACB9287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1193E-5CEC-4F7A-B8A9-0C86573E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4206E-4552-4DC0-A1A5-7CD37A9E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C8203-7FB9-4C2F-A98E-96286628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47909-1035-484F-BA1D-D42C7161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BCC76-00C8-4E74-A3B9-A9D81812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8D431-D428-4F9A-BC77-E4C64D5E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CFA-27D7-4817-BD0A-5254F948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3654D-5FC6-4102-8317-46F20E44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40A7A-AEC2-460B-9F68-8795E5B7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19FDB-B882-47DC-A69C-6901D1F9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0456A-3F5F-40BB-BFA5-C8CBFB03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CA969-D207-4633-BC44-2B14A8D3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C4CE3-53E7-4D2F-9F29-56BF8E75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72C11-AE18-4A5F-9A5A-2EE17436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CBED7-2565-4937-8879-3BA29F08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FF9BF-07D3-4707-AA36-89604450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0152F-531C-4448-B792-E6AF1FC4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704-FF4A-46BD-B866-8370AE4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8014F-F0D4-4750-9F98-4F351ADD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D8249-1D67-4CB1-829A-84EE20D1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55A9D-F6C6-4647-AC9D-CBF5BCB0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B8C61-AEB4-414B-A60E-06A7D741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882F0-B3BB-4808-B61C-B5D2F33B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9A5E1-06B4-40A0-B701-1F8AD521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3D928-D596-4015-844B-11DEA85A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7063D-B0CD-4588-BD73-5DE789CD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65597-E3CC-4B67-A458-17C7077E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CF3E6-762C-4CC0-8FAB-ADF97C5F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79F-DB67-4D13-B6FC-8CEE8867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13316-D3D7-4769-A869-0D00CCDC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6FBD0-5E9E-4265-8C44-660DA665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CE25D-C89B-4769-9523-D65E8173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BCAD8-5CDC-4C4C-89AF-827076F2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E656B-4F2F-4980-B467-1605AA82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33D91-0C2F-49BE-A791-1E092029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38E76-3335-4964-9C4E-E2D6C577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7DA45-E887-4903-977C-4A8EBCAA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FCBF4-346F-4A30-9E00-04B1AB13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7FD50-85A8-49CB-9A2F-A7BEF5BD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053-9692-4F59-8ACC-7F9DFE1C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9872A-F251-4E9C-9044-ED4F4791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68FF7-20F1-47FD-A95A-FE2F0F73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CC837-2351-4E5B-B050-2F4633F1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76229-0467-447B-9928-C1CCCE6F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3E9CE-9F1C-4CF5-94D9-E6858403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9F08E-833F-4E0A-AE55-E394D28C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3E910-B6E4-4567-98D0-D4BE94B1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0F266-6FC1-4F63-BA80-C001996B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19D44-DA46-4881-AF05-DF4F3AA9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9B011-17E8-421F-9198-EB8DCEE9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BDCC-7B2D-4DDB-96D7-F84B0A2A85C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63E8-FA98-4540-AD00-FC426E7FD84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794B-8205-4855-A5C1-690EF36D2DD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8880-0936-4FB9-B42B-DC242FDA461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F730-C2BC-4538-8E52-6E24DE6C02E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E2F6-E121-4F13-958E-707B1320C38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3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1D92-2CB1-4E8F-B374-F7C89E0E123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7375-CCB4-4C86-86BB-2525F00FA9F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9F52-643E-4C03-8AD5-44485728DA5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03F1-C1CE-4482-933B-FEA1B18D75F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3F4C-F073-4BE7-A78A-FFA8355BD95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48AE-E74B-489D-957D-D25480D5A47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wmf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571720" y="5786280"/>
            <a:ext cx="3414600" cy="928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2f2f2"/>
                </a:solidFill>
                <a:latin typeface="Verdana"/>
              </a:rPr>
              <a:t>10 кла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Прямоугольник 3" descr=""/>
          <p:cNvPicPr/>
          <p:nvPr/>
        </p:nvPicPr>
        <p:blipFill>
          <a:blip r:embed="rId2"/>
          <a:stretch/>
        </p:blipFill>
        <p:spPr>
          <a:xfrm>
            <a:off x="249120" y="4303800"/>
            <a:ext cx="8425080" cy="11826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82692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5855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60480" y="285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Поштова скринька, що це?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9280" y="2421000"/>
            <a:ext cx="6000840" cy="235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ва скринька являє собою частину  дискового  простору  на  сервері  з  певним  ім'ям (адресою), де  може  зберігатися  поштова  інформація   для  користувача  мережі  Інтернет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7" name="Picture 1" descr="G:\картинки_анимация\анимашки\E-MAIL\ROTEBLUE.GIF"/>
          <p:cNvPicPr/>
          <p:nvPr/>
        </p:nvPicPr>
        <p:blipFill>
          <a:blip r:embed="rId2"/>
          <a:stretch/>
        </p:blipFill>
        <p:spPr>
          <a:xfrm>
            <a:off x="7786800" y="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G:\картинки_анимация\анимашки\E-MAIL\BOXBENDWHT.GIF"/>
          <p:cNvPicPr/>
          <p:nvPr/>
        </p:nvPicPr>
        <p:blipFill>
          <a:blip r:embed="rId3"/>
          <a:stretch/>
        </p:blipFill>
        <p:spPr>
          <a:xfrm>
            <a:off x="6715080" y="2928960"/>
            <a:ext cx="1643040" cy="2738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ПО для роботи з електронною поштою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0" y="1844640"/>
            <a:ext cx="8183520" cy="30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ва програма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лієнт електронної пошти, </a:t>
            </a:r>
            <a:r>
              <a:rPr b="1" i="1" lang="uk-UA" sz="28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поштовий клієнт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не забезпечення, установлюване </a:t>
            </a:r>
            <a:r>
              <a:rPr b="1" lang="uk-UA" sz="28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на комп'ютері користувача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значене для одержання, написання, відправлення, зберігання й обробки повідомлень електронної пошти користува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1" name="Picture 1" descr="G:\картинки_анимация\анимашки\E-MAIL\ROTEBLUE.GIF"/>
          <p:cNvPicPr/>
          <p:nvPr/>
        </p:nvPicPr>
        <p:blipFill>
          <a:blip r:embed="rId2"/>
          <a:stretch/>
        </p:blipFill>
        <p:spPr>
          <a:xfrm>
            <a:off x="7786800" y="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" descr="G:\картинки_анимация\анимашки\COMPUTERS\TYPLOOP0.GIF"/>
          <p:cNvPicPr/>
          <p:nvPr/>
        </p:nvPicPr>
        <p:blipFill>
          <a:blip r:embed="rId3"/>
          <a:stretch/>
        </p:blipFill>
        <p:spPr>
          <a:xfrm>
            <a:off x="6804000" y="458136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Поштові клієнти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23640" y="1844280"/>
            <a:ext cx="8280360" cy="2879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 </a:t>
            </a:r>
            <a:r>
              <a:rPr b="1" lang="uk-UA" sz="24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Microsoft Outlook Expres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айпростіший поштовий клієнт. Вона входить у стандартний пакет Windows 98, XP, Vista. Вона є в наявності на кожному комп'ютері, що працює в цій операційній системі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ю популярністю в користувачів користуються платний поштовий клієнт </a:t>
            </a:r>
            <a:r>
              <a:rPr b="1" lang="uk-UA" sz="24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The Bat!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безкоштовні поштові клієнти </a:t>
            </a:r>
            <a:r>
              <a:rPr b="1" lang="uk-UA" sz="24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Mozilla Thunderbird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rawler Email, Incredimai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5" name="Группа 12"/>
          <p:cNvGrpSpPr/>
          <p:nvPr/>
        </p:nvGrpSpPr>
        <p:grpSpPr>
          <a:xfrm>
            <a:off x="214200" y="4714920"/>
            <a:ext cx="8643960" cy="1785960"/>
            <a:chOff x="214200" y="4714920"/>
            <a:chExt cx="8643960" cy="1785960"/>
          </a:xfrm>
        </p:grpSpPr>
        <p:pic>
          <p:nvPicPr>
            <p:cNvPr id="596" name="Рисунок 7" descr="emailр.jpg"/>
            <p:cNvPicPr/>
            <p:nvPr/>
          </p:nvPicPr>
          <p:blipFill>
            <a:blip r:embed="rId2"/>
            <a:stretch/>
          </p:blipFill>
          <p:spPr>
            <a:xfrm>
              <a:off x="214200" y="4714920"/>
              <a:ext cx="86439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4" descr=""/>
            <p:cNvPicPr/>
            <p:nvPr/>
          </p:nvPicPr>
          <p:blipFill>
            <a:blip r:embed="rId3"/>
            <a:stretch/>
          </p:blipFill>
          <p:spPr>
            <a:xfrm>
              <a:off x="428400" y="4857480"/>
              <a:ext cx="1357200" cy="10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5" descr=""/>
            <p:cNvPicPr/>
            <p:nvPr/>
          </p:nvPicPr>
          <p:blipFill>
            <a:blip r:embed="rId4"/>
            <a:stretch/>
          </p:blipFill>
          <p:spPr>
            <a:xfrm>
              <a:off x="428400" y="5572080"/>
              <a:ext cx="135720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 Box 6"/>
            <p:cNvSpPr/>
            <p:nvPr/>
          </p:nvSpPr>
          <p:spPr>
            <a:xfrm>
              <a:off x="1785600" y="5857920"/>
              <a:ext cx="23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f2936"/>
                  </a:solidFill>
                  <a:latin typeface="Verdana"/>
                </a:rPr>
                <a:t>Mozilla Thunderbird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0" name="Прямоугольник 8"/>
            <p:cNvSpPr/>
            <p:nvPr/>
          </p:nvSpPr>
          <p:spPr>
            <a:xfrm>
              <a:off x="6617520" y="5715000"/>
              <a:ext cx="17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f2936"/>
                  </a:solidFill>
                  <a:latin typeface="Verdana"/>
                </a:rPr>
                <a:t>Crawler Emai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1" name="TextBox 9"/>
            <p:cNvSpPr/>
            <p:nvPr/>
          </p:nvSpPr>
          <p:spPr>
            <a:xfrm>
              <a:off x="1687320" y="5072040"/>
              <a:ext cx="19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f2936"/>
                  </a:solidFill>
                  <a:latin typeface="Verdana"/>
                </a:rPr>
                <a:t>Outlook Expres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02" name="Picture 2" descr="http://www2l.incredimail.com/english/images/splash_emo/notifiers/english/notifiers.gif"/>
            <p:cNvPicPr/>
            <p:nvPr/>
          </p:nvPicPr>
          <p:blipFill>
            <a:blip r:embed="rId5"/>
            <a:stretch/>
          </p:blipFill>
          <p:spPr>
            <a:xfrm>
              <a:off x="4286160" y="4714920"/>
              <a:ext cx="15714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Прямоугольник 11"/>
            <p:cNvSpPr/>
            <p:nvPr/>
          </p:nvSpPr>
          <p:spPr>
            <a:xfrm>
              <a:off x="4313520" y="5643720"/>
              <a:ext cx="137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f2936"/>
                  </a:solidFill>
                  <a:latin typeface="Verdana"/>
                </a:rPr>
                <a:t>incredimai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push dir="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2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1" descr="G:\картинки_анимация\анимашки\Stars\yellow_star_blinking_hw.gif"/>
          <p:cNvPicPr/>
          <p:nvPr/>
        </p:nvPicPr>
        <p:blipFill>
          <a:blip r:embed="rId2"/>
          <a:stretch/>
        </p:blipFill>
        <p:spPr>
          <a:xfrm>
            <a:off x="7667640" y="537372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П</a:t>
            </a:r>
            <a:r>
              <a:rPr b="1" lang="uk-UA" sz="3200" spc="-1" strike="noStrike">
                <a:solidFill>
                  <a:srgbClr val="ff8d3e"/>
                </a:solidFill>
                <a:latin typeface="Arial"/>
              </a:rPr>
              <a:t>З</a:t>
            </a: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 для роботи з електронною поштою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0" y="2060640"/>
            <a:ext cx="8183520" cy="3830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Поштовий сервер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комп'ютерна програма, що передає повідомлення від одного комп'ютера до іншого. </a:t>
            </a:r>
            <a:r>
              <a:rPr b="1" lang="uk-UA" sz="26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Поштові сервери працюють на вузлових комп'ютерах Інтернету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оштові клієнти повинні бути в кожного користувача e-mai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Поштовий сервер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воєрідне поштове відділення, куди надходить вхідна й вихідна кореспонденція зареєстрованих на ньому користувачів. Ця кореспонденція вкладається в “поштову скриньку” користувача – це спеціальна адреса, на яку до нього будуть надходити листа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6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П</a:t>
            </a:r>
            <a:r>
              <a:rPr b="1" lang="uk-UA" sz="3200" spc="-1" strike="noStrike">
                <a:solidFill>
                  <a:srgbClr val="ff8d3e"/>
                </a:solidFill>
                <a:latin typeface="Arial"/>
              </a:rPr>
              <a:t>З</a:t>
            </a: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 для роботи з електронною поштою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0" y="1628640"/>
            <a:ext cx="6084720" cy="482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не повідомлення, що попадає на поштовий сервер, автоматично одержує свій унікальний ідентифікаційний номер, який записуються також в log-файл сервера. Це зроблено для того, щоб у випадку виникнення проблем можна було шляхом аналізу log-файлів установити причину збою. Крім того, за допомогою ідентифікаційних номерів вистежують спамерів й електронних терористі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Прямоугольник 3"/>
          <p:cNvSpPr/>
          <p:nvPr/>
        </p:nvSpPr>
        <p:spPr>
          <a:xfrm>
            <a:off x="6084720" y="1916280"/>
            <a:ext cx="28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е вікно налаштувань серверів прийому й відправлення повідомлень за допомогою сучасного поштового клієнта Outlook Expres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0" name="Рисунок 8" descr="Outlook&#10;      Express"/>
          <p:cNvPicPr/>
          <p:nvPr/>
        </p:nvPicPr>
        <p:blipFill>
          <a:blip r:embed="rId2"/>
          <a:stretch/>
        </p:blipFill>
        <p:spPr>
          <a:xfrm>
            <a:off x="6012000" y="3716280"/>
            <a:ext cx="2881080" cy="2835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2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Як працює електронна пошта?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50560" y="1844280"/>
            <a:ext cx="8569080" cy="2143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на пошта заснована на принципі естафети. За допомогою поштової програми створюється поштове повідомлення на </a:t>
            </a:r>
            <a:r>
              <a:rPr b="1" lang="uk-UA" sz="20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локальному комп'ютері адресата №1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тім, після підключення до Інтернет, воно передається на </a:t>
            </a:r>
            <a:r>
              <a:rPr b="1" lang="uk-UA" sz="2000" spc="-1" strike="noStrike">
                <a:solidFill>
                  <a:srgbClr val="6b9f25"/>
                </a:solidFill>
                <a:latin typeface="Times New Roman"/>
                <a:ea typeface="Times New Roman"/>
              </a:rPr>
              <a:t>поштовий сервер</a:t>
            </a:r>
            <a:r>
              <a:rPr b="1" lang="en-US" sz="2000" spc="-1" strike="noStrike">
                <a:solidFill>
                  <a:srgbClr val="6b9f25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6b9f25"/>
                </a:solidFill>
                <a:latin typeface="Times New Roman"/>
                <a:ea typeface="Times New Roman"/>
              </a:rPr>
              <a:t>№</a:t>
            </a:r>
            <a:r>
              <a:rPr b="1" lang="en-US" sz="2000" spc="-1" strike="noStrike">
                <a:solidFill>
                  <a:srgbClr val="6b9f25"/>
                </a:solidFill>
                <a:latin typeface="Times New Roman"/>
                <a:ea typeface="Times New Roman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алі рухається по ланцюжку поштових серверів, поки не досягне </a:t>
            </a:r>
            <a:r>
              <a:rPr b="1" lang="uk-UA" sz="2000" spc="-1" strike="noStrike">
                <a:solidFill>
                  <a:srgbClr val="6b9f25"/>
                </a:solidFill>
                <a:latin typeface="Times New Roman"/>
                <a:ea typeface="Times New Roman"/>
              </a:rPr>
              <a:t>сервера №2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ресата. Як тільки </a:t>
            </a:r>
            <a:r>
              <a:rPr b="1" lang="uk-UA" sz="20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адресат №2 зі свого комп'ютер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ідключиться до свого поштового сервера, він автоматично одержить усе, що нагромадилося в його «поштовій скриньці» на цьому сервері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324000" y="4221000"/>
            <a:ext cx="8394480" cy="2424240"/>
            <a:chOff x="324000" y="4221000"/>
            <a:chExt cx="8394480" cy="2424240"/>
          </a:xfrm>
        </p:grpSpPr>
        <p:cxnSp>
          <p:nvCxnSpPr>
            <p:cNvPr id="614" name="Прямая со стрелкой 10"/>
            <p:cNvCxnSpPr/>
            <p:nvPr/>
          </p:nvCxnSpPr>
          <p:spPr>
            <a:xfrm>
              <a:off x="3850920" y="4941360"/>
              <a:ext cx="1215000" cy="2520"/>
            </a:xfrm>
            <a:prstGeom prst="straightConnector1">
              <a:avLst/>
            </a:prstGeom>
            <a:ln w="63360">
              <a:solidFill>
                <a:srgbClr val="ff8000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615" name="Picture 2" descr="G:\картинки_анимация\анимашки\аниме\рис. 19.jpg"/>
            <p:cNvPicPr/>
            <p:nvPr/>
          </p:nvPicPr>
          <p:blipFill>
            <a:blip r:embed="rId2"/>
            <a:stretch/>
          </p:blipFill>
          <p:spPr>
            <a:xfrm>
              <a:off x="7182000" y="5645160"/>
              <a:ext cx="1536480" cy="1000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16" name="Прямая со стрелкой 13"/>
            <p:cNvCxnSpPr/>
            <p:nvPr/>
          </p:nvCxnSpPr>
          <p:spPr>
            <a:xfrm>
              <a:off x="6516720" y="5013000"/>
              <a:ext cx="961200" cy="578520"/>
            </a:xfrm>
            <a:prstGeom prst="straightConnector1">
              <a:avLst/>
            </a:prstGeom>
            <a:ln w="63360">
              <a:solidFill>
                <a:srgbClr val="ff8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17" name="Прямая со стрелкой 16"/>
            <p:cNvCxnSpPr/>
            <p:nvPr/>
          </p:nvCxnSpPr>
          <p:spPr>
            <a:xfrm flipH="1">
              <a:off x="1042560" y="5013360"/>
              <a:ext cx="1153440" cy="497520"/>
            </a:xfrm>
            <a:prstGeom prst="straightConnector1">
              <a:avLst/>
            </a:prstGeom>
            <a:ln w="63360">
              <a:solidFill>
                <a:srgbClr val="ff8000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618" name="Picture 3" descr="G:\картинки_анимация\анимашки\аниме\рисунок14.jpg"/>
            <p:cNvPicPr/>
            <p:nvPr/>
          </p:nvPicPr>
          <p:blipFill>
            <a:blip r:embed="rId3"/>
            <a:stretch/>
          </p:blipFill>
          <p:spPr>
            <a:xfrm>
              <a:off x="324000" y="5573880"/>
              <a:ext cx="1563480" cy="107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9" name=""/>
            <p:cNvGrpSpPr/>
            <p:nvPr/>
          </p:nvGrpSpPr>
          <p:grpSpPr>
            <a:xfrm>
              <a:off x="2411280" y="4221000"/>
              <a:ext cx="1571760" cy="1663920"/>
              <a:chOff x="2411280" y="4221000"/>
              <a:chExt cx="1571760" cy="1663920"/>
            </a:xfrm>
          </p:grpSpPr>
          <p:grpSp>
            <p:nvGrpSpPr>
              <p:cNvPr id="620" name="Группа 8"/>
              <p:cNvGrpSpPr/>
              <p:nvPr/>
            </p:nvGrpSpPr>
            <p:grpSpPr>
              <a:xfrm>
                <a:off x="2411280" y="4221000"/>
                <a:ext cx="1571760" cy="1251000"/>
                <a:chOff x="2411280" y="4221000"/>
                <a:chExt cx="1571760" cy="1251000"/>
              </a:xfrm>
            </p:grpSpPr>
            <p:pic>
              <p:nvPicPr>
                <p:cNvPr id="621" name="Picture 1" descr="C:\Program Files\Microsoft Office\MEDIA\CAGCAT10\j0285750.wmf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11280" y="4506480"/>
                  <a:ext cx="1571760" cy="9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2" name="TextBox 6"/>
                <p:cNvSpPr/>
                <p:nvPr/>
              </p:nvSpPr>
              <p:spPr>
                <a:xfrm>
                  <a:off x="2625480" y="4221000"/>
                  <a:ext cx="114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Verdana"/>
                    </a:rPr>
                    <a:t>сервер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2484360" y="5516640"/>
                <a:ext cx="115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f2936"/>
                    </a:solidFill>
                    <a:latin typeface="Arial"/>
                  </a:rPr>
                  <a:t>ukr.net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148360" y="4221000"/>
              <a:ext cx="1358640" cy="1592280"/>
              <a:chOff x="5148360" y="4221000"/>
              <a:chExt cx="1358640" cy="1592280"/>
            </a:xfrm>
          </p:grpSpPr>
          <p:grpSp>
            <p:nvGrpSpPr>
              <p:cNvPr id="625" name="Группа 7"/>
              <p:cNvGrpSpPr/>
              <p:nvPr/>
            </p:nvGrpSpPr>
            <p:grpSpPr>
              <a:xfrm>
                <a:off x="5148360" y="4221000"/>
                <a:ext cx="1358640" cy="1121040"/>
                <a:chOff x="5148360" y="4221000"/>
                <a:chExt cx="1358640" cy="1121040"/>
              </a:xfrm>
            </p:grpSpPr>
            <p:pic>
              <p:nvPicPr>
                <p:cNvPr id="626" name="Picture 1" descr="C:\Program Files\Microsoft Office\MEDIA\CAGCAT10\j0285750.wmf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148360" y="4506840"/>
                  <a:ext cx="1358640" cy="83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7" name="TextBox 5"/>
                <p:cNvSpPr/>
                <p:nvPr/>
              </p:nvSpPr>
              <p:spPr>
                <a:xfrm>
                  <a:off x="5148360" y="4221000"/>
                  <a:ext cx="114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Verdana"/>
                    </a:rPr>
                    <a:t>сервер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28" name=""/>
              <p:cNvSpPr/>
              <p:nvPr/>
            </p:nvSpPr>
            <p:spPr>
              <a:xfrm>
                <a:off x="5292720" y="5445000"/>
                <a:ext cx="9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f2936"/>
                    </a:solidFill>
                    <a:latin typeface="Arial"/>
                  </a:rPr>
                  <a:t>mail.ru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>
    <p:push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П</a:t>
            </a:r>
            <a:r>
              <a:rPr b="1" lang="uk-UA" sz="3200" spc="-1" strike="noStrike">
                <a:solidFill>
                  <a:srgbClr val="ff8d3e"/>
                </a:solidFill>
                <a:latin typeface="Arial"/>
              </a:rPr>
              <a:t>З</a:t>
            </a: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 для роботи з електронною поштою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0" y="1714680"/>
            <a:ext cx="7143840" cy="4714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шу поштову програму для пересилання повідомлень в 1971 році створив Рей Томлінсон, співробітник компанії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t Beranek and Newman, In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визнанню автора електронної пошти, тестуючи програму, він відправляв сам собі з комп'ютера на комп'ютер безглузді набори бук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якийсь час завдяки Ларрі Робертса з'явилася більше проста програма для роботи з поштою, яку зараз ми б назвали “поштовим клієнтом”. Вона дозволяла створювати й сортувати списки листів, користувач міг вибирати й читати необхідне повідомлення, зберігати послання у файлі, а також пересилати електронні листи на іншу адресу або автоматично відповідати на отримане посла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1" name="Picture 1" descr="G:\картинки_анимация\анимашки\E-MAIL\E-ME4.GIF"/>
          <p:cNvPicPr/>
          <p:nvPr/>
        </p:nvPicPr>
        <p:blipFill>
          <a:blip r:embed="rId2"/>
          <a:stretch/>
        </p:blipFill>
        <p:spPr>
          <a:xfrm>
            <a:off x="7500960" y="278604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Протоколи електронної пошти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ля </a:t>
            </a:r>
            <a:r>
              <a:rPr b="1" lang="uk-UA" sz="2000" spc="-1" strike="noStrike" u="sng">
                <a:solidFill>
                  <a:srgbClr val="f07f09"/>
                </a:solidFill>
                <a:uFillTx/>
                <a:latin typeface="Verdana"/>
              </a:rPr>
              <a:t>відправлення на сервер</a:t>
            </a:r>
            <a:r>
              <a:rPr b="1" lang="uk-UA" sz="2000" spc="-1" strike="noStrike">
                <a:solidFill>
                  <a:srgbClr val="f07f09"/>
                </a:solidFill>
                <a:latin typeface="Verdana"/>
              </a:rPr>
              <a:t> і для пересилання між серверами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икористають протокол, що називається </a:t>
            </a:r>
            <a:r>
              <a:rPr b="1" lang="uk-UA" sz="2000" spc="-1" strike="noStrike">
                <a:solidFill>
                  <a:srgbClr val="9f2936"/>
                </a:solidFill>
                <a:latin typeface="Verdana"/>
              </a:rPr>
              <a:t>SMTP </a:t>
            </a:r>
            <a:r>
              <a:rPr b="1" i="1" lang="uk-UA" sz="2000" spc="-1" strike="noStrike">
                <a:solidFill>
                  <a:srgbClr val="9f2936"/>
                </a:solidFill>
                <a:latin typeface="Verdana"/>
              </a:rPr>
              <a:t>(Simple Mail Transfer Protocol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— найпростіший протокол передачі повідомлень). Він не вимагає ідентифікації особистості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f2936"/>
                </a:solidFill>
                <a:latin typeface="Verdana"/>
              </a:rPr>
              <a:t>РОР3 </a:t>
            </a:r>
            <a:r>
              <a:rPr b="1" i="1" lang="uk-UA" sz="2000" spc="-1" strike="noStrike">
                <a:solidFill>
                  <a:srgbClr val="9f2936"/>
                </a:solidFill>
                <a:latin typeface="Verdana"/>
              </a:rPr>
              <a:t>(Post Office Protocol</a:t>
            </a:r>
            <a:r>
              <a:rPr b="1" i="1" lang="uk-UA" sz="2000" spc="-1" strike="noStrike">
                <a:solidFill>
                  <a:srgbClr val="9f2936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9f2936"/>
                </a:solidFill>
                <a:latin typeface="Arial"/>
              </a:rPr>
              <a:t>v.3</a:t>
            </a:r>
            <a:r>
              <a:rPr b="1" i="1" lang="uk-UA" sz="2000" spc="-1" strike="noStrike">
                <a:solidFill>
                  <a:srgbClr val="9f2936"/>
                </a:solidFill>
                <a:latin typeface="Verdana"/>
              </a:rPr>
              <a:t>)</a:t>
            </a:r>
            <a:r>
              <a:rPr b="1" i="1" lang="uk-UA" sz="2000" spc="-1" strike="noStrike">
                <a:solidFill>
                  <a:srgbClr val="f9b268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отокол поштової відділення, який використовується </a:t>
            </a:r>
            <a:r>
              <a:rPr b="1" lang="uk-UA" sz="2000" spc="-1" strike="noStrike" u="sng">
                <a:solidFill>
                  <a:srgbClr val="f07f09"/>
                </a:solidFill>
                <a:uFillTx/>
                <a:latin typeface="Verdana"/>
              </a:rPr>
              <a:t>для отримання пошти</a:t>
            </a:r>
            <a:r>
              <a:rPr b="1" lang="en-US" sz="2000" spc="-1" strike="noStrike">
                <a:solidFill>
                  <a:srgbClr val="f07f09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поштової скриньки. Цей протокол під час сеансу зв'язку між робочою станцією і сервером ідентифікує особистість власника скриньки, тобто вимагає реєстраційне ім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я </a:t>
            </a:r>
            <a:r>
              <a:rPr b="1" i="1" lang="uk-UA" sz="2000" spc="-1" strike="noStrike">
                <a:solidFill>
                  <a:srgbClr val="f07f09"/>
                </a:solidFill>
                <a:latin typeface="Verdana"/>
              </a:rPr>
              <a:t>(Login)</a:t>
            </a:r>
            <a:r>
              <a:rPr b="1" i="1" lang="uk-UA" sz="2000" spc="-1" strike="noStrike">
                <a:solidFill>
                  <a:srgbClr val="f9b268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 пароль </a:t>
            </a:r>
            <a:r>
              <a:rPr b="1" i="1" lang="uk-UA" sz="2000" spc="-1" strike="noStrike">
                <a:solidFill>
                  <a:srgbClr val="f07f09"/>
                </a:solidFill>
                <a:latin typeface="Verdana"/>
              </a:rPr>
              <a:t>(Password),</a:t>
            </a:r>
            <a:r>
              <a:rPr b="1" i="1" lang="uk-UA" sz="2000" spc="-1" strike="noStrike">
                <a:solidFill>
                  <a:srgbClr val="f9b268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що підтверджує правочинність використання імені, забезпечує зв'язок власника з його персональним ящиком, виконуючи функцію захисту інформації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штові п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отокол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9f2936"/>
                </a:solidFill>
                <a:latin typeface="Verdana"/>
              </a:rPr>
              <a:t>SMTP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й </a:t>
            </a:r>
            <a:r>
              <a:rPr b="1" lang="uk-UA" sz="2000" spc="-1" strike="noStrike">
                <a:solidFill>
                  <a:srgbClr val="9f2936"/>
                </a:solidFill>
                <a:latin typeface="Verdana"/>
              </a:rPr>
              <a:t>POP3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</a:t>
            </a:r>
            <a:r>
              <a:rPr b="1" lang="uk-UA" sz="2000" spc="-1" strike="noStrike">
                <a:solidFill>
                  <a:srgbClr val="f07f09"/>
                </a:solidFill>
                <a:latin typeface="Verdana"/>
              </a:rPr>
              <a:t>прикладними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ротоколами, тобто вони </a:t>
            </a:r>
            <a:r>
              <a:rPr b="1" lang="uk-UA" sz="2000" spc="-1" strike="noStrike">
                <a:solidFill>
                  <a:srgbClr val="f07f09"/>
                </a:solidFill>
                <a:latin typeface="Verdana"/>
              </a:rPr>
              <a:t>надбудовані над базовими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ротоколами Інтернету </a:t>
            </a:r>
            <a:r>
              <a:rPr b="1" lang="uk-UA" sz="2000" spc="-1" strike="noStrike">
                <a:solidFill>
                  <a:srgbClr val="f07f09"/>
                </a:solidFill>
                <a:latin typeface="Verdana"/>
              </a:rPr>
              <a:t>TCP/IP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183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Arial"/>
              </a:rPr>
              <a:t>П</a:t>
            </a: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ереваги електронної пошти</a:t>
            </a:r>
            <a:r>
              <a:rPr b="1" lang="uk-UA" sz="3200" spc="-1" strike="noStrike">
                <a:solidFill>
                  <a:srgbClr val="ff8d3e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635" name="Picture 1" descr="G:\картинки_анимация\анимашки\аниме\cat185.gif"/>
          <p:cNvPicPr/>
          <p:nvPr/>
        </p:nvPicPr>
        <p:blipFill>
          <a:blip r:embed="rId2"/>
          <a:stretch/>
        </p:blipFill>
        <p:spPr>
          <a:xfrm>
            <a:off x="179280" y="3213000"/>
            <a:ext cx="870120" cy="149544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 txBox="1"/>
          <p:nvPr/>
        </p:nvSpPr>
        <p:spPr>
          <a:xfrm>
            <a:off x="856800" y="1773000"/>
            <a:ext cx="828684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Швидкість пересилання повідомлен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Електронний лист може містити не  тільки текст,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uk-UA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ле й вкладені файли  (програми, графіку, звук..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Простота й дешевин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Можливість шифровки листі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Можливість автоматичної обробки  листі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 Можливість масових розсилан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 Можливість пересилання  повідомлення на інші адрес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500"/>
                            </p:stCondLst>
                            <p:childTnLst>
                              <p:par>
                                <p:cTn id="4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«Собачка» @: історія й </a:t>
            </a:r>
            <a:br>
              <a:rPr sz="3200"/>
            </a:b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                            сучасність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1773000"/>
            <a:ext cx="8785080" cy="3097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7000"/>
          </a:bodyPr>
          <a:p>
            <a:pPr marL="256680" indent="-2566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лінсон, якого називають творцем електронної пошти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 значка @, зробив так, що історії «собачки» й e-mail досить тісно переплелис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шрифті, який використовули ченці в Середньовіччя, буква «d» мала невеликий «хвостик», що робило її схожої на цифру «6» у дзеркальному відбитті. Та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чення латинського «</a:t>
            </a:r>
            <a:r>
              <a:rPr b="1" lang="uk-UA" sz="24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ad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(“в”,”на”) досить швидко перетворилося в </a:t>
            </a:r>
            <a:r>
              <a:rPr b="1" lang="uk-UA" sz="24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@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з символ </a:t>
            </a:r>
            <a:r>
              <a:rPr b="1" lang="uk-UA" sz="24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@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ється як</a:t>
            </a:r>
            <a:r>
              <a:rPr b="1" lang="uk-UA" sz="24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 “ат”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гл. </a:t>
            </a:r>
            <a:r>
              <a:rPr b="1" lang="ru-RU" sz="2400" spc="-1" strike="noStrike">
                <a:solidFill>
                  <a:srgbClr val="f07f09"/>
                </a:solidFill>
                <a:latin typeface="Times New Roman"/>
              </a:rPr>
              <a:t>commercial a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322920" y="5229360"/>
            <a:ext cx="8547840" cy="1461600"/>
            <a:chOff x="322920" y="5229360"/>
            <a:chExt cx="8547840" cy="1461600"/>
          </a:xfrm>
        </p:grpSpPr>
        <p:pic>
          <p:nvPicPr>
            <p:cNvPr id="640" name="Picture 1" descr="G:\картинки_анимация\анимашки\аниме\рис.15.jpg"/>
            <p:cNvPicPr/>
            <p:nvPr/>
          </p:nvPicPr>
          <p:blipFill>
            <a:blip r:embed="rId2"/>
            <a:stretch/>
          </p:blipFill>
          <p:spPr>
            <a:xfrm>
              <a:off x="536400" y="5586480"/>
              <a:ext cx="1105200" cy="11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2" descr="G:\картинки_анимация\анимашки\аниме\рис.21.jpg"/>
            <p:cNvPicPr/>
            <p:nvPr/>
          </p:nvPicPr>
          <p:blipFill>
            <a:blip r:embed="rId3"/>
            <a:stretch/>
          </p:blipFill>
          <p:spPr>
            <a:xfrm>
              <a:off x="2938320" y="5378400"/>
              <a:ext cx="1143000" cy="85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3" descr="G:\картинки_анимация\анимашки\аниме\рисунок11.jpg"/>
            <p:cNvPicPr/>
            <p:nvPr/>
          </p:nvPicPr>
          <p:blipFill>
            <a:blip r:embed="rId4"/>
            <a:stretch/>
          </p:blipFill>
          <p:spPr>
            <a:xfrm>
              <a:off x="7394400" y="5729040"/>
              <a:ext cx="990720" cy="95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2" descr="G:\картинки_анимация\анимашки\аниме\рис.21.jpg"/>
            <p:cNvPicPr/>
            <p:nvPr/>
          </p:nvPicPr>
          <p:blipFill>
            <a:blip r:embed="rId5"/>
            <a:stretch/>
          </p:blipFill>
          <p:spPr>
            <a:xfrm>
              <a:off x="5099040" y="5378400"/>
              <a:ext cx="1143000" cy="8568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44" name="Прямая со стрелкой 8"/>
            <p:cNvCxnSpPr/>
            <p:nvPr/>
          </p:nvCxnSpPr>
          <p:spPr>
            <a:xfrm>
              <a:off x="6322680" y="5810040"/>
              <a:ext cx="857880" cy="205200"/>
            </a:xfrm>
            <a:prstGeom prst="straightConnector1">
              <a:avLst/>
            </a:prstGeom>
            <a:ln w="47520">
              <a:solidFill>
                <a:srgbClr val="00b05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45" name="Прямая со стрелкой 11"/>
            <p:cNvCxnSpPr/>
            <p:nvPr/>
          </p:nvCxnSpPr>
          <p:spPr>
            <a:xfrm flipV="1">
              <a:off x="1714320" y="5809320"/>
              <a:ext cx="1043640" cy="207000"/>
            </a:xfrm>
            <a:prstGeom prst="straightConnector1">
              <a:avLst/>
            </a:prstGeom>
            <a:ln w="42480">
              <a:solidFill>
                <a:srgbClr val="00b0f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646" name="Прямоугольник 15"/>
            <p:cNvSpPr/>
            <p:nvPr/>
          </p:nvSpPr>
          <p:spPr>
            <a:xfrm>
              <a:off x="322920" y="5229360"/>
              <a:ext cx="16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Verdana"/>
                </a:rPr>
                <a:t>Відправник</a:t>
              </a:r>
              <a:r>
                <a:rPr b="0" lang="uk-UA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Прямоугольник 16"/>
            <p:cNvSpPr/>
            <p:nvPr/>
          </p:nvSpPr>
          <p:spPr>
            <a:xfrm>
              <a:off x="3867480" y="617040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Verdana"/>
                </a:rPr>
                <a:t>Інтернет</a:t>
              </a:r>
              <a:r>
                <a:rPr b="0" lang="uk-UA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Прямоугольник 17"/>
            <p:cNvSpPr/>
            <p:nvPr/>
          </p:nvSpPr>
          <p:spPr>
            <a:xfrm>
              <a:off x="7256160" y="5300640"/>
              <a:ext cx="16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Verdana"/>
                </a:rPr>
                <a:t>Одержувач</a:t>
              </a:r>
              <a:r>
                <a:rPr b="0" lang="uk-UA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649" name="Прямая со стрелкой 11"/>
            <p:cNvCxnSpPr>
              <a:stCxn id="641" idx="3"/>
              <a:endCxn id="643" idx="1"/>
            </p:cNvCxnSpPr>
            <p:nvPr/>
          </p:nvCxnSpPr>
          <p:spPr>
            <a:xfrm>
              <a:off x="4080960" y="5806800"/>
              <a:ext cx="1018440" cy="1080"/>
            </a:xfrm>
            <a:prstGeom prst="straightConnector1">
              <a:avLst/>
            </a:prstGeom>
            <a:ln w="4248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p:transition>
    <p:push dir="d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55008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Електронна  пошта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1928880"/>
            <a:ext cx="9144000" cy="27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часний світ без електронної пошти  уявити вже неможливо. Сотні мільйонів поштових скриньок, трильйони повідомлень щорічно, терабайти даних щодня. Адреса електронної пошти стала для сучасного спілкування настільки ж обов'язковим, як домашня адреса й номер телефон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9" name="Picture 2" descr="G:\картинки_анимация\анимашки\E-MAIL\BOTTLEMAIL.GIF"/>
          <p:cNvPicPr/>
          <p:nvPr/>
        </p:nvPicPr>
        <p:blipFill>
          <a:blip r:embed="rId2"/>
          <a:stretch/>
        </p:blipFill>
        <p:spPr>
          <a:xfrm>
            <a:off x="6357960" y="4500720"/>
            <a:ext cx="2108160" cy="16858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" descr="G:\картинки_анимация\анимашки\E-MAIL\ROTEBLUE.GIF"/>
          <p:cNvPicPr/>
          <p:nvPr/>
        </p:nvPicPr>
        <p:blipFill>
          <a:blip r:embed="rId3"/>
          <a:stretch/>
        </p:blipFill>
        <p:spPr>
          <a:xfrm>
            <a:off x="7786800" y="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«Собачка» @: історія                    </a:t>
            </a:r>
            <a:br>
              <a:rPr sz="3200"/>
            </a:b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                         й сучасність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79280" y="1628280"/>
            <a:ext cx="8569440" cy="4248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9000"/>
          </a:bodyPr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поху Відродження символ @ став використатися для позначення ціни, а в епоху індустріальної революції @ став незмінно зустрічатися в бухгалтерських звітах.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имвол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використовувався в комерційних розрахунках: запи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@ $4 = $12 означав 3 шт. по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 разом 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.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 «собачка», разом з $, #, % й іншими «рахівничими» знаками з майже забутою семантикою перекочувала на клавіатур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бачка» мирно чекала своєї зоряної години, поки на неї випадково не впав погляд Рея Томлінсона. В пошуках значка-роздільника у поштовій адресі він зупинився на значку @, який був на клавіатурі, але дуже рідко використовувався, тому його було важко сплутати з іншими знак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2" name="Picture 1" descr="G:\картинки_анимация\анимашки\E-MAIL\ROTERED.GIF"/>
          <p:cNvPicPr/>
          <p:nvPr/>
        </p:nvPicPr>
        <p:blipFill>
          <a:blip r:embed="rId2"/>
          <a:stretch/>
        </p:blipFill>
        <p:spPr>
          <a:xfrm>
            <a:off x="4140360" y="58053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714480" y="285480"/>
            <a:ext cx="185724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Спам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250920" y="1844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тя ж «поштового спаму» з'явилося на світ завдяки активній діяльності подружньої пари американських адвокатів Лоренса Кантера й Марти Сигел: на початку 1978 р. їхня компанія буквально потопила нечисленних тоді користувачів Мережі в масі рекламних листів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зручність, доступність і практичну безкоштовність електронної пошти, так само як і за користування іншими «безкоштовними» ресурсами Інтернету, вам неминуче доведеться платити, витрачаючи величезні зусилля на боротьбу з рекламними листами, які будуть щодня звалюватися у вашу поштову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иньк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5" name="Picture 2" descr="G:\картинки_анимация\анимашки\аниме\рисунок8.jpg"/>
          <p:cNvPicPr/>
          <p:nvPr/>
        </p:nvPicPr>
        <p:blipFill>
          <a:blip r:embed="rId2"/>
          <a:stretch/>
        </p:blipFill>
        <p:spPr>
          <a:xfrm>
            <a:off x="7596360" y="5373720"/>
            <a:ext cx="1214280" cy="1252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4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Подумай і дай</a:t>
            </a:r>
            <a:r>
              <a:rPr b="1" lang="uk-UA" sz="3200" spc="-1" strike="noStrike">
                <a:solidFill>
                  <a:srgbClr val="ff8d3e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відпові</a:t>
            </a:r>
            <a:r>
              <a:rPr b="1" lang="uk-UA" sz="3200" spc="-1" strike="noStrike">
                <a:solidFill>
                  <a:srgbClr val="ff8d3e"/>
                </a:solidFill>
                <a:latin typeface="Arial"/>
              </a:rPr>
              <a:t>дь</a:t>
            </a: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: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68360" y="1484280"/>
            <a:ext cx="8175600" cy="5113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таке електронна пошт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то автор електронної пошт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таке поштовий клієнт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таке поштовий сервер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записується поштова адрес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протоколи використовуються для отримання і відправки повідомлень пошт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таке спа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потрібно робити зі спамовими листам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можна зашифрувати повідомлення електронної пошт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Прямоугольник 4" descr=""/>
          <p:cNvPicPr/>
          <p:nvPr/>
        </p:nvPicPr>
        <p:blipFill>
          <a:blip r:embed="rId2"/>
          <a:stretch/>
        </p:blipFill>
        <p:spPr>
          <a:xfrm>
            <a:off x="755640" y="5761080"/>
            <a:ext cx="7699320" cy="10969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60480" y="499680"/>
            <a:ext cx="81835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Сьогодні ми довідаємося: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522" name="Группа 26"/>
          <p:cNvGrpSpPr/>
          <p:nvPr/>
        </p:nvGrpSpPr>
        <p:grpSpPr>
          <a:xfrm>
            <a:off x="1000080" y="2000160"/>
            <a:ext cx="7286760" cy="3019680"/>
            <a:chOff x="1000080" y="2000160"/>
            <a:chExt cx="7286760" cy="3019680"/>
          </a:xfrm>
        </p:grpSpPr>
        <p:sp>
          <p:nvSpPr>
            <p:cNvPr id="523" name="AutoShape 88"/>
            <p:cNvSpPr/>
            <p:nvPr/>
          </p:nvSpPr>
          <p:spPr>
            <a:xfrm>
              <a:off x="1428480" y="2214360"/>
              <a:ext cx="6858360" cy="519480"/>
            </a:xfrm>
            <a:prstGeom prst="roundRect">
              <a:avLst>
                <a:gd name="adj" fmla="val 21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07f09">
                    <a:alpha val="50196"/>
                  </a:srgbClr>
                </a:gs>
              </a:gsLst>
              <a:lin ang="0"/>
            </a:gradFill>
            <a:ln w="3816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4" name="AutoShape 88"/>
            <p:cNvSpPr/>
            <p:nvPr/>
          </p:nvSpPr>
          <p:spPr>
            <a:xfrm>
              <a:off x="1428480" y="2785680"/>
              <a:ext cx="6858360" cy="519480"/>
            </a:xfrm>
            <a:prstGeom prst="roundRect">
              <a:avLst>
                <a:gd name="adj" fmla="val 1865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07f09">
                    <a:alpha val="50196"/>
                  </a:srgbClr>
                </a:gs>
              </a:gsLst>
              <a:lin ang="0"/>
            </a:gradFill>
            <a:ln w="3816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5" name="AutoShape 88"/>
            <p:cNvSpPr/>
            <p:nvPr/>
          </p:nvSpPr>
          <p:spPr>
            <a:xfrm>
              <a:off x="1428480" y="3357360"/>
              <a:ext cx="6858360" cy="519480"/>
            </a:xfrm>
            <a:prstGeom prst="roundRect">
              <a:avLst>
                <a:gd name="adj" fmla="val 2588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07f09">
                    <a:alpha val="50196"/>
                  </a:srgbClr>
                </a:gs>
              </a:gsLst>
              <a:lin ang="0"/>
            </a:gradFill>
            <a:ln w="3816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6" name="AutoShape 88"/>
            <p:cNvSpPr/>
            <p:nvPr/>
          </p:nvSpPr>
          <p:spPr>
            <a:xfrm>
              <a:off x="1428480" y="3929040"/>
              <a:ext cx="6858360" cy="519480"/>
            </a:xfrm>
            <a:prstGeom prst="roundRect">
              <a:avLst>
                <a:gd name="adj" fmla="val 21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07f09">
                    <a:alpha val="50196"/>
                  </a:srgbClr>
                </a:gs>
              </a:gsLst>
              <a:lin ang="0"/>
            </a:gradFill>
            <a:ln w="3816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7" name="AutoShape 88"/>
            <p:cNvSpPr/>
            <p:nvPr/>
          </p:nvSpPr>
          <p:spPr>
            <a:xfrm>
              <a:off x="1428480" y="4500360"/>
              <a:ext cx="6858360" cy="519480"/>
            </a:xfrm>
            <a:prstGeom prst="roundRect">
              <a:avLst>
                <a:gd name="adj" fmla="val 234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07f09">
                    <a:alpha val="50196"/>
                  </a:srgbClr>
                </a:gs>
              </a:gsLst>
              <a:lin ang="0"/>
            </a:gradFill>
            <a:ln w="3816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8" name="Овал 8"/>
            <p:cNvSpPr/>
            <p:nvPr/>
          </p:nvSpPr>
          <p:spPr>
            <a:xfrm>
              <a:off x="1000080" y="2000160"/>
              <a:ext cx="857160" cy="35712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9" name="Овал 9"/>
            <p:cNvSpPr/>
            <p:nvPr/>
          </p:nvSpPr>
          <p:spPr>
            <a:xfrm>
              <a:off x="1000080" y="3143160"/>
              <a:ext cx="857160" cy="35712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0" name="Овал 10"/>
            <p:cNvSpPr/>
            <p:nvPr/>
          </p:nvSpPr>
          <p:spPr>
            <a:xfrm>
              <a:off x="1000080" y="3714480"/>
              <a:ext cx="857160" cy="35712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Овал 11"/>
            <p:cNvSpPr/>
            <p:nvPr/>
          </p:nvSpPr>
          <p:spPr>
            <a:xfrm>
              <a:off x="1000080" y="4286160"/>
              <a:ext cx="857160" cy="35712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2" name="Овал 12"/>
            <p:cNvSpPr/>
            <p:nvPr/>
          </p:nvSpPr>
          <p:spPr>
            <a:xfrm>
              <a:off x="1000080" y="2571480"/>
              <a:ext cx="857160" cy="35712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3" name="TextBox 13"/>
            <p:cNvSpPr/>
            <p:nvPr/>
          </p:nvSpPr>
          <p:spPr>
            <a:xfrm>
              <a:off x="1214280" y="200016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TextBox 15"/>
            <p:cNvSpPr/>
            <p:nvPr/>
          </p:nvSpPr>
          <p:spPr>
            <a:xfrm>
              <a:off x="1285560" y="314316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5" name="TextBox 16"/>
            <p:cNvSpPr/>
            <p:nvPr/>
          </p:nvSpPr>
          <p:spPr>
            <a:xfrm>
              <a:off x="1214280" y="25714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6" name="TextBox 17"/>
            <p:cNvSpPr/>
            <p:nvPr/>
          </p:nvSpPr>
          <p:spPr>
            <a:xfrm>
              <a:off x="1214280" y="37144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7" name="TextBox 18"/>
            <p:cNvSpPr/>
            <p:nvPr/>
          </p:nvSpPr>
          <p:spPr>
            <a:xfrm>
              <a:off x="1214280" y="428616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TextBox 19"/>
            <p:cNvSpPr/>
            <p:nvPr/>
          </p:nvSpPr>
          <p:spPr>
            <a:xfrm>
              <a:off x="1928520" y="2285640"/>
              <a:ext cx="607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Verdana"/>
                </a:rPr>
                <a:t>Що таке електронна пошта?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9" name="TextBox 20"/>
            <p:cNvSpPr/>
            <p:nvPr/>
          </p:nvSpPr>
          <p:spPr>
            <a:xfrm>
              <a:off x="1214280" y="3214440"/>
              <a:ext cx="4284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0" name="TextBox 21"/>
            <p:cNvSpPr/>
            <p:nvPr/>
          </p:nvSpPr>
          <p:spPr>
            <a:xfrm>
              <a:off x="1928520" y="2857320"/>
              <a:ext cx="60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Verdana"/>
                </a:rPr>
                <a:t>Що таке адреса електронної пошти?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1" name="TextBox 22"/>
            <p:cNvSpPr/>
            <p:nvPr/>
          </p:nvSpPr>
          <p:spPr>
            <a:xfrm>
              <a:off x="1928520" y="3428640"/>
              <a:ext cx="60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Verdana"/>
                </a:rPr>
                <a:t>Що таке П</a:t>
              </a: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r>
                <a:rPr b="1" lang="uk-UA" sz="1800" spc="-1" strike="noStrike">
                  <a:solidFill>
                    <a:srgbClr val="000000"/>
                  </a:solidFill>
                  <a:latin typeface="Verdana"/>
                </a:rPr>
                <a:t> для електронно</a:t>
              </a: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ї</a:t>
              </a:r>
              <a:r>
                <a:rPr b="1" lang="uk-UA" sz="1800" spc="-1" strike="noStrike">
                  <a:solidFill>
                    <a:srgbClr val="000000"/>
                  </a:solidFill>
                  <a:latin typeface="Verdana"/>
                </a:rPr>
                <a:t> пошт</a:t>
              </a: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uk-UA" sz="1800" spc="-1" strike="noStrike">
                  <a:solidFill>
                    <a:srgbClr val="000000"/>
                  </a:solidFill>
                  <a:latin typeface="Verdana"/>
                </a:rPr>
                <a:t>?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2" name="TextBox 23"/>
            <p:cNvSpPr/>
            <p:nvPr/>
          </p:nvSpPr>
          <p:spPr>
            <a:xfrm>
              <a:off x="1928520" y="4000320"/>
              <a:ext cx="60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Verdana"/>
                </a:rPr>
                <a:t>Як працює електронна пошта?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3" name="TextBox 24"/>
            <p:cNvSpPr/>
            <p:nvPr/>
          </p:nvSpPr>
          <p:spPr>
            <a:xfrm>
              <a:off x="2000160" y="4572000"/>
              <a:ext cx="60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Verdana"/>
                </a:rPr>
                <a:t>Що таке протокол електронної пошти?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44" name="Picture 1" descr="G:\картинки_анимация\анимашки\E-MAIL\ROTEBLUE.GIF"/>
          <p:cNvPicPr/>
          <p:nvPr/>
        </p:nvPicPr>
        <p:blipFill>
          <a:blip r:embed="rId2"/>
          <a:stretch/>
        </p:blipFill>
        <p:spPr>
          <a:xfrm>
            <a:off x="7786800" y="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Що таке пошта?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28760" y="1428840"/>
            <a:ext cx="8183520" cy="1684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а - це традиційний засіб зв'язку, що дозволяє обмінюватися інформацією абонента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7" name="Группа 23"/>
          <p:cNvGrpSpPr/>
          <p:nvPr/>
        </p:nvGrpSpPr>
        <p:grpSpPr>
          <a:xfrm>
            <a:off x="1143000" y="3214800"/>
            <a:ext cx="6977160" cy="2872080"/>
            <a:chOff x="1143000" y="3214800"/>
            <a:chExt cx="6977160" cy="2872080"/>
          </a:xfrm>
        </p:grpSpPr>
        <p:grpSp>
          <p:nvGrpSpPr>
            <p:cNvPr id="548" name="Группа 12"/>
            <p:cNvGrpSpPr/>
            <p:nvPr/>
          </p:nvGrpSpPr>
          <p:grpSpPr>
            <a:xfrm>
              <a:off x="1722240" y="3214800"/>
              <a:ext cx="5787000" cy="2369520"/>
              <a:chOff x="1722240" y="3214800"/>
              <a:chExt cx="5787000" cy="2369520"/>
            </a:xfrm>
          </p:grpSpPr>
          <p:pic>
            <p:nvPicPr>
              <p:cNvPr id="549" name="Picture 9" descr="home14"/>
              <p:cNvPicPr/>
              <p:nvPr/>
            </p:nvPicPr>
            <p:blipFill>
              <a:blip r:embed="rId2"/>
              <a:stretch/>
            </p:blipFill>
            <p:spPr>
              <a:xfrm>
                <a:off x="1722240" y="3214800"/>
                <a:ext cx="2150640" cy="223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0" name="Группа 11"/>
              <p:cNvGrpSpPr/>
              <p:nvPr/>
            </p:nvGrpSpPr>
            <p:grpSpPr>
              <a:xfrm>
                <a:off x="2085480" y="3365280"/>
                <a:ext cx="5423760" cy="2219040"/>
                <a:chOff x="2085480" y="3365280"/>
                <a:chExt cx="5423760" cy="2219040"/>
              </a:xfrm>
            </p:grpSpPr>
            <p:grpSp>
              <p:nvGrpSpPr>
                <p:cNvPr id="551" name="Группа 5"/>
                <p:cNvGrpSpPr/>
                <p:nvPr/>
              </p:nvGrpSpPr>
              <p:grpSpPr>
                <a:xfrm>
                  <a:off x="3719880" y="4149360"/>
                  <a:ext cx="1919520" cy="550800"/>
                  <a:chOff x="3719880" y="4149360"/>
                  <a:chExt cx="1919520" cy="550800"/>
                </a:xfrm>
              </p:grpSpPr>
              <p:pic>
                <p:nvPicPr>
                  <p:cNvPr id="552" name="Picture 1" descr="G:\картинки_анимация\анимашки\ARROWS\3D\ARROW_GRN_RT_MED_WTE.GIF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986600">
                    <a:off x="3732480" y="4175640"/>
                    <a:ext cx="998280" cy="4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53" name="Picture 2" descr="G:\картинки_анимация\анимашки\ARROWS\3D\ARROW_BLUE_RT_MED_WTE.GIF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4360" y="4149360"/>
                    <a:ext cx="995040" cy="4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554" name="TextBox 7"/>
                <p:cNvSpPr/>
                <p:nvPr/>
              </p:nvSpPr>
              <p:spPr>
                <a:xfrm>
                  <a:off x="2085480" y="4007520"/>
                  <a:ext cx="1492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Verdana"/>
                    </a:rPr>
                    <a:t>Пошта №1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555" name="Picture 9" descr="home14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562000" y="3365280"/>
                  <a:ext cx="1947240" cy="221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6" name="TextBox 10"/>
                <p:cNvSpPr/>
                <p:nvPr/>
              </p:nvSpPr>
              <p:spPr>
                <a:xfrm>
                  <a:off x="5852880" y="4149360"/>
                  <a:ext cx="1492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Verdana"/>
                    </a:rPr>
                    <a:t>Пошта №2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pic>
          <p:nvPicPr>
            <p:cNvPr id="557" name="Рисунок 29" descr="blank_31.gif"/>
            <p:cNvPicPr/>
            <p:nvPr/>
          </p:nvPicPr>
          <p:blipFill>
            <a:blip r:embed="rId6"/>
            <a:stretch/>
          </p:blipFill>
          <p:spPr>
            <a:xfrm rot="1012800">
              <a:off x="4520160" y="4793040"/>
              <a:ext cx="71892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Рисунок 19" descr="Enveloppe.png"/>
            <p:cNvPicPr/>
            <p:nvPr/>
          </p:nvPicPr>
          <p:blipFill>
            <a:blip r:embed="rId7"/>
            <a:stretch/>
          </p:blipFill>
          <p:spPr>
            <a:xfrm rot="20116800">
              <a:off x="4062960" y="4950000"/>
              <a:ext cx="78408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7" descr="ppl2"/>
            <p:cNvPicPr/>
            <p:nvPr/>
          </p:nvPicPr>
          <p:blipFill>
            <a:blip r:embed="rId8"/>
            <a:stretch/>
          </p:blipFill>
          <p:spPr>
            <a:xfrm>
              <a:off x="7347600" y="4992480"/>
              <a:ext cx="772560" cy="77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ppl2"/>
            <p:cNvPicPr/>
            <p:nvPr/>
          </p:nvPicPr>
          <p:blipFill>
            <a:blip r:embed="rId9"/>
            <a:stretch/>
          </p:blipFill>
          <p:spPr>
            <a:xfrm>
              <a:off x="1143000" y="4992480"/>
              <a:ext cx="772560" cy="774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61" name="Прямая со стрелкой 20"/>
            <p:cNvCxnSpPr/>
            <p:nvPr/>
          </p:nvCxnSpPr>
          <p:spPr>
            <a:xfrm flipV="1">
              <a:off x="1864800" y="4928040"/>
              <a:ext cx="856080" cy="286200"/>
            </a:xfrm>
            <a:prstGeom prst="straightConnector1">
              <a:avLst/>
            </a:prstGeom>
            <a:ln w="38160">
              <a:solidFill>
                <a:srgbClr val="ff8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562" name="Прямая со стрелкой 21"/>
            <p:cNvCxnSpPr/>
            <p:nvPr/>
          </p:nvCxnSpPr>
          <p:spPr>
            <a:xfrm>
              <a:off x="6356160" y="5071320"/>
              <a:ext cx="1141200" cy="286200"/>
            </a:xfrm>
            <a:prstGeom prst="straightConnector1">
              <a:avLst/>
            </a:prstGeom>
            <a:ln w="38160">
              <a:solidFill>
                <a:srgbClr val="ff8000"/>
              </a:solidFill>
              <a:miter/>
              <a:headEnd len="med" type="arrow" w="med"/>
              <a:tailEnd len="med" type="arrow" w="med"/>
            </a:ln>
          </p:spPr>
        </p:cxnSp>
      </p:grpSp>
      <p:pic>
        <p:nvPicPr>
          <p:cNvPr id="563" name="Picture 1" descr="G:\картинки_анимация\анимашки\E-MAIL\ROTEBLUE.GIF"/>
          <p:cNvPicPr/>
          <p:nvPr/>
        </p:nvPicPr>
        <p:blipFill>
          <a:blip r:embed="rId10"/>
          <a:stretch/>
        </p:blipFill>
        <p:spPr>
          <a:xfrm>
            <a:off x="7786800" y="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0001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Електронна  пош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599840" y="2214360"/>
            <a:ext cx="7543800" cy="4214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 -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lectronic mail, Електронна пошта)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грамне забезпечення для передачі текстових повідомлень і вкладених файлів через комп'ютерну мережу. За принципом дії нагадує звичайну пошт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 особливість електронної пошти полягає в тім, що інформація відправляється одержувачеві не прямо, а через проміжну ланку - електронну поштову скриньку, що являє собою місце на сервері, де повідомлення зберігається, поки його не запросить одержувач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6" name="Picture 1" descr="G:\картинки_анимация\анимашки\E-MAIL\E-GRID4.GIF"/>
          <p:cNvPicPr/>
          <p:nvPr/>
        </p:nvPicPr>
        <p:blipFill>
          <a:blip r:embed="rId2"/>
          <a:stretch/>
        </p:blipFill>
        <p:spPr>
          <a:xfrm>
            <a:off x="428760" y="46432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" descr="G:\картинки_анимация\анимашки\E-MAIL\EMAIL02.GIF"/>
          <p:cNvPicPr/>
          <p:nvPr/>
        </p:nvPicPr>
        <p:blipFill>
          <a:blip r:embed="rId3"/>
          <a:stretch/>
        </p:blipFill>
        <p:spPr>
          <a:xfrm>
            <a:off x="285840" y="2500200"/>
            <a:ext cx="1527120" cy="13575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" descr="G:\картинки_анимация\анимашки\E-MAIL\ROTEBLUE.GIF"/>
          <p:cNvPicPr/>
          <p:nvPr/>
        </p:nvPicPr>
        <p:blipFill>
          <a:blip r:embed="rId4"/>
          <a:stretch/>
        </p:blipFill>
        <p:spPr>
          <a:xfrm>
            <a:off x="7786800" y="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214720" y="214200"/>
            <a:ext cx="62863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Електронний лист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5684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часний лист — це щось більше, ніж цифрові послання минулого. За рахунок можливості доповнювати простий текст малюнками, звуковим супроводом, гіперпосиланнями, рухомими flash-об'єктами або gif-анімацією, система електронної пошти на сьогоднішній день є одночасно й засобом спілкування, і джерелом інформації, і одним з улюблених способів проведення рекламних кампаній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1" name="Picture 1" descr="G:\картинки_анимация\анимашки\люди\0722.gif"/>
          <p:cNvPicPr/>
          <p:nvPr/>
        </p:nvPicPr>
        <p:blipFill>
          <a:blip r:embed="rId2"/>
          <a:stretch/>
        </p:blipFill>
        <p:spPr>
          <a:xfrm>
            <a:off x="3500280" y="4643280"/>
            <a:ext cx="2000520" cy="18320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" descr="G:\картинки_анимация\анимашки\E-MAIL\ROTEBLUE.GIF"/>
          <p:cNvPicPr/>
          <p:nvPr/>
        </p:nvPicPr>
        <p:blipFill>
          <a:blip r:embed="rId3"/>
          <a:stretch/>
        </p:blipFill>
        <p:spPr>
          <a:xfrm>
            <a:off x="7786800" y="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Винахідник електронної пошти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635280" y="2421000"/>
            <a:ext cx="525456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й Томлінсон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 Tomlinson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фіційно визнаний винахідником електронної пошти для Інтернету. Його програма SNDMSG в 1971 році дозволяла обмінюватися поштою між різними комп'ютер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TextBox 3"/>
          <p:cNvSpPr/>
          <p:nvPr/>
        </p:nvSpPr>
        <p:spPr>
          <a:xfrm>
            <a:off x="428760" y="428616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і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N Technology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 якій працював Томлінсон, наприкінці  60-х була однієї з учасниць проект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PANet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ережі комп'ютерів, безпосередньої попередниці Інтернет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лінсон саме  займався розробкою поштових програм і створенням віртуальних поштових скриньок. Віртуальна поштова скринька була файлом, що відрізнявся від звичайного файлу тим, що користувачі не могли виправити текст, а тільки могли його читати. В операції використалися дві програми - SNDMSG для відправлення і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MAIL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 читанн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6" name="Рисунок 5" descr="Ray&#10;          Tomlinson"/>
          <p:cNvPicPr/>
          <p:nvPr/>
        </p:nvPicPr>
        <p:blipFill>
          <a:blip r:embed="rId2"/>
          <a:stretch/>
        </p:blipFill>
        <p:spPr>
          <a:xfrm>
            <a:off x="1000080" y="1357200"/>
            <a:ext cx="2286000" cy="260532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77" name="Picture 1" descr="G:\картинки_анимация\анимашки\E-MAIL\ROTEYELLOW.GIF"/>
          <p:cNvPicPr/>
          <p:nvPr/>
        </p:nvPicPr>
        <p:blipFill>
          <a:blip r:embed="rId3"/>
          <a:stretch/>
        </p:blipFill>
        <p:spPr>
          <a:xfrm>
            <a:off x="6372360" y="90792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" descr="G:\картинки_анимация\анимашки\E-MAIL\ROTEBLUE.GIF"/>
          <p:cNvPicPr/>
          <p:nvPr/>
        </p:nvPicPr>
        <p:blipFill>
          <a:blip r:embed="rId4"/>
          <a:stretch/>
        </p:blipFill>
        <p:spPr>
          <a:xfrm>
            <a:off x="7786800" y="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Адреса електронної пошти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68360" y="1356840"/>
            <a:ext cx="8215200" cy="5311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а електронної пошти записуєтьс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евною формою й складається із двох частин: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uk-UA" sz="24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ім'я_користувача@ім'я_серве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Ім'я_користувач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частіше, має довільний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і задається самим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уваче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Ім'я_сервер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рстко пов'язане з вибором користувачем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ера, на якому він розмістив свою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ву скриньк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ад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</a:rPr>
              <a:t>ivanov@yahoo.com</a:t>
            </a:r>
            <a:r>
              <a:rPr b="1" lang="uk-UA" sz="2400" spc="-1" strike="noStrike">
                <a:solidFill>
                  <a:srgbClr val="6b9f25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</a:rPr>
              <a:t>petrov@yandex.ru</a:t>
            </a:r>
            <a:r>
              <a:rPr b="1" lang="uk-UA" sz="2400" spc="-1" strike="noStrike">
                <a:solidFill>
                  <a:srgbClr val="6b9f25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</a:rPr>
              <a:t>sidorov@mail.ru</a:t>
            </a:r>
            <a:r>
              <a:rPr b="1" lang="uk-UA" sz="2400" spc="-1" strike="noStrike">
                <a:solidFill>
                  <a:srgbClr val="6b9f25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</a:rPr>
              <a:t>snu5@i.ua,</a:t>
            </a:r>
            <a:r>
              <a:rPr b="1" lang="uk-UA" sz="2400" spc="-1" strike="noStrike">
                <a:solidFill>
                  <a:srgbClr val="6b9f25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</a:rPr>
              <a:t>odnoh1946@hotmail.com</a:t>
            </a:r>
            <a:r>
              <a:rPr b="1" lang="uk-UA" sz="2400" spc="-1" strike="noStrike">
                <a:solidFill>
                  <a:srgbClr val="6b9f25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</a:rPr>
              <a:t>saturn_948@yahoo.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1" name="Picture 1" descr="G:\картинки_анимация\анимашки\E-MAIL\ROTEBLUE.GIF"/>
          <p:cNvPicPr/>
          <p:nvPr/>
        </p:nvPicPr>
        <p:blipFill>
          <a:blip r:embed="rId2"/>
          <a:stretch/>
        </p:blipFill>
        <p:spPr>
          <a:xfrm>
            <a:off x="7786800" y="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Адреса електронної пошти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99680" y="1785600"/>
            <a:ext cx="8248680" cy="4451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вний поділ адрес електронної пошти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2600" spc="-1" strike="noStrike">
                <a:solidFill>
                  <a:srgbClr val="b26b02"/>
                </a:solidFill>
                <a:latin typeface="Times New Roman"/>
                <a:ea typeface="Times New Roman"/>
              </a:rPr>
              <a:t>провайдерські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штова скринька на сервері провайдера - організації-постачальника мережних послуг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2600" spc="-1" strike="noStrike">
                <a:solidFill>
                  <a:srgbClr val="b26b02"/>
                </a:solidFill>
                <a:latin typeface="Times New Roman"/>
                <a:ea typeface="Times New Roman"/>
              </a:rPr>
              <a:t>корпоративні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ящик на сервері за місцем роботи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2600" spc="-1" strike="noStrike">
                <a:solidFill>
                  <a:srgbClr val="b26b02"/>
                </a:solidFill>
                <a:latin typeface="Times New Roman"/>
                <a:ea typeface="Times New Roman"/>
              </a:rPr>
              <a:t>комерційні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ящик на сервері платної поштової служби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2600" spc="-1" strike="noStrike">
                <a:solidFill>
                  <a:srgbClr val="b26b02"/>
                </a:solidFill>
                <a:latin typeface="Times New Roman"/>
                <a:ea typeface="Times New Roman"/>
              </a:rPr>
              <a:t>безкоштовні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ящик на сервері безкоштовної поштової служби, наприклад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ua, ukr.net,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.ru, yahoo.com, yandex.ru, rambler.ru, hotmail.com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4" name="Picture 1" descr="G:\картинки_анимация\анимашки\E-MAIL\ROTEBLUE.GIF"/>
          <p:cNvPicPr/>
          <p:nvPr/>
        </p:nvPicPr>
        <p:blipFill>
          <a:blip r:embed="rId2"/>
          <a:stretch/>
        </p:blipFill>
        <p:spPr>
          <a:xfrm>
            <a:off x="7786800" y="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4:16:41Z</dcterms:created>
  <dc:creator>Зензерова</dc:creator>
  <dc:description/>
  <dc:language>en-US</dc:language>
  <cp:lastModifiedBy>name</cp:lastModifiedBy>
  <dcterms:modified xsi:type="dcterms:W3CDTF">2012-01-11T22:00:07Z</dcterms:modified>
  <cp:revision>38</cp:revision>
  <dc:subject/>
  <dc:title>Слайди</dc:title>
</cp:coreProperties>
</file>