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6.gif" ContentType="image/gif"/>
  <Override PartName="/ppt/media/image13.png" ContentType="image/png"/>
  <Override PartName="/ppt/media/image8.png" ContentType="image/png"/>
  <Override PartName="/ppt/media/image7.gif" ContentType="image/gif"/>
  <Override PartName="/ppt/media/image4.png" ContentType="image/png"/>
  <Override PartName="/ppt/media/image1.gif" ContentType="image/gif"/>
  <Override PartName="/ppt/media/image27.png" ContentType="image/png"/>
  <Override PartName="/ppt/media/image12.png" ContentType="image/png"/>
  <Override PartName="/ppt/media/image3.gif" ContentType="image/gif"/>
  <Override PartName="/ppt/media/image11.png" ContentType="image/png"/>
  <Override PartName="/ppt/media/image2.gif" ContentType="image/gif"/>
  <Override PartName="/ppt/media/image5.png" ContentType="image/png"/>
  <Override PartName="/ppt/media/image28.png" ContentType="image/png"/>
  <Override PartName="/ppt/media/image10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>
    <p:sldRg st="1" end="3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1539-817C-4DE9-9A65-F3CA80B95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CEB0-1507-4D91-8424-A639753F9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D8BD-D07C-4E52-9465-CBC9E3E51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A6BE-D2A4-4803-BAE6-AB023D580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03189-7923-4454-9273-E0F85034A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386CC-7EFA-45E7-B3AC-1122D4467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A6D5C-2550-49B7-917B-5C71CCAF3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1FE67-D655-4B79-B892-F3473579B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2B9F8-C2CF-41B9-8F34-F1E7CAE2F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EBF11-8EA0-44DB-A4FD-76C711D81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91527-329E-4FE1-940E-5F68C5C2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6421-AE42-4FE1-8838-F34842E6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9C998-2097-4887-8DFA-06E12592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CAA22-DCDE-4EAA-99A6-EABC9EF9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402F2-F63C-42AD-AA02-638C83084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F0263-91C5-42EB-9480-BECBB41B6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D875E-F99F-4C43-BB75-047450FE8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876B-29CA-406A-98AA-6B6B9714A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AEBD-5A6C-428B-B89E-18434B301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870E-22D1-4352-9F2A-D28248AA2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EA02-6DD9-4F3D-A0DF-3B4DBD10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C4FD-F328-46AD-A979-570ADA77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14FB-78DF-43C9-BE52-56F302C4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2F7F-1DBD-4069-802E-1EF5F475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E273B-0E6F-407D-91E7-7709B657035A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1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AutoShape 13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2" name="AutoShape 14">
            <a:hlinkClick r:id="" action="ppaction://hlinkshowjump?jump=firstslide"/>
          </p:cNvPr>
          <p:cNvSpPr/>
          <p:nvPr/>
        </p:nvSpPr>
        <p:spPr>
          <a:xfrm>
            <a:off x="6192720" y="0"/>
            <a:ext cx="360360" cy="27000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270000"/>
              <a:gd name="textAreaBottom" fmla="*/ 252720 h 270000"/>
            </a:gdLst>
            <a:ahLst/>
            <a:rect l="textAreaLeft" t="textAreaTop" r="textAreaRight" b="textAreaBottom"/>
            <a:pathLst>
              <a:path w="28819" h="21600">
                <a:moveTo>
                  <a:pt x="0" y="0"/>
                </a:moveTo>
                <a:lnTo>
                  <a:pt x="28819" y="0"/>
                </a:lnTo>
                <a:lnTo>
                  <a:pt x="28819" y="21600"/>
                </a:lnTo>
                <a:lnTo>
                  <a:pt x="0" y="21600"/>
                </a:lnTo>
                <a:close/>
              </a:path>
              <a:path fill="lightenLess" w="28819" h="21600">
                <a:moveTo>
                  <a:pt x="0" y="0"/>
                </a:moveTo>
                <a:lnTo>
                  <a:pt x="28819" y="0"/>
                </a:lnTo>
                <a:lnTo>
                  <a:pt x="27419" y="1400"/>
                </a:lnTo>
                <a:lnTo>
                  <a:pt x="1400" y="1400"/>
                </a:lnTo>
                <a:close/>
              </a:path>
              <a:path fill="darken" w="28819" h="21600">
                <a:moveTo>
                  <a:pt x="28819" y="0"/>
                </a:moveTo>
                <a:lnTo>
                  <a:pt x="28819" y="21600"/>
                </a:lnTo>
                <a:lnTo>
                  <a:pt x="27419" y="20200"/>
                </a:lnTo>
                <a:lnTo>
                  <a:pt x="27419" y="1400"/>
                </a:lnTo>
                <a:close/>
              </a:path>
              <a:path fill="darkenLess" w="28819" h="21600">
                <a:moveTo>
                  <a:pt x="288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9" y="20200"/>
                </a:lnTo>
                <a:close/>
              </a:path>
              <a:path fill="lighten" w="288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9" h="21600">
                <a:moveTo>
                  <a:pt x="10911" y="10800"/>
                </a:moveTo>
                <a:lnTo>
                  <a:pt x="21416" y="3794"/>
                </a:lnTo>
                <a:lnTo>
                  <a:pt x="21416" y="17806"/>
                </a:lnTo>
                <a:close/>
              </a:path>
              <a:path fill="darken" w="28819" h="21600">
                <a:moveTo>
                  <a:pt x="7403" y="3794"/>
                </a:moveTo>
                <a:lnTo>
                  <a:pt x="9066" y="3794"/>
                </a:lnTo>
                <a:lnTo>
                  <a:pt x="9066" y="17806"/>
                </a:lnTo>
                <a:lnTo>
                  <a:pt x="7403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" name="AutoShape 15">
            <a:hlinkClick r:id="" action="ppaction://hlinkshowjump?jump=previousslide"/>
          </p:cNvPr>
          <p:cNvSpPr/>
          <p:nvPr/>
        </p:nvSpPr>
        <p:spPr>
          <a:xfrm>
            <a:off x="6573960" y="0"/>
            <a:ext cx="360360" cy="27000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270000"/>
              <a:gd name="textAreaBottom" fmla="*/ 252720 h 270000"/>
            </a:gdLst>
            <a:ahLst/>
            <a:rect l="textAreaLeft" t="textAreaTop" r="textAreaRight" b="textAreaBottom"/>
            <a:pathLst>
              <a:path w="28819" h="21600">
                <a:moveTo>
                  <a:pt x="0" y="0"/>
                </a:moveTo>
                <a:lnTo>
                  <a:pt x="28819" y="0"/>
                </a:lnTo>
                <a:lnTo>
                  <a:pt x="28819" y="21600"/>
                </a:lnTo>
                <a:lnTo>
                  <a:pt x="0" y="21600"/>
                </a:lnTo>
                <a:close/>
              </a:path>
              <a:path fill="lightenLess" w="28819" h="21600">
                <a:moveTo>
                  <a:pt x="0" y="0"/>
                </a:moveTo>
                <a:lnTo>
                  <a:pt x="28819" y="0"/>
                </a:lnTo>
                <a:lnTo>
                  <a:pt x="27419" y="1400"/>
                </a:lnTo>
                <a:lnTo>
                  <a:pt x="1400" y="1400"/>
                </a:lnTo>
                <a:close/>
              </a:path>
              <a:path fill="darken" w="28819" h="21600">
                <a:moveTo>
                  <a:pt x="28819" y="0"/>
                </a:moveTo>
                <a:lnTo>
                  <a:pt x="28819" y="21600"/>
                </a:lnTo>
                <a:lnTo>
                  <a:pt x="27419" y="20200"/>
                </a:lnTo>
                <a:lnTo>
                  <a:pt x="27419" y="1400"/>
                </a:lnTo>
                <a:close/>
              </a:path>
              <a:path fill="darkenLess" w="28819" h="21600">
                <a:moveTo>
                  <a:pt x="288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9" y="20200"/>
                </a:lnTo>
                <a:close/>
              </a:path>
              <a:path fill="lighten" w="288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9" h="21600">
                <a:moveTo>
                  <a:pt x="7403" y="10800"/>
                </a:moveTo>
                <a:lnTo>
                  <a:pt x="21416" y="3794"/>
                </a:lnTo>
                <a:lnTo>
                  <a:pt x="21416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" name="AutoShape 16">
            <a:hlinkClick r:id="" action="ppaction://hlinkshowjump?jump=nextslide"/>
          </p:cNvPr>
          <p:cNvSpPr/>
          <p:nvPr/>
        </p:nvSpPr>
        <p:spPr>
          <a:xfrm>
            <a:off x="6954840" y="0"/>
            <a:ext cx="360360" cy="27000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270000"/>
              <a:gd name="textAreaBottom" fmla="*/ 252720 h 270000"/>
            </a:gdLst>
            <a:ahLst/>
            <a:rect l="textAreaLeft" t="textAreaTop" r="textAreaRight" b="textAreaBottom"/>
            <a:pathLst>
              <a:path w="28819" h="21600">
                <a:moveTo>
                  <a:pt x="0" y="0"/>
                </a:moveTo>
                <a:lnTo>
                  <a:pt x="28819" y="0"/>
                </a:lnTo>
                <a:lnTo>
                  <a:pt x="28819" y="21600"/>
                </a:lnTo>
                <a:lnTo>
                  <a:pt x="0" y="21600"/>
                </a:lnTo>
                <a:close/>
              </a:path>
              <a:path fill="lightenLess" w="28819" h="21600">
                <a:moveTo>
                  <a:pt x="0" y="0"/>
                </a:moveTo>
                <a:lnTo>
                  <a:pt x="28819" y="0"/>
                </a:lnTo>
                <a:lnTo>
                  <a:pt x="27419" y="1400"/>
                </a:lnTo>
                <a:lnTo>
                  <a:pt x="1400" y="1400"/>
                </a:lnTo>
                <a:close/>
              </a:path>
              <a:path fill="darken" w="28819" h="21600">
                <a:moveTo>
                  <a:pt x="28819" y="0"/>
                </a:moveTo>
                <a:lnTo>
                  <a:pt x="28819" y="21600"/>
                </a:lnTo>
                <a:lnTo>
                  <a:pt x="27419" y="20200"/>
                </a:lnTo>
                <a:lnTo>
                  <a:pt x="27419" y="1400"/>
                </a:lnTo>
                <a:close/>
              </a:path>
              <a:path fill="darkenLess" w="28819" h="21600">
                <a:moveTo>
                  <a:pt x="288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9" y="20200"/>
                </a:lnTo>
                <a:close/>
              </a:path>
              <a:path fill="lighten" w="288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9" h="21600">
                <a:moveTo>
                  <a:pt x="7403" y="3794"/>
                </a:moveTo>
                <a:lnTo>
                  <a:pt x="21416" y="10800"/>
                </a:lnTo>
                <a:lnTo>
                  <a:pt x="7403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AutoShape 17">
            <a:hlinkClick r:id="" action="ppaction://hlinkshowjump?jump=lastslide"/>
          </p:cNvPr>
          <p:cNvSpPr/>
          <p:nvPr/>
        </p:nvSpPr>
        <p:spPr>
          <a:xfrm>
            <a:off x="7335720" y="0"/>
            <a:ext cx="360360" cy="27000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270000"/>
              <a:gd name="textAreaBottom" fmla="*/ 252720 h 270000"/>
            </a:gdLst>
            <a:ahLst/>
            <a:rect l="textAreaLeft" t="textAreaTop" r="textAreaRight" b="textAreaBottom"/>
            <a:pathLst>
              <a:path w="28819" h="21600">
                <a:moveTo>
                  <a:pt x="0" y="0"/>
                </a:moveTo>
                <a:lnTo>
                  <a:pt x="28819" y="0"/>
                </a:lnTo>
                <a:lnTo>
                  <a:pt x="28819" y="21600"/>
                </a:lnTo>
                <a:lnTo>
                  <a:pt x="0" y="21600"/>
                </a:lnTo>
                <a:close/>
              </a:path>
              <a:path fill="lightenLess" w="28819" h="21600">
                <a:moveTo>
                  <a:pt x="0" y="0"/>
                </a:moveTo>
                <a:lnTo>
                  <a:pt x="28819" y="0"/>
                </a:lnTo>
                <a:lnTo>
                  <a:pt x="27419" y="1400"/>
                </a:lnTo>
                <a:lnTo>
                  <a:pt x="1400" y="1400"/>
                </a:lnTo>
                <a:close/>
              </a:path>
              <a:path fill="darken" w="28819" h="21600">
                <a:moveTo>
                  <a:pt x="28819" y="0"/>
                </a:moveTo>
                <a:lnTo>
                  <a:pt x="28819" y="21600"/>
                </a:lnTo>
                <a:lnTo>
                  <a:pt x="27419" y="20200"/>
                </a:lnTo>
                <a:lnTo>
                  <a:pt x="27419" y="1400"/>
                </a:lnTo>
                <a:close/>
              </a:path>
              <a:path fill="darkenLess" w="28819" h="21600">
                <a:moveTo>
                  <a:pt x="288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9" y="20200"/>
                </a:lnTo>
                <a:close/>
              </a:path>
              <a:path fill="lighten" w="288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9" h="21600">
                <a:moveTo>
                  <a:pt x="17908" y="10800"/>
                </a:moveTo>
                <a:lnTo>
                  <a:pt x="7403" y="17806"/>
                </a:lnTo>
                <a:lnTo>
                  <a:pt x="7403" y="3794"/>
                </a:lnTo>
                <a:close/>
              </a:path>
              <a:path fill="darken" w="28819" h="21600">
                <a:moveTo>
                  <a:pt x="19754" y="3794"/>
                </a:moveTo>
                <a:lnTo>
                  <a:pt x="19754" y="17806"/>
                </a:lnTo>
                <a:lnTo>
                  <a:pt x="21416" y="17806"/>
                </a:lnTo>
                <a:lnTo>
                  <a:pt x="21416" y="379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AutoShape 18">
            <a:hlinkClick r:id="" action="ppaction://hlinkshowjump?jump=previousslide"/>
          </p:cNvPr>
          <p:cNvSpPr/>
          <p:nvPr/>
        </p:nvSpPr>
        <p:spPr>
          <a:xfrm>
            <a:off x="7716960" y="0"/>
            <a:ext cx="360360" cy="27000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270000"/>
              <a:gd name="textAreaBottom" fmla="*/ 252720 h 270000"/>
            </a:gdLst>
            <a:ahLst/>
            <a:rect l="textAreaLeft" t="textAreaTop" r="textAreaRight" b="textAreaBottom"/>
            <a:pathLst>
              <a:path w="28819" h="21600">
                <a:moveTo>
                  <a:pt x="0" y="0"/>
                </a:moveTo>
                <a:lnTo>
                  <a:pt x="28819" y="0"/>
                </a:lnTo>
                <a:lnTo>
                  <a:pt x="28819" y="21600"/>
                </a:lnTo>
                <a:lnTo>
                  <a:pt x="0" y="21600"/>
                </a:lnTo>
                <a:close/>
              </a:path>
              <a:path fill="lightenLess" w="28819" h="21600">
                <a:moveTo>
                  <a:pt x="0" y="0"/>
                </a:moveTo>
                <a:lnTo>
                  <a:pt x="28819" y="0"/>
                </a:lnTo>
                <a:lnTo>
                  <a:pt x="27419" y="1400"/>
                </a:lnTo>
                <a:lnTo>
                  <a:pt x="1400" y="1400"/>
                </a:lnTo>
                <a:close/>
              </a:path>
              <a:path fill="darken" w="28819" h="21600">
                <a:moveTo>
                  <a:pt x="28819" y="0"/>
                </a:moveTo>
                <a:lnTo>
                  <a:pt x="28819" y="21600"/>
                </a:lnTo>
                <a:lnTo>
                  <a:pt x="27419" y="20200"/>
                </a:lnTo>
                <a:lnTo>
                  <a:pt x="27419" y="1400"/>
                </a:lnTo>
                <a:close/>
              </a:path>
              <a:path fill="darkenLess" w="28819" h="21600">
                <a:moveTo>
                  <a:pt x="288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9" y="20200"/>
                </a:lnTo>
                <a:close/>
              </a:path>
              <a:path fill="lighten" w="288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9" h="21600">
                <a:moveTo>
                  <a:pt x="7403" y="7493"/>
                </a:moveTo>
                <a:lnTo>
                  <a:pt x="10911" y="7493"/>
                </a:lnTo>
                <a:lnTo>
                  <a:pt x="10911" y="12828"/>
                </a:lnTo>
                <a:cubicBezTo>
                  <a:pt x="10911" y="13751"/>
                  <a:pt x="11711" y="14482"/>
                  <a:pt x="12747" y="14482"/>
                </a:cubicBezTo>
                <a:lnTo>
                  <a:pt x="14410" y="14482"/>
                </a:lnTo>
                <a:cubicBezTo>
                  <a:pt x="15445" y="14482"/>
                  <a:pt x="16246" y="13751"/>
                  <a:pt x="16246" y="12828"/>
                </a:cubicBezTo>
                <a:lnTo>
                  <a:pt x="16246" y="7493"/>
                </a:lnTo>
                <a:lnTo>
                  <a:pt x="14410" y="7493"/>
                </a:lnTo>
                <a:lnTo>
                  <a:pt x="17917" y="3985"/>
                </a:lnTo>
                <a:lnTo>
                  <a:pt x="21590" y="7493"/>
                </a:lnTo>
                <a:lnTo>
                  <a:pt x="19754" y="7493"/>
                </a:lnTo>
                <a:lnTo>
                  <a:pt x="19754" y="12828"/>
                </a:lnTo>
                <a:cubicBezTo>
                  <a:pt x="19754" y="15596"/>
                  <a:pt x="17177" y="18155"/>
                  <a:pt x="14410" y="18155"/>
                </a:cubicBezTo>
                <a:lnTo>
                  <a:pt x="12747" y="18155"/>
                </a:lnTo>
                <a:cubicBezTo>
                  <a:pt x="9979" y="18155"/>
                  <a:pt x="7403" y="15596"/>
                  <a:pt x="7403" y="12828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AutoShape 19">
            <a:hlinkClick r:id="" action="ppaction://hlinkshowjump?jump=endshow"/>
          </p:cNvPr>
          <p:cNvSpPr/>
          <p:nvPr/>
        </p:nvSpPr>
        <p:spPr>
          <a:xfrm>
            <a:off x="8064360" y="0"/>
            <a:ext cx="1079640" cy="270000"/>
          </a:xfrm>
          <a:custGeom>
            <a:avLst/>
            <a:gdLst>
              <a:gd name="textAreaLeft" fmla="*/ 17280 w 1079640"/>
              <a:gd name="textAreaRight" fmla="*/ 1062360 w 1079640"/>
              <a:gd name="textAreaTop" fmla="*/ 17280 h 270000"/>
              <a:gd name="textAreaBottom" fmla="*/ 252720 h 270000"/>
            </a:gdLst>
            <a:ahLst/>
            <a:rect l="textAreaLeft" t="textAreaTop" r="textAreaRight" b="textAreaBottom"/>
            <a:pathLst>
              <a:path w="86285" h="21600">
                <a:moveTo>
                  <a:pt x="0" y="0"/>
                </a:moveTo>
                <a:lnTo>
                  <a:pt x="86285" y="0"/>
                </a:lnTo>
                <a:lnTo>
                  <a:pt x="86285" y="21600"/>
                </a:lnTo>
                <a:lnTo>
                  <a:pt x="0" y="21600"/>
                </a:lnTo>
                <a:close/>
              </a:path>
              <a:path fill="lightenLess" w="86285" h="21600">
                <a:moveTo>
                  <a:pt x="0" y="0"/>
                </a:moveTo>
                <a:lnTo>
                  <a:pt x="86285" y="0"/>
                </a:lnTo>
                <a:lnTo>
                  <a:pt x="84885" y="1400"/>
                </a:lnTo>
                <a:lnTo>
                  <a:pt x="1400" y="1400"/>
                </a:lnTo>
                <a:close/>
              </a:path>
              <a:path fill="darken" w="86285" h="21600">
                <a:moveTo>
                  <a:pt x="86285" y="0"/>
                </a:moveTo>
                <a:lnTo>
                  <a:pt x="86285" y="21600"/>
                </a:lnTo>
                <a:lnTo>
                  <a:pt x="84885" y="20200"/>
                </a:lnTo>
                <a:lnTo>
                  <a:pt x="84885" y="1400"/>
                </a:lnTo>
                <a:close/>
              </a:path>
              <a:path fill="darkenLess" w="86285" h="21600">
                <a:moveTo>
                  <a:pt x="86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85" y="20200"/>
                </a:lnTo>
                <a:close/>
              </a:path>
              <a:path fill="lighten" w="86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ahoma"/>
              </a:rPr>
              <a:t>Exit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6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7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8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868F7-4AE2-4630-B85F-430A0A08D230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ukr.net/" TargetMode="External"/><Relationship Id="rId2" Type="http://schemas.openxmlformats.org/officeDocument/2006/relationships/hyperlink" Target="http://ukr.net/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ukr.net/" TargetMode="External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testov-test@ukr.net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3366"/>
                </a:solidFill>
                <a:latin typeface="Arial"/>
              </a:rPr>
              <a:t>Глобальна мережа Interne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6666"/>
                </a:solidFill>
                <a:latin typeface="Arial"/>
              </a:rPr>
              <a:t>8.3. Електронна пош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Схема роботи електронної пош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44160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Користувач доступними засобами створює повідомлення на власному комп'ютері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Створене повідомлення за допомогою протоколу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MTP</a:t>
            </a: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 відправляється до поштової скриньки відправника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Із поштової скриньки відправника протоколом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MTP</a:t>
            </a: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 повідомлення відправляється до поштової скриньки адресата за вказаною адресою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Адресат у зручний час за допомогою доступних поштових засобів, що використовують протокол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POP3 </a:t>
            </a: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або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IMAP</a:t>
            </a: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, зчитує отримане повідомлення на комп'ютер, за яким працює і ознайомлюється із ним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0" name="Picture 4" descr="EMAIL6"/>
          <p:cNvPicPr/>
          <p:nvPr/>
        </p:nvPicPr>
        <p:blipFill>
          <a:blip r:embed="rId1"/>
          <a:stretch/>
        </p:blipFill>
        <p:spPr>
          <a:xfrm>
            <a:off x="5292720" y="357336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EMAIL6"/>
          <p:cNvPicPr/>
          <p:nvPr/>
        </p:nvPicPr>
        <p:blipFill>
          <a:blip r:embed="rId2"/>
          <a:stretch/>
        </p:blipFill>
        <p:spPr>
          <a:xfrm>
            <a:off x="6372360" y="321300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COMFROG"/>
          <p:cNvPicPr/>
          <p:nvPr/>
        </p:nvPicPr>
        <p:blipFill>
          <a:blip r:embed="rId3"/>
          <a:stretch/>
        </p:blipFill>
        <p:spPr>
          <a:xfrm>
            <a:off x="4716360" y="4724280"/>
            <a:ext cx="762120" cy="6001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COMFROG"/>
          <p:cNvPicPr/>
          <p:nvPr/>
        </p:nvPicPr>
        <p:blipFill>
          <a:blip r:embed="rId4"/>
          <a:stretch/>
        </p:blipFill>
        <p:spPr>
          <a:xfrm>
            <a:off x="7667640" y="3429000"/>
            <a:ext cx="762120" cy="600120"/>
          </a:xfrm>
          <a:prstGeom prst="rect">
            <a:avLst/>
          </a:prstGeom>
          <a:ln w="0">
            <a:noFill/>
          </a:ln>
        </p:spPr>
      </p:pic>
      <p:sp>
        <p:nvSpPr>
          <p:cNvPr id="144" name="Line 8"/>
          <p:cNvSpPr/>
          <p:nvPr/>
        </p:nvSpPr>
        <p:spPr>
          <a:xfrm flipV="1">
            <a:off x="5219640" y="4149720"/>
            <a:ext cx="216000" cy="57456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Line 9"/>
          <p:cNvSpPr/>
          <p:nvPr/>
        </p:nvSpPr>
        <p:spPr>
          <a:xfrm flipV="1">
            <a:off x="5796000" y="3645000"/>
            <a:ext cx="504720" cy="71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Line 10"/>
          <p:cNvSpPr/>
          <p:nvPr/>
        </p:nvSpPr>
        <p:spPr>
          <a:xfrm>
            <a:off x="7093080" y="3500280"/>
            <a:ext cx="574560" cy="7308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AutoShape 11"/>
          <p:cNvSpPr/>
          <p:nvPr/>
        </p:nvSpPr>
        <p:spPr>
          <a:xfrm>
            <a:off x="4932360" y="5661000"/>
            <a:ext cx="1079640" cy="289080"/>
          </a:xfrm>
          <a:prstGeom prst="wedgeRectCallout">
            <a:avLst>
              <a:gd name="adj1" fmla="val -16027"/>
              <a:gd name="adj2" fmla="val -204393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Times New Roman"/>
              </a:rPr>
              <a:t>Користувач 1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AutoShape 12"/>
          <p:cNvSpPr/>
          <p:nvPr/>
        </p:nvSpPr>
        <p:spPr>
          <a:xfrm>
            <a:off x="5580000" y="4724280"/>
            <a:ext cx="1440000" cy="433440"/>
          </a:xfrm>
          <a:prstGeom prst="wedgeRectCallout">
            <a:avLst>
              <a:gd name="adj1" fmla="val -40185"/>
              <a:gd name="adj2" fmla="val -159523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Times New Roman"/>
              </a:rPr>
              <a:t>Поштова скринька користувача 1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AutoShape 13"/>
          <p:cNvSpPr/>
          <p:nvPr/>
        </p:nvSpPr>
        <p:spPr>
          <a:xfrm>
            <a:off x="6372360" y="4149720"/>
            <a:ext cx="1439640" cy="433440"/>
          </a:xfrm>
          <a:prstGeom prst="wedgeRectCallout">
            <a:avLst>
              <a:gd name="adj1" fmla="val -25745"/>
              <a:gd name="adj2" fmla="val -107509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Times New Roman"/>
              </a:rPr>
              <a:t>Поштова скринька користувача 2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AutoShape 14"/>
          <p:cNvSpPr/>
          <p:nvPr/>
        </p:nvSpPr>
        <p:spPr>
          <a:xfrm>
            <a:off x="7667640" y="4797360"/>
            <a:ext cx="1079640" cy="289080"/>
          </a:xfrm>
          <a:prstGeom prst="wedgeRectCallout">
            <a:avLst>
              <a:gd name="adj1" fmla="val -12500"/>
              <a:gd name="adj2" fmla="val -334615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Times New Roman"/>
              </a:rPr>
              <a:t>Користувач 2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4572000" y="4076640"/>
            <a:ext cx="7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imes New Roman"/>
              </a:rPr>
              <a:t>SMTP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Text Box 16"/>
          <p:cNvSpPr/>
          <p:nvPr/>
        </p:nvSpPr>
        <p:spPr>
          <a:xfrm>
            <a:off x="5435640" y="3276720"/>
            <a:ext cx="7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imes New Roman"/>
              </a:rPr>
              <a:t>SMTP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Text Box 17"/>
          <p:cNvSpPr/>
          <p:nvPr/>
        </p:nvSpPr>
        <p:spPr>
          <a:xfrm>
            <a:off x="6948360" y="3124080"/>
            <a:ext cx="7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imes New Roman"/>
              </a:rPr>
              <a:t>POP3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Поштові програм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65760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Для використання послуги Internet "</a:t>
            </a:r>
            <a:r>
              <a:rPr b="1" lang="uk-UA" sz="1400" spc="-1" strike="noStrike">
                <a:solidFill>
                  <a:srgbClr val="0000ff"/>
                </a:solidFill>
                <a:latin typeface="Arial"/>
              </a:rPr>
              <a:t>електронна пошта</a:t>
            </a: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" існує велика кількість різноманітних поштових програм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Наприклад, програма </a:t>
            </a:r>
            <a:r>
              <a:rPr b="1" lang="uk-UA" sz="1400" spc="-1" strike="noStrike">
                <a:solidFill>
                  <a:srgbClr val="003366"/>
                </a:solidFill>
                <a:latin typeface="Arial"/>
              </a:rPr>
              <a:t>Microsoft Outlook Express</a:t>
            </a: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, яка входить до складу операційної системи </a:t>
            </a:r>
            <a:r>
              <a:rPr b="1" lang="uk-UA" sz="1400" spc="-1" strike="noStrike">
                <a:solidFill>
                  <a:srgbClr val="003366"/>
                </a:solidFill>
                <a:latin typeface="Arial"/>
              </a:rPr>
              <a:t>Windows</a:t>
            </a: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 як стандартна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Поштові програми доцільно використовувати при значних обсягах поштових повідомлень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Якщо ви листуєтеся нечасто, то достатньо скористатися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eb</a:t>
            </a: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-сторінками поштових серверів, де можна створити власну поштову скриньку та використовувати її для листування. Саме цей варіант листування і розглядатиметься далі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4716360" y="2844720"/>
            <a:ext cx="4251600" cy="303228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5219640" y="2556000"/>
            <a:ext cx="374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3366"/>
                </a:solidFill>
                <a:latin typeface="Times New Roman"/>
              </a:rPr>
              <a:t>Поштова програма 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Outlook Express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Вибір поштового сервер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65760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Якщо ви вирішили створити власну поштову скриньку, то спочатку слід вибрати поштовий сервер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Розрізняють платні та безплатні поштові сервери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Як правило, обсяг послуг безплатного поштового сервера не відрізняється від обсягу послуг платного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Тому рекомендується скористатися першим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Серед найпопулярніших безплатних поштових серверів з кириличною мовою розрізняють 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mail.ru, rambler.ru, ukr.net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та ряд інших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Щоб зайти на сервер, слід у браузері у рядку адреси ввести його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URL</a:t>
            </a: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-адресу. Наприклад, </a:t>
            </a:r>
            <a:r>
              <a:rPr b="0" lang="en-US" sz="1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ukr.net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      (</a:t>
            </a:r>
            <a:r>
              <a:rPr b="0" i="1" lang="uk-UA" sz="1400" spc="-1" strike="noStrike">
                <a:solidFill>
                  <a:srgbClr val="0000ff"/>
                </a:solidFill>
                <a:latin typeface="Arial"/>
              </a:rPr>
              <a:t>натисніть на цьому гіперпосиланні</a:t>
            </a: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)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3025800" y="6064200"/>
            <a:ext cx="289080" cy="144360"/>
          </a:xfrm>
          <a:prstGeom prst="leftArrow">
            <a:avLst>
              <a:gd name="adj1" fmla="val 50000"/>
              <a:gd name="adj2" fmla="val 50062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1" name="Picture 6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0" y="2717640"/>
            <a:ext cx="4449600" cy="350856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7"/>
          <p:cNvSpPr/>
          <p:nvPr/>
        </p:nvSpPr>
        <p:spPr>
          <a:xfrm>
            <a:off x="4284720" y="2421000"/>
            <a:ext cx="46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3366"/>
                </a:solidFill>
                <a:latin typeface="Times New Roman"/>
              </a:rPr>
              <a:t>Головна 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Web-</a:t>
            </a:r>
            <a:r>
              <a:rPr b="0" lang="uk-UA" sz="1400" spc="-1" strike="noStrike">
                <a:solidFill>
                  <a:srgbClr val="003366"/>
                </a:solidFill>
                <a:latin typeface="Times New Roman"/>
              </a:rPr>
              <a:t>сторінка сайту поштового серверу 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 ukr.net</a:t>
            </a:r>
            <a:r>
              <a:rPr b="0" lang="uk-UA" sz="1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Створення поштової скринь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225960" cy="185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Після вибору поштового серверу, наприклад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ukr.net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 створимо поштову скриньку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Для цього скористаємося гіперпосиланням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«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Получить новый ящик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5" name="Picture 5" descr=""/>
          <p:cNvPicPr/>
          <p:nvPr/>
        </p:nvPicPr>
        <p:blipFill>
          <a:blip r:embed="rId1"/>
          <a:stretch/>
        </p:blipFill>
        <p:spPr>
          <a:xfrm>
            <a:off x="4295880" y="1971720"/>
            <a:ext cx="4848120" cy="4886280"/>
          </a:xfrm>
          <a:prstGeom prst="rect">
            <a:avLst/>
          </a:prstGeom>
          <a:ln w="0">
            <a:noFill/>
          </a:ln>
        </p:spPr>
      </p:pic>
      <p:sp>
        <p:nvSpPr>
          <p:cNvPr id="166" name="Line 6"/>
          <p:cNvSpPr/>
          <p:nvPr/>
        </p:nvSpPr>
        <p:spPr>
          <a:xfrm>
            <a:off x="2556000" y="4005360"/>
            <a:ext cx="1944720" cy="100800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Угода про використання поштового сервіс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08124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Перед наданням поштової скриньки власники поштового серверу пропонують майбутньому абоненту угоду про його використання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Якщо абонент з нею погоджується, то він повинен натиснути кнопку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«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Я принимаю условия соглашения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4211640" y="1984320"/>
            <a:ext cx="4932360" cy="4873680"/>
          </a:xfrm>
          <a:prstGeom prst="rect">
            <a:avLst/>
          </a:prstGeom>
          <a:ln w="0">
            <a:noFill/>
          </a:ln>
        </p:spPr>
      </p:pic>
      <p:sp>
        <p:nvSpPr>
          <p:cNvPr id="170" name="Line 5"/>
          <p:cNvSpPr/>
          <p:nvPr/>
        </p:nvSpPr>
        <p:spPr>
          <a:xfrm>
            <a:off x="2627280" y="5373720"/>
            <a:ext cx="3024360" cy="100800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3873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Реєстраці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2420640"/>
            <a:ext cx="374328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Якщо абонент прийняв угоду і натиснув відповідну кнопку, то перед ним відкриється вікно реєстрації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Воно містить 14 полів, які абоненту слід заповнити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4816440" y="476280"/>
            <a:ext cx="4327560" cy="638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Вибір логін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2362320"/>
            <a:ext cx="3168720" cy="437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3300"/>
                </a:solidFill>
                <a:latin typeface="Arial"/>
              </a:rPr>
              <a:t>Логіном</a:t>
            </a: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uk-UA" sz="1400" spc="-1" strike="noStrike">
                <a:solidFill>
                  <a:srgbClr val="003366"/>
                </a:solidFill>
                <a:latin typeface="Arial"/>
              </a:rPr>
              <a:t>називається ім'я поштової скриньки, що міститься на сервері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3366"/>
                </a:solidFill>
                <a:latin typeface="Arial"/>
              </a:rPr>
              <a:t>У кожного абонента на конкретному сервері повинен бути власний </a:t>
            </a:r>
            <a:r>
              <a:rPr b="1" lang="uk-UA" sz="1400" spc="-1" strike="noStrike">
                <a:solidFill>
                  <a:srgbClr val="ff3300"/>
                </a:solidFill>
                <a:latin typeface="Arial"/>
              </a:rPr>
              <a:t>унікальний</a:t>
            </a:r>
            <a:r>
              <a:rPr b="1" lang="uk-UA" sz="1400" spc="-1" strike="noStrike">
                <a:solidFill>
                  <a:srgbClr val="003366"/>
                </a:solidFill>
                <a:latin typeface="Arial"/>
              </a:rPr>
              <a:t> логін.</a:t>
            </a: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Як правило, бажаний логін вже кимсь зайнятий. Тому при створенні скриньки виникає потреба підбирати різні варіанти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На деяких серверах для цього існує спеціальна кнопка, що викликає процедуру перевірки доступності введеного логіну на сервері. На інших перевірка виконується після підтвердження даних реєстрації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3366"/>
                </a:solidFill>
                <a:latin typeface="Arial"/>
              </a:rPr>
              <a:t>На більшості серверів для запису логіну допускаються латинські букви, арабські цифри та знаки “дефіс” і “підкреслено”. При цьому розмір букви значення не має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3635280" y="1916280"/>
            <a:ext cx="5399280" cy="14652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"/>
          <p:cNvPicPr/>
          <p:nvPr/>
        </p:nvPicPr>
        <p:blipFill>
          <a:blip r:embed="rId2"/>
          <a:stretch/>
        </p:blipFill>
        <p:spPr>
          <a:xfrm>
            <a:off x="3635280" y="3573360"/>
            <a:ext cx="5399280" cy="1465200"/>
          </a:xfrm>
          <a:prstGeom prst="rect">
            <a:avLst/>
          </a:prstGeom>
          <a:ln w="0">
            <a:noFill/>
          </a:ln>
        </p:spPr>
      </p:pic>
      <p:sp>
        <p:nvSpPr>
          <p:cNvPr id="178" name="AutoShape 6"/>
          <p:cNvSpPr/>
          <p:nvPr/>
        </p:nvSpPr>
        <p:spPr>
          <a:xfrm>
            <a:off x="5867280" y="3429000"/>
            <a:ext cx="649440" cy="433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9" name="Picture 7" descr=""/>
          <p:cNvPicPr/>
          <p:nvPr/>
        </p:nvPicPr>
        <p:blipFill>
          <a:blip r:embed="rId3"/>
          <a:stretch/>
        </p:blipFill>
        <p:spPr>
          <a:xfrm>
            <a:off x="3635280" y="5229360"/>
            <a:ext cx="5399280" cy="1465200"/>
          </a:xfrm>
          <a:prstGeom prst="rect">
            <a:avLst/>
          </a:prstGeom>
          <a:ln w="0">
            <a:noFill/>
          </a:ln>
        </p:spPr>
      </p:pic>
      <p:sp>
        <p:nvSpPr>
          <p:cNvPr id="180" name="AutoShape 8"/>
          <p:cNvSpPr/>
          <p:nvPr/>
        </p:nvSpPr>
        <p:spPr>
          <a:xfrm>
            <a:off x="5867280" y="5084640"/>
            <a:ext cx="649440" cy="433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Вибір паролю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8000" y="2349000"/>
            <a:ext cx="3240000" cy="42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3300"/>
                </a:solidFill>
                <a:latin typeface="Arial"/>
              </a:rPr>
              <a:t>Пароль</a:t>
            </a: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1" lang="uk-UA" sz="1400" spc="-1" strike="noStrike">
                <a:solidFill>
                  <a:srgbClr val="003366"/>
                </a:solidFill>
                <a:latin typeface="Arial"/>
              </a:rPr>
              <a:t>це група допустимих на сервері символів, введення яких у відповідне поле надає доступ до вмісту поштової скриньки, заданої логіном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Тобто для роботи із вмістом скриньки необхідно вказати логін і пароль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Зрозуміло, що пароль повинен знати виключно власник скриньки, тому при його введенні в полі паролю замість символів висвічуються тільки жирні точки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З метою контролю правильності пароль вводиться в одному полі, а потім дублюється в іншому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Перед створенням паролю прочитайте записане поруч зауваження та майте його на увазі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3348000" y="1989000"/>
            <a:ext cx="5796000" cy="181296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5"/>
          <p:cNvSpPr/>
          <p:nvPr/>
        </p:nvSpPr>
        <p:spPr>
          <a:xfrm>
            <a:off x="4716360" y="1268280"/>
            <a:ext cx="2089080" cy="576360"/>
          </a:xfrm>
          <a:prstGeom prst="wedgeRectCallout">
            <a:avLst>
              <a:gd name="adj1" fmla="val 49694"/>
              <a:gd name="adj2" fmla="val 229888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66"/>
                </a:solidFill>
                <a:latin typeface="Times New Roman"/>
              </a:rPr>
              <a:t>Зауваження до створення паролю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3492360" y="3860640"/>
            <a:ext cx="5400720" cy="28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3366"/>
                </a:solidFill>
                <a:latin typeface="Tahoma"/>
              </a:rPr>
              <a:t>Якщо пароль вашої скриньки стане доступним сторонній людині, то вона матиме можливість увійти до неї, переглянути вашу кореспонденцію, а також від вашого імені відіслати будь-яке повідомлення. Щоб цього не сталося дотримуйтеся правил: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uk-UA" sz="1400" spc="-1" strike="noStrike">
                <a:solidFill>
                  <a:srgbClr val="003366"/>
                </a:solidFill>
                <a:latin typeface="Tahoma"/>
              </a:rPr>
              <a:t>нікому не повідомляйте ваш пароль;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uk-UA" sz="1400" spc="-1" strike="noStrike">
                <a:solidFill>
                  <a:srgbClr val="003366"/>
                </a:solidFill>
                <a:latin typeface="Tahoma"/>
              </a:rPr>
              <a:t>не робіть пароль дуже простим і коротким (не менше 6 символів);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uk-UA" sz="1400" spc="-1" strike="noStrike">
                <a:solidFill>
                  <a:srgbClr val="003366"/>
                </a:solidFill>
                <a:latin typeface="Tahoma"/>
              </a:rPr>
              <a:t>пароль не повинен нести якийсь зміст, або дублювати логін, чи ваше ім'я або прізвище;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uk-UA" sz="1400" spc="-1" strike="noStrike">
                <a:solidFill>
                  <a:srgbClr val="003366"/>
                </a:solidFill>
                <a:latin typeface="Tahoma"/>
              </a:rPr>
              <a:t>запишіть пароль в недоступному іншим місці.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Line 7"/>
          <p:cNvSpPr/>
          <p:nvPr/>
        </p:nvSpPr>
        <p:spPr>
          <a:xfrm>
            <a:off x="3348000" y="3933720"/>
            <a:ext cx="0" cy="273528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Секретне запитанн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78920" y="2349000"/>
            <a:ext cx="2521080" cy="431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Людині властиво забувати інформацію. Тим паче, якщо ця інформація - звичайний набір символів, що не має ніякого змісту.  Тому для підстрахування в реєстраційній анкеті є поля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«</a:t>
            </a: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Секретный вопрос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» та «</a:t>
            </a: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Введите правильный ответ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»</a:t>
            </a: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Праворуч від них є пояснення та рекомендації, з якими слід ознайомитися та виконат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2843280" y="4941720"/>
            <a:ext cx="597672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66"/>
                </a:solidFill>
                <a:latin typeface="Times New Roman"/>
              </a:rPr>
              <a:t>Якщо ви забудете пароль, то зможете за допомогою секретного питання та відповіді отримати доступ до своєї скриньки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66"/>
                </a:solidFill>
                <a:latin typeface="Times New Roman"/>
              </a:rPr>
              <a:t>Щоправда, секретне питання та відповідь на нього вводяться не в замаскованому вигляді. Тому їх слід вводити не на очах у сторонньої людини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90" name="Picture 7" descr=""/>
          <p:cNvPicPr/>
          <p:nvPr/>
        </p:nvPicPr>
        <p:blipFill>
          <a:blip r:embed="rId1"/>
          <a:stretch/>
        </p:blipFill>
        <p:spPr>
          <a:xfrm>
            <a:off x="2987640" y="2421000"/>
            <a:ext cx="5867280" cy="22003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191" name="AutoShape 5"/>
          <p:cNvSpPr/>
          <p:nvPr/>
        </p:nvSpPr>
        <p:spPr>
          <a:xfrm>
            <a:off x="4356000" y="981000"/>
            <a:ext cx="2089080" cy="863640"/>
          </a:xfrm>
          <a:prstGeom prst="wedgeRectCallout">
            <a:avLst>
              <a:gd name="adj1" fmla="val 57064"/>
              <a:gd name="adj2" fmla="val 132351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66"/>
                </a:solidFill>
                <a:latin typeface="Times New Roman"/>
              </a:rPr>
              <a:t>Пояснення та рекомендації до секретного питання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Додаткова поштова адрес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42560" y="3573000"/>
            <a:ext cx="3600360" cy="26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Будь-який користувач може мати декілька поштових скриньок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Наприклад, одна поштова скринька використовується ним для ділового листування, друга – для особистого…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Якщо у вас є друга поштова скринька, то ви можете вказати її у відповідному полі бланку реєстрації. У цьому випадку саме до неї буде надіслане повідомлення із інформацією, що надасть вам доступ до вашої скриньки у разі забутого пароля після відповіді на секретне запитання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4" name="Picture 7" descr=""/>
          <p:cNvPicPr/>
          <p:nvPr/>
        </p:nvPicPr>
        <p:blipFill>
          <a:blip r:embed="rId1"/>
          <a:stretch/>
        </p:blipFill>
        <p:spPr>
          <a:xfrm>
            <a:off x="826920" y="2421000"/>
            <a:ext cx="7705800" cy="78732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5"/>
          <p:cNvSpPr/>
          <p:nvPr/>
        </p:nvSpPr>
        <p:spPr>
          <a:xfrm>
            <a:off x="5724360" y="4076640"/>
            <a:ext cx="2089440" cy="863640"/>
          </a:xfrm>
          <a:prstGeom prst="wedgeRectCallout">
            <a:avLst>
              <a:gd name="adj1" fmla="val -14740"/>
              <a:gd name="adj2" fmla="val -153310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66"/>
                </a:solidFill>
                <a:latin typeface="Times New Roman"/>
              </a:rPr>
              <a:t>Пояснення до поля введення додаткової поштової адреси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Загальні понятт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657600" cy="10666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3300"/>
                </a:solidFill>
                <a:latin typeface="Arial"/>
              </a:rPr>
              <a:t>Електронна пошта</a:t>
            </a: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uk-UA" sz="1400" spc="-1" strike="noStrike">
                <a:solidFill>
                  <a:srgbClr val="003366"/>
                </a:solidFill>
                <a:latin typeface="Arial"/>
              </a:rPr>
              <a:t>(Electronic mail, скорочено</a:t>
            </a:r>
            <a:r>
              <a:rPr b="1" lang="uk-UA" sz="1400" spc="-1" strike="noStrike">
                <a:solidFill>
                  <a:srgbClr val="ff3300"/>
                </a:solidFill>
                <a:latin typeface="Arial"/>
              </a:rPr>
              <a:t> E-mail</a:t>
            </a:r>
            <a:r>
              <a:rPr b="1" lang="uk-UA" sz="1400" spc="-1" strike="noStrike">
                <a:solidFill>
                  <a:srgbClr val="003366"/>
                </a:solidFill>
                <a:latin typeface="Arial"/>
              </a:rPr>
              <a:t>) - це засіб відправки і одержання повідомлень за допомогою комп'ютерної мережі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4859280" y="3933720"/>
            <a:ext cx="4033800" cy="25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Arial"/>
              </a:rPr>
              <a:t>Електронна пошта все більше замінює звичайну паперову пошту завдяки високій швидкості і надійності передачі повідомлень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Arial"/>
              </a:rPr>
              <a:t>Повідомлення електронної пошти, крім тексту, може містити графічні, звукові, відеофайли тощо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Arial"/>
              </a:rPr>
              <a:t>За лічені хвилини повідомлення електронної пошти доходить до адресата, який може знаходитись далеко за океаном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Arial"/>
              </a:rPr>
              <a:t>Роботу електронної пошти забезпечує поштова програма-сервер — спеціальна програма на виділеному вузловому комп'ютері</a:t>
            </a: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5" name="Picture 5" descr="EMAIL2"/>
          <p:cNvPicPr/>
          <p:nvPr/>
        </p:nvPicPr>
        <p:blipFill>
          <a:blip r:embed="rId1"/>
          <a:stretch/>
        </p:blipFill>
        <p:spPr>
          <a:xfrm>
            <a:off x="5219640" y="2401920"/>
            <a:ext cx="1657440" cy="1027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J0172568"/>
          <p:cNvPicPr/>
          <p:nvPr/>
        </p:nvPicPr>
        <p:blipFill>
          <a:blip r:embed="rId2"/>
          <a:stretch/>
        </p:blipFill>
        <p:spPr>
          <a:xfrm>
            <a:off x="1835280" y="4365720"/>
            <a:ext cx="1726920" cy="165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Особисті дані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657600" cy="30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При реєстрації абонент також повинен ввести деякі особисті анкетні дані. Це – ім'я, прізвище, стать, вік, країна, регіон та місто проживанн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Ім'я та прізвище будуть використані при зверненні до абонента, а також як позначка відправника поштового повідомленн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rcRect l="0" t="0" r="44227" b="0"/>
          <a:stretch/>
        </p:blipFill>
        <p:spPr>
          <a:xfrm>
            <a:off x="4572000" y="2608200"/>
            <a:ext cx="4248000" cy="229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Захист від автореєстрації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08124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Останнє поле реєстраційного бланку використовується для захисту від автореєстрації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Над цим полем ви побачите рядок символів у графічному зображенні. Його слід ввести у поле під ним. А після цього натиснути кнопку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«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Зарегистрировать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rcRect l="0" t="0" r="45332" b="0"/>
          <a:stretch/>
        </p:blipFill>
        <p:spPr>
          <a:xfrm>
            <a:off x="4788000" y="2421000"/>
            <a:ext cx="3457440" cy="190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3586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66"/>
                </a:solidFill>
                <a:latin typeface="Arial"/>
              </a:rPr>
              <a:t>Кінцевий вигляд бланку реєстрації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7939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На малюнку наведено кінцевий вигляд бланку реєстрації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Саме ця інформація після натискання на клавішу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«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Зарегистрировать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»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 буде занесена до бази даних абонентів поштового сервер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334040" y="765000"/>
            <a:ext cx="4809960" cy="609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Вхід до власної поштової скринь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50560" y="2349360"/>
            <a:ext cx="2808360" cy="36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Щоб увійти до власної поштової скриньки, слід спочатку відкрити головну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Web-</a:t>
            </a: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сторінку поштового серверу, на якій вона знаходиться. Для нашого прикладу це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ukr.net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Далі в полі “</a:t>
            </a:r>
            <a:r>
              <a:rPr b="1" lang="uk-UA" sz="1600" spc="-1" strike="noStrike">
                <a:solidFill>
                  <a:srgbClr val="003366"/>
                </a:solidFill>
                <a:latin typeface="Arial"/>
              </a:rPr>
              <a:t>Логін</a:t>
            </a: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” ввести логін вашої поштової адреси. У нашому прикладі –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estov-test</a:t>
            </a: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, а у полі “</a:t>
            </a:r>
            <a:r>
              <a:rPr b="1" lang="uk-UA" sz="1600" spc="-1" strike="noStrike">
                <a:solidFill>
                  <a:srgbClr val="003366"/>
                </a:solidFill>
                <a:latin typeface="Arial"/>
              </a:rPr>
              <a:t>Пароль</a:t>
            </a: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ввести ваш пароль, пот</a:t>
            </a: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і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 натиснути кнопку «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Войти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»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2"/>
          <a:stretch/>
        </p:blipFill>
        <p:spPr>
          <a:xfrm>
            <a:off x="3228840" y="1657440"/>
            <a:ext cx="5915160" cy="520056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5"/>
          <p:cNvSpPr/>
          <p:nvPr/>
        </p:nvSpPr>
        <p:spPr>
          <a:xfrm>
            <a:off x="3203640" y="3429000"/>
            <a:ext cx="1800000" cy="1440000"/>
          </a:xfrm>
          <a:prstGeom prst="rect">
            <a:avLst/>
          </a:prstGeom>
          <a:noFill/>
          <a:ln w="2844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autoRev="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Стартове вікно для роботи з власною поштовою скринькою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50560" y="2349360"/>
            <a:ext cx="2592360" cy="373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Якщо ви уважно розглянете наведене вікно, то крім вітання  побачите на ньому багато гіпертекстових елементів, об'єднаних у групи.  Рекомендується почати із групи “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Язык интерфейс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. Вибрати в ній Українську мову. Після чого інформація у вікні відображатиметься українською мовою, як показано на малюнку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1" name="Picture 5" descr=""/>
          <p:cNvPicPr/>
          <p:nvPr/>
        </p:nvPicPr>
        <p:blipFill>
          <a:blip r:embed="rId1"/>
          <a:stretch/>
        </p:blipFill>
        <p:spPr>
          <a:xfrm>
            <a:off x="2916360" y="2903400"/>
            <a:ext cx="6227640" cy="3954600"/>
          </a:xfrm>
          <a:prstGeom prst="rect">
            <a:avLst/>
          </a:prstGeom>
          <a:ln w="0">
            <a:noFill/>
          </a:ln>
        </p:spPr>
      </p:pic>
      <p:sp>
        <p:nvSpPr>
          <p:cNvPr id="212" name="Oval 6"/>
          <p:cNvSpPr/>
          <p:nvPr/>
        </p:nvSpPr>
        <p:spPr>
          <a:xfrm>
            <a:off x="5796000" y="5950080"/>
            <a:ext cx="936720" cy="358560"/>
          </a:xfrm>
          <a:prstGeom prst="ellipse">
            <a:avLst/>
          </a:prstGeom>
          <a:noFill/>
          <a:ln w="2844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5097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Головне меню сторінки поштової скриньк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23640" y="2349360"/>
            <a:ext cx="2376360" cy="417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Головне меню сторінки знаходиться в її верхній частині і складається із гіперпосилань “</a:t>
            </a: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Листи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”, “</a:t>
            </a: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Контакти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”, “</a:t>
            </a: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Налаштування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”, “</a:t>
            </a: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Допомога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”, “</a:t>
            </a: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Вихід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”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Сторінка, яку ви бачите на малюнку викликається гіперпосиланням “</a:t>
            </a: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Листи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2916360" y="2903400"/>
            <a:ext cx="6227640" cy="3954600"/>
          </a:xfrm>
          <a:prstGeom prst="rect">
            <a:avLst/>
          </a:prstGeom>
          <a:ln w="0">
            <a:noFill/>
          </a:ln>
        </p:spPr>
      </p:pic>
      <p:sp>
        <p:nvSpPr>
          <p:cNvPr id="216" name="Oval 5"/>
          <p:cNvSpPr/>
          <p:nvPr/>
        </p:nvSpPr>
        <p:spPr>
          <a:xfrm>
            <a:off x="5219640" y="2708280"/>
            <a:ext cx="3816360" cy="865080"/>
          </a:xfrm>
          <a:prstGeom prst="ellipse">
            <a:avLst/>
          </a:prstGeom>
          <a:noFill/>
          <a:ln w="2844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Сторінка “Листи”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79280" y="2349000"/>
            <a:ext cx="2664000" cy="431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Продовжимо знайомство зі сторінкою “</a:t>
            </a:r>
            <a:r>
              <a:rPr b="1" lang="uk-UA" sz="1600" spc="-1" strike="noStrike">
                <a:solidFill>
                  <a:srgbClr val="003366"/>
                </a:solidFill>
                <a:latin typeface="Arial"/>
              </a:rPr>
              <a:t>Листи</a:t>
            </a: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”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Ліворуч знаходиться група гіперпосилань для управління. Вона містить елементи “</a:t>
            </a:r>
            <a:r>
              <a:rPr b="1" lang="uk-UA" sz="1600" spc="-1" strike="noStrike">
                <a:solidFill>
                  <a:srgbClr val="003366"/>
                </a:solidFill>
                <a:latin typeface="Arial"/>
              </a:rPr>
              <a:t>Написати листа</a:t>
            </a: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”, “</a:t>
            </a:r>
            <a:r>
              <a:rPr b="1" lang="uk-UA" sz="1600" spc="-1" strike="noStrike">
                <a:solidFill>
                  <a:srgbClr val="003366"/>
                </a:solidFill>
                <a:latin typeface="Arial"/>
              </a:rPr>
              <a:t>Перевірити пошту</a:t>
            </a: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”, “</a:t>
            </a:r>
            <a:r>
              <a:rPr b="1" lang="uk-UA" sz="1600" spc="-1" strike="noStrike">
                <a:solidFill>
                  <a:srgbClr val="003366"/>
                </a:solidFill>
                <a:latin typeface="Arial"/>
              </a:rPr>
              <a:t>Управління папками</a:t>
            </a: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”, “</a:t>
            </a:r>
            <a:r>
              <a:rPr b="1" lang="uk-UA" sz="1600" spc="-1" strike="noStrike">
                <a:solidFill>
                  <a:srgbClr val="003366"/>
                </a:solidFill>
                <a:latin typeface="Arial"/>
              </a:rPr>
              <a:t>Написати розробникам</a:t>
            </a: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”, “</a:t>
            </a:r>
            <a:r>
              <a:rPr b="1" lang="uk-UA" sz="1600" spc="-1" strike="noStrike">
                <a:solidFill>
                  <a:srgbClr val="003366"/>
                </a:solidFill>
                <a:latin typeface="Arial"/>
              </a:rPr>
              <a:t>Всі відправники</a:t>
            </a: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”, “</a:t>
            </a:r>
            <a:r>
              <a:rPr b="1" lang="uk-UA" sz="1600" spc="-1" strike="noStrike">
                <a:solidFill>
                  <a:srgbClr val="003366"/>
                </a:solidFill>
                <a:latin typeface="Arial"/>
              </a:rPr>
              <a:t>Всі отримувачі</a:t>
            </a: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”, а також гіперпосилання для переходу на сторінки, що містять вхідні  повідомлення, чернетки та повідомлення, відправлені абонентом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Назви цих посилань говорять самі за себе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9" name="Picture 4" descr=""/>
          <p:cNvPicPr/>
          <p:nvPr/>
        </p:nvPicPr>
        <p:blipFill>
          <a:blip r:embed="rId1"/>
          <a:stretch/>
        </p:blipFill>
        <p:spPr>
          <a:xfrm>
            <a:off x="2916360" y="2903400"/>
            <a:ext cx="6227640" cy="3954600"/>
          </a:xfrm>
          <a:prstGeom prst="rect">
            <a:avLst/>
          </a:prstGeom>
          <a:ln w="0">
            <a:noFill/>
          </a:ln>
        </p:spPr>
      </p:pic>
      <p:sp>
        <p:nvSpPr>
          <p:cNvPr id="220" name="Oval 5"/>
          <p:cNvSpPr/>
          <p:nvPr/>
        </p:nvSpPr>
        <p:spPr>
          <a:xfrm>
            <a:off x="2700360" y="4076640"/>
            <a:ext cx="1942920" cy="2781360"/>
          </a:xfrm>
          <a:prstGeom prst="ellipse">
            <a:avLst/>
          </a:prstGeom>
          <a:noFill/>
          <a:ln w="2844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З чого почат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560" y="2492280"/>
            <a:ext cx="2592360" cy="373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Якщо ви увійшли до тільки що створеної скриньки, то відразу виникає бажання перевірити її роботу – відправити комусь повідомлення, або отримати листа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Цим “хтось” можете бути ви самі. Тобто ви можете написати та відправити листа у власну скриньку. Для цього натиснемо гіперпосилання “</a:t>
            </a:r>
            <a:r>
              <a:rPr b="1" lang="uk-UA" sz="1600" spc="-1" strike="noStrike">
                <a:solidFill>
                  <a:srgbClr val="003366"/>
                </a:solidFill>
                <a:latin typeface="Arial"/>
              </a:rPr>
              <a:t>Написати листа</a:t>
            </a: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1"/>
          <a:stretch/>
        </p:blipFill>
        <p:spPr>
          <a:xfrm>
            <a:off x="2916360" y="2903400"/>
            <a:ext cx="6227640" cy="3954600"/>
          </a:xfrm>
          <a:prstGeom prst="rect">
            <a:avLst/>
          </a:prstGeom>
          <a:ln w="0">
            <a:noFill/>
          </a:ln>
        </p:spPr>
      </p:pic>
      <p:sp>
        <p:nvSpPr>
          <p:cNvPr id="224" name="Oval 5"/>
          <p:cNvSpPr/>
          <p:nvPr/>
        </p:nvSpPr>
        <p:spPr>
          <a:xfrm>
            <a:off x="2843280" y="4076640"/>
            <a:ext cx="1657440" cy="576360"/>
          </a:xfrm>
          <a:prstGeom prst="ellipse">
            <a:avLst/>
          </a:prstGeom>
          <a:noFill/>
          <a:ln w="2844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Пишемо собі лист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23640" y="2421000"/>
            <a:ext cx="2447640" cy="41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Текст листа записується і форматується у великому білому прямокутному полі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У полі “</a:t>
            </a: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Кому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” записуємо адресу отримувача. У даному випадку - свою. У полі “</a:t>
            </a: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Тема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” вказуємо тему, що відповідає змісту листа. В кінці натискаємо кнопку “</a:t>
            </a: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Відправити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”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1"/>
          <a:stretch/>
        </p:blipFill>
        <p:spPr>
          <a:xfrm>
            <a:off x="2771640" y="2119320"/>
            <a:ext cx="6372360" cy="4738680"/>
          </a:xfrm>
          <a:prstGeom prst="rect">
            <a:avLst/>
          </a:prstGeom>
          <a:ln w="0">
            <a:noFill/>
          </a:ln>
        </p:spPr>
      </p:pic>
      <p:sp>
        <p:nvSpPr>
          <p:cNvPr id="228" name="Oval 6"/>
          <p:cNvSpPr/>
          <p:nvPr/>
        </p:nvSpPr>
        <p:spPr>
          <a:xfrm>
            <a:off x="4500720" y="6237360"/>
            <a:ext cx="1079280" cy="431640"/>
          </a:xfrm>
          <a:prstGeom prst="ellipse">
            <a:avLst/>
          </a:prstGeom>
          <a:noFill/>
          <a:ln w="2844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Переглядаємо пошт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50920" y="2362320"/>
            <a:ext cx="4176720" cy="358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При роботі з поштою вам доведеться час від часу входити до власної скриньки та переглядати її вміст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Для цього існує гіперпосилання “</a:t>
            </a:r>
            <a:r>
              <a:rPr b="1" lang="uk-UA" sz="1400" spc="-1" strike="noStrike">
                <a:solidFill>
                  <a:srgbClr val="003366"/>
                </a:solidFill>
                <a:latin typeface="Arial"/>
              </a:rPr>
              <a:t>Перевірити пошту</a:t>
            </a: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”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Після перевірки, ви побачите нижче цього посилання дані про вміст вашої скриньки. У вас одне не прочитане повідомлення. Про це говорять числа </a:t>
            </a:r>
            <a:r>
              <a:rPr b="1" lang="uk-UA" sz="14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/1. Друга одиниця вказує на загальну кількість вхідних повідомлень, а перша – на кількість непереглянутих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Також у вас одне відправлене повідомлення – це те що ви відправили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У вас є можливість переглянути будь-яке із них. Для цього необхідно натиснути на відповідному посиланні, наприклад “</a:t>
            </a:r>
            <a:r>
              <a:rPr b="1" lang="uk-UA" sz="1400" spc="-1" strike="noStrike">
                <a:solidFill>
                  <a:srgbClr val="003366"/>
                </a:solidFill>
                <a:latin typeface="Arial"/>
              </a:rPr>
              <a:t>Вхідні</a:t>
            </a: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1"/>
          <a:srcRect l="0" t="0" r="73702" b="45726"/>
          <a:stretch/>
        </p:blipFill>
        <p:spPr>
          <a:xfrm>
            <a:off x="4716360" y="2492280"/>
            <a:ext cx="2394000" cy="3673440"/>
          </a:xfrm>
          <a:prstGeom prst="rect">
            <a:avLst/>
          </a:prstGeom>
          <a:ln w="0">
            <a:noFill/>
          </a:ln>
        </p:spPr>
      </p:pic>
      <p:sp>
        <p:nvSpPr>
          <p:cNvPr id="232" name="Oval 5"/>
          <p:cNvSpPr/>
          <p:nvPr/>
        </p:nvSpPr>
        <p:spPr>
          <a:xfrm>
            <a:off x="4643280" y="2997360"/>
            <a:ext cx="2521080" cy="1726920"/>
          </a:xfrm>
          <a:prstGeom prst="ellipse">
            <a:avLst/>
          </a:prstGeom>
          <a:noFill/>
          <a:ln w="2844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0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Поштові сервери та поштові скринь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3873600" cy="16430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 u="sng">
                <a:solidFill>
                  <a:srgbClr val="003366"/>
                </a:solidFill>
                <a:uFillTx/>
                <a:latin typeface="Arial"/>
              </a:rPr>
              <a:t>Під </a:t>
            </a:r>
            <a:r>
              <a:rPr b="0" lang="uk-UA" sz="1600" spc="-1" strike="noStrike" u="sng">
                <a:solidFill>
                  <a:srgbClr val="ff3300"/>
                </a:solidFill>
                <a:uFillTx/>
                <a:latin typeface="Arial"/>
              </a:rPr>
              <a:t>поштовим сервером</a:t>
            </a:r>
            <a:r>
              <a:rPr b="0" lang="uk-UA" sz="1600" spc="-1" strike="noStrike" u="sng">
                <a:solidFill>
                  <a:srgbClr val="003366"/>
                </a:solidFill>
                <a:uFillTx/>
                <a:latin typeface="Arial"/>
              </a:rPr>
              <a:t> розуміють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4762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uk-UA" sz="1600" spc="-1" strike="noStrike">
                <a:solidFill>
                  <a:srgbClr val="003366"/>
                </a:solidFill>
                <a:latin typeface="Arial"/>
              </a:rPr>
              <a:t>програми</a:t>
            </a: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, що організовують роботу електронної пошти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4762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uk-UA" sz="1600" spc="-1" strike="noStrike">
                <a:solidFill>
                  <a:srgbClr val="003366"/>
                </a:solidFill>
                <a:latin typeface="Arial"/>
              </a:rPr>
              <a:t>комп'ютер</a:t>
            </a: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, який містить програми, що організовують роботу електронної пошти та поштові скриньки абонентів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5364000" y="4076640"/>
            <a:ext cx="3456000" cy="21607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 u="sng">
                <a:solidFill>
                  <a:srgbClr val="003366"/>
                </a:solidFill>
                <a:uFillTx/>
                <a:latin typeface="Arial"/>
              </a:rPr>
              <a:t>Під </a:t>
            </a:r>
            <a:r>
              <a:rPr b="0" lang="uk-UA" sz="1600" spc="-1" strike="noStrike" u="sng">
                <a:solidFill>
                  <a:srgbClr val="ff3300"/>
                </a:solidFill>
                <a:uFillTx/>
                <a:latin typeface="Arial"/>
              </a:rPr>
              <a:t>поштовою скринькою</a:t>
            </a:r>
            <a:r>
              <a:rPr b="0" lang="uk-UA" sz="1600" spc="-1" strike="noStrike" u="sng">
                <a:solidFill>
                  <a:srgbClr val="003366"/>
                </a:solidFill>
                <a:uFillTx/>
                <a:latin typeface="Arial"/>
              </a:rPr>
              <a:t> розуміють: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- папку, що знаходиться на поштовому сервері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комп'ютері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, до якої за допомогою поштових програм (поштового сервера) може мати доступ абонент-власник цієї папки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Вхідні повідомленн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495288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Якщо ви натиснули на посиланні “</a:t>
            </a:r>
            <a:r>
              <a:rPr b="1" lang="uk-UA" sz="1600" spc="-1" strike="noStrike">
                <a:solidFill>
                  <a:srgbClr val="003366"/>
                </a:solidFill>
                <a:latin typeface="Arial"/>
              </a:rPr>
              <a:t>Вхідні</a:t>
            </a: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”, то перед вами розгорнеться сторінка із списком вхідних повідомлень. Поки що у вас одне повідомлення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Щоб переглянути його, натисніть на ньому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(В даному прикладі це фраза “</a:t>
            </a:r>
            <a:r>
              <a:rPr b="1" lang="uk-UA" sz="1600" spc="-1" strike="noStrike">
                <a:solidFill>
                  <a:srgbClr val="008000"/>
                </a:solidFill>
                <a:latin typeface="Arial"/>
              </a:rPr>
              <a:t>Тест Тестов (…)</a:t>
            </a: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”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1"/>
          <a:stretch/>
        </p:blipFill>
        <p:spPr>
          <a:xfrm>
            <a:off x="1600200" y="4448160"/>
            <a:ext cx="7543800" cy="2409840"/>
          </a:xfrm>
          <a:prstGeom prst="rect">
            <a:avLst/>
          </a:prstGeom>
          <a:ln w="0">
            <a:noFill/>
          </a:ln>
        </p:spPr>
      </p:pic>
      <p:sp>
        <p:nvSpPr>
          <p:cNvPr id="236" name="Oval 5"/>
          <p:cNvSpPr/>
          <p:nvPr/>
        </p:nvSpPr>
        <p:spPr>
          <a:xfrm>
            <a:off x="3995640" y="5157720"/>
            <a:ext cx="1297080" cy="432000"/>
          </a:xfrm>
          <a:prstGeom prst="ellipse">
            <a:avLst/>
          </a:prstGeom>
          <a:noFill/>
          <a:ln w="2844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3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Переглядаємо зміст повідомленн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78920" y="2361960"/>
            <a:ext cx="2089080" cy="430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Ви натиснули назву повідомлення і перейшли до сторінки змісту повідомлення. На ній видно, від кого отримане це повідомлення, кому призначене, дату та час відправлення, тему і сам текст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До речі, текст може містити смайлики – невеличкі графічні зображення, що передають емоції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9" name="Picture 4" descr=""/>
          <p:cNvPicPr/>
          <p:nvPr/>
        </p:nvPicPr>
        <p:blipFill>
          <a:blip r:embed="rId1"/>
          <a:stretch/>
        </p:blipFill>
        <p:spPr>
          <a:xfrm>
            <a:off x="2340000" y="3089160"/>
            <a:ext cx="6804000" cy="376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Відповідь на лист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50560" y="2362320"/>
            <a:ext cx="2089080" cy="16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Щоб відповісти на цей лист, слід натиснути посилання “</a:t>
            </a: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Відповісти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2411280" y="3129120"/>
            <a:ext cx="6732720" cy="3728880"/>
          </a:xfrm>
          <a:prstGeom prst="rect">
            <a:avLst/>
          </a:prstGeom>
          <a:ln w="0">
            <a:noFill/>
          </a:ln>
        </p:spPr>
      </p:pic>
      <p:sp>
        <p:nvSpPr>
          <p:cNvPr id="243" name="Oval 5"/>
          <p:cNvSpPr/>
          <p:nvPr/>
        </p:nvSpPr>
        <p:spPr>
          <a:xfrm>
            <a:off x="4140360" y="6165720"/>
            <a:ext cx="718920" cy="358920"/>
          </a:xfrm>
          <a:prstGeom prst="ellipse">
            <a:avLst/>
          </a:prstGeom>
          <a:noFill/>
          <a:ln w="2844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6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Створюємо та надсилаємо відповідь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26920" y="2420640"/>
            <a:ext cx="266544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Після відкриття сторінки відповіді на повідомлення автоматично додається адреса одержувача, тема, та у полі тексту – текст, що містить лист, на який готується відповідь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Нижче цього тексту ви набираєте відповідне повідомлення та натискаєте кнопку “</a:t>
            </a: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Відправити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”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rcRect l="25462" t="0" r="3309" b="4640"/>
          <a:stretch/>
        </p:blipFill>
        <p:spPr>
          <a:xfrm>
            <a:off x="3635280" y="1389240"/>
            <a:ext cx="5257800" cy="5208480"/>
          </a:xfrm>
          <a:prstGeom prst="rect">
            <a:avLst/>
          </a:prstGeom>
          <a:ln w="0">
            <a:noFill/>
          </a:ln>
        </p:spPr>
      </p:pic>
      <p:sp>
        <p:nvSpPr>
          <p:cNvPr id="247" name="Oval 5"/>
          <p:cNvSpPr/>
          <p:nvPr/>
        </p:nvSpPr>
        <p:spPr>
          <a:xfrm>
            <a:off x="3851280" y="5157720"/>
            <a:ext cx="2521080" cy="576360"/>
          </a:xfrm>
          <a:prstGeom prst="ellipse">
            <a:avLst/>
          </a:prstGeom>
          <a:noFill/>
          <a:ln w="2844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AutoShape 7"/>
          <p:cNvSpPr/>
          <p:nvPr/>
        </p:nvSpPr>
        <p:spPr>
          <a:xfrm>
            <a:off x="6516720" y="4076640"/>
            <a:ext cx="1727280" cy="792360"/>
          </a:xfrm>
          <a:prstGeom prst="wedgeRectCallout">
            <a:avLst>
              <a:gd name="adj1" fmla="val -59925"/>
              <a:gd name="adj2" fmla="val 109921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3366"/>
                </a:solidFill>
                <a:latin typeface="Times New Roman"/>
              </a:rPr>
              <a:t>В цьому місці наберіть відповідь на повідомлення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9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Завершенн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5241960" cy="308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Якщо ви відправили повідомлення-відповідь, то воно знову надійде до вашої скриньки. А це означає, що роботу скриньки ви перевірили і тепер можете листуватися із своїми друзями або партнерами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Але є одне важливе застереження: дотримуйтеся тих правил листування, які ви читали під час реєстрації поштової скриньки, а також не відкривайте повідомлень, отриманих з незнайомої вам адреси та повідомлень без вказаної теми, навіть якщо вони від товариша. Дуже можливо, що вони містять комп'ютерні віруси, які зададуть вашому комп'ютеру великої шкоди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Існують віруси-хробаки, які самі створюють повідомлення, заражають його і відправляють на всі адреси адресної книги абонента. А сам абонент про це навіть не здогадується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Режими доступу до електронної поштової скринь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4017960" cy="257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 u="sng">
                <a:solidFill>
                  <a:srgbClr val="003366"/>
                </a:solidFill>
                <a:uFillTx/>
                <a:latin typeface="Arial"/>
              </a:rPr>
              <a:t>Для клієнтів поштового сервера існує два режими доступу до електронних скриньок, що знаходяться на ньому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uk-UA" sz="1600" spc="-1" strike="noStrike">
                <a:solidFill>
                  <a:srgbClr val="ff3300"/>
                </a:solidFill>
                <a:latin typeface="Arial"/>
              </a:rPr>
              <a:t>доступ для зчитування</a:t>
            </a: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ff3300"/>
                </a:solidFill>
                <a:latin typeface="Arial"/>
              </a:rPr>
              <a:t>повідомлення із скриньки</a:t>
            </a: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 – для власника скриньки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uk-UA" sz="1600" spc="-1" strike="noStrike">
                <a:solidFill>
                  <a:srgbClr val="ff3300"/>
                </a:solidFill>
                <a:latin typeface="Arial"/>
              </a:rPr>
              <a:t>доступ для внесення повідомлення</a:t>
            </a: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ff3300"/>
                </a:solidFill>
                <a:latin typeface="Arial"/>
              </a:rPr>
              <a:t>у скриньку</a:t>
            </a: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 – для всіх користувачів Інтернет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Picture 4" descr="BURPMAIL"/>
          <p:cNvPicPr/>
          <p:nvPr/>
        </p:nvPicPr>
        <p:blipFill>
          <a:blip r:embed="rId1"/>
          <a:stretch/>
        </p:blipFill>
        <p:spPr>
          <a:xfrm>
            <a:off x="5651640" y="4149720"/>
            <a:ext cx="1728720" cy="8510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6877080" y="5516640"/>
            <a:ext cx="1655640" cy="733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3366"/>
                </a:solidFill>
                <a:latin typeface="Times New Roman"/>
              </a:rPr>
              <a:t>Надсилання електронного листа будь-ким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Line 6"/>
          <p:cNvSpPr/>
          <p:nvPr/>
        </p:nvSpPr>
        <p:spPr>
          <a:xfrm flipH="1" flipV="1">
            <a:off x="7093080" y="5013000"/>
            <a:ext cx="287280" cy="43164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6804000" y="2901960"/>
            <a:ext cx="1655640" cy="9464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3366"/>
                </a:solidFill>
                <a:latin typeface="Times New Roman"/>
              </a:rPr>
              <a:t>Перегляд електронного листа власником поштової скриньки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Line 8"/>
          <p:cNvSpPr/>
          <p:nvPr/>
        </p:nvSpPr>
        <p:spPr>
          <a:xfrm flipV="1">
            <a:off x="6227640" y="3860640"/>
            <a:ext cx="503280" cy="432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Протоколи (програми) доступу для читання повідомлення із скриньк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3873600" cy="21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Щоб мати доступ до отриманих повідомлень власної скриньки, клієнт повинен скористатися протоколом вхідних повідомлень </a:t>
            </a: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POP3 </a:t>
            </a: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1" lang="uk-UA" sz="1600" spc="-1" strike="noStrike">
                <a:solidFill>
                  <a:srgbClr val="003366"/>
                </a:solidFill>
                <a:latin typeface="Arial"/>
              </a:rPr>
              <a:t>P</a:t>
            </a: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ost </a:t>
            </a:r>
            <a:r>
              <a:rPr b="1" lang="uk-UA" sz="16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ffice </a:t>
            </a:r>
            <a:r>
              <a:rPr b="1" lang="uk-UA" sz="1600" spc="-1" strike="noStrike">
                <a:solidFill>
                  <a:srgbClr val="003366"/>
                </a:solidFill>
                <a:latin typeface="Arial"/>
              </a:rPr>
              <a:t>P</a:t>
            </a: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rotocol - Поштовий Офісний Протокол)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Протокол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POP3</a:t>
            </a: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 є програмою, яка забезпечує цей доступ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5148360" y="4365720"/>
            <a:ext cx="381636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Існує також інший протокол доступу до власної скриньки –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IMAP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Internet Message Access Protocol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Протокол Доступу до Інтернет Повідомлень).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Протокол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IMAP</a:t>
            </a: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 використовується клієнтом не тільки для доступу, а й для маніпулювання повідомленнями електронної пошти на сервері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Доступ до власної скринь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657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3366"/>
                </a:solidFill>
                <a:latin typeface="Arial"/>
              </a:rPr>
              <a:t>Щоб отримати доступ до власної скриньки, необхідно протоколу вхідних повідомлень (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POP3</a:t>
            </a:r>
            <a:r>
              <a:rPr b="1" lang="uk-UA" sz="1400" spc="-1" strike="noStrike">
                <a:solidFill>
                  <a:srgbClr val="003366"/>
                </a:solidFill>
                <a:latin typeface="Arial"/>
              </a:rPr>
              <a:t> або 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IMAP</a:t>
            </a:r>
            <a:r>
              <a:rPr b="1" lang="uk-UA" sz="1400" spc="-1" strike="noStrike">
                <a:solidFill>
                  <a:srgbClr val="003366"/>
                </a:solidFill>
                <a:latin typeface="Arial"/>
              </a:rPr>
              <a:t>) вказати її ім'я (логін) та пароль доступу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5148360" y="5950080"/>
            <a:ext cx="334800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200" spc="-1" strike="noStrike" u="sng">
                <a:solidFill>
                  <a:srgbClr val="ff3300"/>
                </a:solidFill>
                <a:uFillTx/>
                <a:latin typeface="Arial"/>
              </a:rPr>
              <a:t>Примітка:</a:t>
            </a:r>
            <a:r>
              <a:rPr b="0" i="1" lang="uk-UA" sz="1200" spc="-1" strike="noStrike">
                <a:solidFill>
                  <a:srgbClr val="ff3300"/>
                </a:solidFill>
                <a:latin typeface="Arial"/>
              </a:rPr>
              <a:t> При введенні паролю на екран замість букв та цифр виводяться зірочки або крупні точки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4932360" y="2421000"/>
            <a:ext cx="3456000" cy="879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3300"/>
                </a:solidFill>
                <a:latin typeface="Arial"/>
              </a:rPr>
              <a:t>Логіном</a:t>
            </a:r>
            <a:r>
              <a:rPr b="0" lang="uk-UA" sz="1200" spc="-1" strike="noStrike">
                <a:solidFill>
                  <a:srgbClr val="003366"/>
                </a:solidFill>
                <a:latin typeface="Arial"/>
              </a:rPr>
              <a:t> є ім'я самої поштової скриньки, яке формується за правилами, встановленими на сервері, що містить цю скриньку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Arial"/>
              </a:rPr>
              <a:t>Наприклад, 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testov-test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1332000" y="4076640"/>
            <a:ext cx="3456000" cy="13683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3300"/>
                </a:solidFill>
                <a:latin typeface="Arial"/>
              </a:rPr>
              <a:t>Пароль</a:t>
            </a:r>
            <a:r>
              <a:rPr b="0" lang="uk-UA" sz="1200" spc="-1" strike="noStrike">
                <a:solidFill>
                  <a:srgbClr val="003366"/>
                </a:solidFill>
                <a:latin typeface="Arial"/>
              </a:rPr>
              <a:t> – група символів, яку повинен знати власник поштової скриньки для конфіденціального доступу до її вмісту. На сервері також існують правила формування паролю, які, як правило, не співпадають с правилами формування логіну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Arial"/>
              </a:rPr>
              <a:t>Наприклад, 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G32p7qW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5" name="Picture 8" descr=""/>
          <p:cNvPicPr/>
          <p:nvPr/>
        </p:nvPicPr>
        <p:blipFill>
          <a:blip r:embed="rId1"/>
          <a:stretch/>
        </p:blipFill>
        <p:spPr>
          <a:xfrm>
            <a:off x="5796000" y="3860640"/>
            <a:ext cx="1724040" cy="14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Повне ім'я протоколу доступ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408924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Протокол вхідних повідомлень знаходиться на поштовому сервері (комп'ютері)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Тому для доступу до нього слід крім ім'я протоколу вказати доменне ім'я сервера, на якому він знаходиться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Наприклад, 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pop.ukr.net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є повним ім'ям протоколу доступу до зчитування пошти на домені 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ukr.ne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Ім'я протоколу доступу до вхідної пошти використовують при створенні облікових записів поштових програм таких як 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Outlook Express</a:t>
            </a: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8" name="Picture 5" descr="Smtp_pass_oe1"/>
          <p:cNvPicPr/>
          <p:nvPr/>
        </p:nvPicPr>
        <p:blipFill>
          <a:blip r:embed="rId1"/>
          <a:stretch/>
        </p:blipFill>
        <p:spPr>
          <a:xfrm>
            <a:off x="5219640" y="2421000"/>
            <a:ext cx="3705120" cy="4286160"/>
          </a:xfrm>
          <a:prstGeom prst="rect">
            <a:avLst/>
          </a:prstGeom>
          <a:ln w="0">
            <a:noFill/>
          </a:ln>
        </p:spPr>
      </p:pic>
      <p:sp>
        <p:nvSpPr>
          <p:cNvPr id="129" name="Line 6"/>
          <p:cNvSpPr/>
          <p:nvPr/>
        </p:nvSpPr>
        <p:spPr>
          <a:xfrm flipV="1">
            <a:off x="6372360" y="3644640"/>
            <a:ext cx="503280" cy="4316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Протокол (програма) відправлення повідомленн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3657600" cy="38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Для відправлення створеного повідомлення до поштової скриньки іншого клієнта на поштовому сервері використовують протокол (програму) </a:t>
            </a:r>
            <a:r>
              <a:rPr b="1" lang="uk-UA" sz="1400" spc="-1" strike="noStrike">
                <a:solidFill>
                  <a:srgbClr val="ff3300"/>
                </a:solidFill>
                <a:latin typeface="Arial"/>
              </a:rPr>
              <a:t>SMTP</a:t>
            </a: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1" lang="uk-UA" sz="1400" spc="-1" strike="noStrike">
                <a:solidFill>
                  <a:srgbClr val="003366"/>
                </a:solidFill>
                <a:latin typeface="Arial"/>
              </a:rPr>
              <a:t>Simple Mail Transfer Protocol</a:t>
            </a: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  - Простий Протокол Пересилання Пошти)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Цей протокол вимагає вказати повне ім'я поштової скриньки отримувача – його електронної адреси (див. далі)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Повне ім'я сервера відправлення повідомлень, як правило, також складається із імені протоколу та імені домену, наприклад, 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smtp.ukr.ne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Ім'я протоколу вихідної пошти використовують при створенні облікових записів поштових програм таких як 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Outlook Express</a:t>
            </a:r>
            <a:r>
              <a:rPr b="0" lang="uk-UA" sz="1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4" descr="Smtp_pass_oe1"/>
          <p:cNvPicPr/>
          <p:nvPr/>
        </p:nvPicPr>
        <p:blipFill>
          <a:blip r:embed="rId1"/>
          <a:stretch/>
        </p:blipFill>
        <p:spPr>
          <a:xfrm>
            <a:off x="5219640" y="2421000"/>
            <a:ext cx="3705120" cy="4286160"/>
          </a:xfrm>
          <a:prstGeom prst="rect">
            <a:avLst/>
          </a:prstGeom>
          <a:ln w="0">
            <a:noFill/>
          </a:ln>
        </p:spPr>
      </p:pic>
      <p:sp>
        <p:nvSpPr>
          <p:cNvPr id="133" name="Line 5"/>
          <p:cNvSpPr/>
          <p:nvPr/>
        </p:nvSpPr>
        <p:spPr>
          <a:xfrm flipV="1">
            <a:off x="6588000" y="3933720"/>
            <a:ext cx="503280" cy="432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Електронна адрес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Для відправки електронного повідомлення протоколу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MTP</a:t>
            </a: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 потрібно вказати адресу електронної пошти (e-mail) одержувача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3366"/>
                </a:solidFill>
                <a:latin typeface="Arial"/>
              </a:rPr>
              <a:t>Електронна адреса має таку структуру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3300"/>
                </a:solidFill>
                <a:latin typeface="Arial"/>
              </a:rPr>
              <a:t>назва поштової скриньки @ адреса поштового сервер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Наприклад,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testov-test@ukr.ne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Перша частина адреси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testov-test </a:t>
            </a: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є ім'я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логін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 користувача, під яким він відомий своєму поштовому серверу. Друга частина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ukr.net</a:t>
            </a: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 є адреса поштового сервера, який містить і опрацьовує електронну пошту одержувача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1042920" y="6021360"/>
            <a:ext cx="684216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3300"/>
                </a:solidFill>
                <a:latin typeface="Times New Roman"/>
              </a:rPr>
              <a:t>Примітка: кожен абонент має унікальну поштову адресую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6443640" y="4005360"/>
            <a:ext cx="2016000" cy="8240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66"/>
                </a:solidFill>
                <a:latin typeface="Times New Roman"/>
              </a:rPr>
              <a:t>Значок 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@</a:t>
            </a:r>
            <a:r>
              <a:rPr b="0" lang="uk-UA" sz="1600" spc="-1" strike="noStrike">
                <a:solidFill>
                  <a:srgbClr val="003366"/>
                </a:solidFill>
                <a:latin typeface="Times New Roman"/>
              </a:rPr>
              <a:t> має назву “</a:t>
            </a:r>
            <a:r>
              <a:rPr b="1" lang="uk-UA" sz="1600" spc="-1" strike="noStrike">
                <a:solidFill>
                  <a:srgbClr val="ff3300"/>
                </a:solidFill>
                <a:latin typeface="Times New Roman"/>
              </a:rPr>
              <a:t>ет комерційне</a:t>
            </a:r>
            <a:r>
              <a:rPr b="0" lang="uk-UA" sz="1600" spc="-1" strike="noStrike">
                <a:solidFill>
                  <a:srgbClr val="003366"/>
                </a:solidFill>
                <a:latin typeface="Times New Roman"/>
              </a:rPr>
              <a:t>”, в народі -  “</a:t>
            </a:r>
            <a:r>
              <a:rPr b="1" lang="uk-UA" sz="1600" spc="-1" strike="noStrike">
                <a:solidFill>
                  <a:srgbClr val="ff3300"/>
                </a:solidFill>
                <a:latin typeface="Times New Roman"/>
              </a:rPr>
              <a:t>собачка</a:t>
            </a:r>
            <a:r>
              <a:rPr b="0" lang="uk-UA" sz="1600" spc="-1" strike="noStrike">
                <a:solidFill>
                  <a:srgbClr val="003366"/>
                </a:solidFill>
                <a:latin typeface="Times New Roman"/>
              </a:rPr>
              <a:t>”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7T09:30:04Z</dcterms:created>
  <dc:creator>Teacher</dc:creator>
  <dc:description/>
  <dc:language>en-US</dc:language>
  <cp:lastModifiedBy>Two_2</cp:lastModifiedBy>
  <dcterms:modified xsi:type="dcterms:W3CDTF">2014-02-16T19:21:23Z</dcterms:modified>
  <cp:revision>97</cp:revision>
  <dc:subject/>
  <dc:title>Глобальна мережа Internet</dc:title>
</cp:coreProperties>
</file>