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B15-A003-4A46-9BD3-AE4AC365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25F-710A-4507-8463-BF39B63C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F32-BB5D-4D78-A6A8-CD277781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2D4-6E72-44DD-92E5-AB91C79E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423A-6086-4D22-BF6C-010137A7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974D-F915-4989-A9FB-E112B84E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BE08-9E87-4D0F-81C1-DD9ACDAB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DB49-620F-4ECE-B9A1-4CB857DB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CEAB-92AE-4CEA-9F6A-576B0EF9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B038-5CF7-4E80-ADC1-3C2B39AB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D3DB-0EC3-48D1-9F53-C17BFEBC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D33-0987-4F67-8AC2-A59BA14C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3ED2-FF8B-40EF-A059-C336DBDF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B0E0-6270-4746-90D7-CA6EF320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1BE3-5639-4DD2-A7E6-F24A2472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7510-8A6F-49EB-803A-3A7DA143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F184-8651-44C3-9CFB-2B281B79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1D0-6AE3-46F2-A558-234E69E2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263-9316-42B6-AF4F-8E436042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455C-FC0D-494F-9E56-8A5D6DED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529-1A0F-4217-8965-A7936085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6EE-2202-4CC5-A358-5D3CFFE3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A9D-9F34-4D00-B169-882B9D65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BF3-C4ED-492A-92A8-93278A38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ашук О.Ф. вч.інформатики ЗОШ №23 м.Луць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91E2-D105-4E6D-B22F-87C8658164C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ашук О.Ф. вч.інформатики ЗОШ №23 м.Луць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695E-0E7F-46AE-B306-99AE27863A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Popsm1@rambler.ru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8"/>
          <p:cNvSpPr txBox="1"/>
          <p:nvPr/>
        </p:nvSpPr>
        <p:spPr>
          <a:xfrm rot="414600">
            <a:off x="2590560" y="0"/>
            <a:ext cx="60195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6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лектрон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56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6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ш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56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666880" y="5638680"/>
            <a:ext cx="5715000" cy="825480"/>
          </a:xfrm>
          <a:prstGeom prst="rect">
            <a:avLst/>
          </a:prstGeom>
          <a:solidFill>
            <a:srgbClr val="faf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Arial"/>
              </a:rPr>
              <a:t>- ЦЕ СУЧАСНО, ЕКОНОМНО ТА ПРОСТО КРУ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BS01966_"/>
          <p:cNvPicPr/>
          <p:nvPr/>
        </p:nvPicPr>
        <p:blipFill>
          <a:blip r:embed="rId1"/>
          <a:stretch/>
        </p:blipFill>
        <p:spPr>
          <a:xfrm>
            <a:off x="2514600" y="2209680"/>
            <a:ext cx="5486400" cy="323712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2a3ff"/>
                </a:solidFill>
                <a:latin typeface="Arial"/>
              </a:rPr>
              <a:t>Чашук О.Ф. вч.інформатики ЗОШ №23 м.Луць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ам'ят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— засіб спілкування між людь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д тим, як надіслати листа, прочитайте його уважно ще раз і поставте подумки себе на місце одержув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BS01966_"/>
          <p:cNvPicPr/>
          <p:nvPr/>
        </p:nvPicPr>
        <p:blipFill>
          <a:blip r:embed="rId1"/>
          <a:stretch/>
        </p:blipFill>
        <p:spPr>
          <a:xfrm rot="20137800">
            <a:off x="1599840" y="380520"/>
            <a:ext cx="3429000" cy="184320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2a3ff"/>
                </a:solidFill>
                <a:latin typeface="Arial"/>
              </a:rPr>
              <a:t>Чашук О.Ф. вч.інформатики ЗОШ №23 м.Луць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c0039"/>
                </a:solidFill>
                <a:latin typeface="Arial"/>
              </a:rPr>
              <a:t>Користуйтеся усіма перевагами електронної пошти!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1800" y="1904760"/>
            <a:ext cx="5562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ручні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Швидкі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Легкий доступ до нови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ожливий вихід на форум, ча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еклама, гороскоп, інформація на всі смаки і потреб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ишіть нас на адрес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4005c"/>
                </a:solidFill>
                <a:uFillTx/>
                <a:latin typeface="Arial"/>
              </a:rPr>
              <a:t>Chashuk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@ukr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ff"/>
                </a:solidFill>
                <a:latin typeface="Arial"/>
              </a:rPr>
              <a:t>Напиши мені лис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ff"/>
                </a:solidFill>
                <a:latin typeface="Arial"/>
              </a:rPr>
              <a:t>Два рядочки всьог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ff"/>
                </a:solidFill>
                <a:latin typeface="Arial"/>
              </a:rPr>
              <a:t>Щоби я хоч коли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ff"/>
                </a:solidFill>
                <a:latin typeface="Arial"/>
              </a:rPr>
              <a:t>Міг читати йог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ff"/>
                </a:solidFill>
                <a:latin typeface="Arial"/>
              </a:rPr>
              <a:t>Щоб співались пісн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ff"/>
                </a:solidFill>
                <a:latin typeface="Arial"/>
              </a:rPr>
              <a:t>просто так, для душі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ff"/>
                </a:solidFill>
                <a:latin typeface="Arial"/>
              </a:rPr>
              <a:t>Напиши мені лис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ff"/>
                </a:solidFill>
                <a:latin typeface="Arial"/>
              </a:rPr>
              <a:t>Хоч один напиш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2a3ff"/>
                </a:solidFill>
                <a:latin typeface="Arial"/>
              </a:rPr>
              <a:t>Чашук О.Ф. вч.інформатики ЗОШ №23 м.Луць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равила </a:t>
            </a:r>
            <a:r>
              <a:rPr b="1" lang="uk-UA" sz="3600" spc="-1" strike="noStrike">
                <a:solidFill>
                  <a:srgbClr val="8c0039"/>
                </a:solidFill>
                <a:latin typeface="Arial"/>
              </a:rPr>
              <a:t>безпеки та етикет електронного листуванн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роблеми безпеки електронної пош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Фальшиві адреси відправ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ерехоплення л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оштові бом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Небажані листи (спа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mail"/>
          <p:cNvPicPr/>
          <p:nvPr/>
        </p:nvPicPr>
        <p:blipFill>
          <a:blip r:embed="rId1"/>
          <a:stretch/>
        </p:blipFill>
        <p:spPr>
          <a:xfrm>
            <a:off x="6477120" y="4114800"/>
            <a:ext cx="2431800" cy="2590920"/>
          </a:xfrm>
          <a:prstGeom prst="rect">
            <a:avLst/>
          </a:prstGeom>
          <a:ln w="0">
            <a:noFill/>
          </a:ln>
        </p:spPr>
      </p:pic>
      <p:sp>
        <p:nvSpPr>
          <p:cNvPr id="9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2a3ff"/>
                </a:solidFill>
                <a:latin typeface="Arial"/>
              </a:rPr>
              <a:t>Чашук О.Ф. вч.інформатики ЗОШ №23 м.Луць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8c0039"/>
                </a:solidFill>
                <a:latin typeface="Arial"/>
              </a:rPr>
              <a:t>Проблеми безпеки електронної пошти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новні протоколи передачі пош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МАР4), як правило, не здійснюють надійної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автентифік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що дозволяє легко створити листи з фальшивими адрес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і протоколи не використовують криптографію, яка б гарантувала конфіденційність електронних лис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2a3ff"/>
                </a:solidFill>
                <a:latin typeface="Arial"/>
              </a:rPr>
              <a:t>Чашук О.Ф. вч.інформатики ЗОШ №23 м.Луць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8c0039"/>
                </a:solidFill>
                <a:latin typeface="Arial"/>
              </a:rPr>
              <a:t>Фальшиві адреси відправника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дресі відправника,  в електронному листі, не можна довіряти, оскільки відправник може вказати фальшиву зворотну адресу або заголовок може бути модифікований під час передачі л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2a3ff"/>
                </a:solidFill>
                <a:latin typeface="Arial"/>
              </a:rPr>
              <a:t>Чашук О.Ф. вч.інформатики ЗОШ №23 м.Луць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8c0039"/>
                </a:solidFill>
                <a:latin typeface="Arial"/>
              </a:rPr>
              <a:t>Перехоплення лис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62320" y="35049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головки та вміст електронних листів передаються в незашифрованому вигляді. У результаті вміст повідомлення може бути прочитаний або змінений під час передачі його через Інтернет. Заголовок може бути модифікований, щоб приховати або змінити відправника, або дл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аправления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відомл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BD19692_"/>
          <p:cNvPicPr/>
          <p:nvPr/>
        </p:nvPicPr>
        <p:blipFill>
          <a:blip r:embed="rId1"/>
          <a:stretch/>
        </p:blipFill>
        <p:spPr>
          <a:xfrm>
            <a:off x="4267080" y="1447920"/>
            <a:ext cx="2971800" cy="187632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2a3ff"/>
                </a:solidFill>
                <a:latin typeface="Arial"/>
              </a:rPr>
              <a:t>Чашук О.Ф. вч.інформатики ЗОШ №23 м.Луць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103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103)"/>
                                      </p:to>
                                    </p:se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8c0039"/>
                </a:solidFill>
                <a:latin typeface="Arial"/>
              </a:rPr>
              <a:t>Поштова бомб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ff"/>
                </a:solidFill>
                <a:latin typeface="Arial"/>
              </a:rPr>
              <a:t>Поштова бомба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— це атака за допомогою електронної пошти. Система, що атакується, переповнюється листами, поки не вийде з ла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які провайдери Інтернету дають тимчасов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гіни  для тестування підключення до Інтернету, і ці логіни можуть бути використані для подібних ат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BS00360_"/>
          <p:cNvPicPr/>
          <p:nvPr/>
        </p:nvPicPr>
        <p:blipFill>
          <a:blip r:embed="rId1"/>
          <a:stretch/>
        </p:blipFill>
        <p:spPr>
          <a:xfrm>
            <a:off x="685800" y="152280"/>
            <a:ext cx="2514600" cy="152424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2a3ff"/>
                </a:solidFill>
                <a:latin typeface="Arial"/>
              </a:rPr>
              <a:t>Чашук О.Ф. вч.інформатики ЗОШ №23 м.Луць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8c0039"/>
                </a:solidFill>
                <a:latin typeface="Arial"/>
              </a:rPr>
              <a:t>Небажані листи (спам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14600" y="175212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минулому, коли Інтернет був дослідницькою мережею, її комерційне використання було заборонене. Зараз працює маркетинг в Інтерне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що ви вказали вашу поштову адресу на веб-сайті, то він може продати вашу адресу «поштовим сміттяра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еякі веб-браузери самі вказують вашу поштову адресу, коли ви відвідуєт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б-сайт,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ому ви можете навіть не знати, що ви її д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рім того, фільтрація листів відбувається після того, як лист уже отриманий, тому ускладнюється видалення великих обсягів лист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2a3ff"/>
                </a:solidFill>
                <a:latin typeface="Arial"/>
              </a:rPr>
              <a:t>Чашук О.Ф. вч.інформатики ЗОШ №23 м.Луць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c0039"/>
                </a:solidFill>
                <a:latin typeface="Arial"/>
              </a:rPr>
              <a:t>Поради використання електронної пошти: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21932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іколи не довіряйте електронній пошті ті листи, які не повинні переглядатися ніким, крім адресат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 надсилайте неетичних повідомлень навіть тоді, коли ви звертаєтесь до своїх друз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удьте обережні з фразами, які можна тлумачити по-різн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відомлення буде відображатися на будь-якому терміналі, якщо воно має не більш ніж 60 символів у рядку, тому слід обмежуватися таким числом символ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користовуйте обидва регістри літер. Великі літери можна використовувати для надання емоційності деяким словам ли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 використовуйте зайве форматування, наприклад розмітку жирного шрифту. Різні термінали реагують на нього по-різн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д відправкою повідомлення ще раз уважно його передиві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ристувач сам несе відповідальність за зміст свого листа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2a3ff"/>
                </a:solidFill>
                <a:latin typeface="Arial"/>
              </a:rPr>
              <a:t>Чашук О.Ф. вч.інформатики ЗОШ №23 м.Луць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8c0039"/>
                </a:solidFill>
                <a:latin typeface="Arial"/>
              </a:rPr>
              <a:t>Етикет електронного спілкування: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066320"/>
            <a:ext cx="6400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вжди вказуйте тему листа. Вона має якомога точніше відображати його змі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самому листі намагайтеся дотримуватися теми. Пам'ятайте, що більшості людей щодня надходять десятки листів, тому викладайте свої думки стисло та зрозумі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іряйте правопис — листи з помилками сприймаються як прояв неповаги та недбалост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 робіть повідомлення занадто довгими та уникайте великих абзаців. Абзаци рекомендується відокремлювати один від одного за допомогою вільного ряд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 відправляйте листи з вкладеннями великого обсягу, не домовившись заздалегідь про це з одержувач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відповіді включайте фрагменти тексту листа, на який відповідаєте. Але цитувати слід лише фрази, що безпосередньо стосуються вашої відповід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користовуйте підпис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якому вказується ваше ім'я та адреса електронної пош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вжди будьте ввічливи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ристуйтесь у повідомлення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йликам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— схематичними познаками емоці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4-14T11:23:5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