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F03F-C037-4D0D-90A9-21F66CC80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2882-E7B1-4E64-A017-B9B31BD5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CA3DDC-E66D-4DAF-BA13-8D77AEB6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676206-A303-4C40-8EB3-7F2E38C4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8D38F4-2D31-4820-A828-FA8E23E4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91E00E-2822-49B6-9E8E-68B3FAD2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2E2368-ED6A-446C-992C-749925B3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4D15E2-E789-4A51-A89A-810539B0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488853-8CE2-419B-90E0-B3DED4B8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63A36E-261A-4C61-96A1-12E4A0406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61EE26-B36D-4E96-85BB-D9D95E8FC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688904-992F-47F0-923E-228FFF24C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B810-62D4-4CCB-97B5-F5915C37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C8FFF6-A650-4180-A283-63682C44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23ADEB-F5C2-4228-B020-2EC53C20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415818-9A96-4666-8160-35DF13D4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32677E-2B98-4168-BF9B-4F52B690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ECB8E4-ED86-44C4-B0BA-D28F92F1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8AEBE3-5B84-4161-A01E-1A2AF953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B47153-5394-4225-8811-043BF6BA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533837-589C-46B1-ADA2-22A51F78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2CCC3A-6478-4D75-B35D-3ADD0D98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781901-7F7B-440D-9197-DF7933DBB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6F8D-EE04-48BA-951A-4D195ED69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7E836C-F90A-4AC5-BE1D-8036C5A6C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8931D-F8BA-4831-8F29-15FB86527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79E53-C55A-421F-940F-6629D690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31549-DA2A-415F-9D6B-08F9FE75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BEFB5-E7F3-446F-9862-DEB99619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F88D6-2FDB-4D8A-8E01-A945AB57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E5811-B827-466C-BD2E-6DA84453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75B28-774A-4104-846B-4143EAAC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C254C-0C66-45F3-9970-313E8896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E6823-48BA-417B-B351-3C9D43FC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B385-6119-41D0-9E94-91DC88A7E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A8C84-4397-4373-BCA2-6846BC8C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6E399-B96F-47F8-916B-AAB08AE76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8F1B6-6DCF-484D-87AA-1C6468EB7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25ED4F-41FE-4A90-895B-CA427FB44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4F9EB9-AAB9-4837-A5DC-FFEF0FF4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35FA89-75CC-4627-9F64-399094DA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84B4CF-3D97-4F95-96CF-AC8533D8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82DCFB-ED38-4FAE-A5F2-4B927194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ABA9D5-8A19-40F1-AF18-6CCA8BD7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3F548C-9003-4F2F-ACA5-FC5DC042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66BD-D356-466C-96BD-A98C19CD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1081DD-37F0-4EB4-8D49-4BDFFEEA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457385-11AF-49DE-A3D3-9F4EDADF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B7D9E2-6F64-4396-B07E-09D9ECC6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7E84B6-95BD-44A4-AEBB-D2B82588A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53AA66-01FA-4D90-99FC-6F84E3BC1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CCD1-7B7E-4C22-8648-708082CE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D0FD-E103-41D7-818C-D0B32B2F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E1C7-A50E-4DC8-9177-986A2A97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8B3D-3C14-42FD-BE45-FAE6BCE7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054A-4F8C-47AB-90E3-34DCA579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578B-F374-412F-9230-B3FB9027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896D-15E1-411E-9246-954BA041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A1A9-C3B2-4B43-B84B-B92391C6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B6C8-CEAD-4E6F-951F-BDCA1B25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11F7-87FD-4AD1-929D-5A2F2BAE2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04F0-ABCA-4D87-AFD0-CE3D39DB7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391BA-65D6-43E6-AE5D-D152D5689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1C2BE-4806-4BE2-BF53-82E0EA8E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C39AC-25B8-4363-A107-AFABF736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09B13-9ECF-4AE5-8375-C9B1E43E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76E24-819D-4A87-92D1-CC28138C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6817-A311-4BD2-A259-7FD6CC8A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C4A4C-5248-4C6B-8A20-0AA1F208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C55D8-FB44-46FE-B84E-F45688AB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0557C-8B97-419A-A7AD-AE83F974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3F61A-E0B5-4FC7-A07F-5CA56744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08208-BA5A-41D5-B057-FAEFF90B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212EE-88A6-4499-A5D6-DC0D8B12F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F0580-8281-4A27-BC54-FE8C4869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06228-137F-488B-99E8-9B2BB08D2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47A88-8C42-4DB7-AFCD-053142A2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5F7DE-07EF-447D-9965-E7DF582A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E779-1AA0-4796-B6F9-9E4A240C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45715-9A85-433D-858E-5E76A360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80DA9-A2F5-44EC-A821-40B314FA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B6B70-7E1E-4AF8-A17A-E616A746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4B413-40E2-4E17-8B97-D56AADED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8E064-CE39-4680-B2F3-C8B3C835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24FDC-01C9-474E-9735-FAE6EE6D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9D4B9-9293-4DC9-960C-5D61447D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59308-21B3-4D0E-A0D7-A2E86A6A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39E54-D046-497D-BCDB-D6E7B2AEA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1231D-5057-414A-8BAD-7600097CF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4E19-442C-4B47-B6CF-79A77A47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59446-C429-4490-BB3E-77DA8FCA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E6437-9423-4371-83A0-0FAD133F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2396F-5B09-439F-A9FF-E29AA687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84617-CA0D-4D48-9515-EBFD539B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3BD53-5B01-4D9C-B3D1-15829DF0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02CDB-D1D2-4267-8B30-8819FA1C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86C5A-12FC-42C4-A31A-FACD777A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09CF4-7766-4F3D-8FCA-54B5152D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6E4C1-1C3C-4FA9-A1A6-8BA4AA87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1CDC5-83A2-40FC-8D9E-7E3602ED4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32AE-59EE-46D4-B696-152490C4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C99CE-5AC0-4516-BED5-645E3B7BD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BC24E-1D01-4BDB-86AB-BCBCF948A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F0A37-0028-42A1-81B5-DE0DB7FC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F38D1-1F94-4BFF-AB16-A8E73682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F89F7-16FF-494D-A62D-42C79A3A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849AF-4056-4942-8CFF-E4CA2391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DAB32-89D7-4440-A599-8D1B457B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DEB77-6950-4C8E-92B9-001A75BA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36EC7-0C46-4B78-83A6-5C08310A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62549-58F0-42A3-9AC1-B8158DE0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DC19-8C91-46F9-8E04-E011A14D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00E74-C5D3-4767-BE72-6ED3F33A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79401-CF51-45F9-B75C-3D862E5A0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55951-2C1A-4653-A6F4-11CF14EE8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AEAC9-58D0-40F6-83F2-41C11DA69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EDA26-DB50-456F-B2DE-A75E4956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F0D8B-2E34-4931-9410-33308EDD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1CD88-ABE7-483E-BAFF-37B22361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AF543-052E-4809-BCF2-6B92987A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64B9A-E8D9-483B-AC64-F7D7A477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73344-69AD-407F-8026-93ACBDC7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CA7E-5834-4038-9DE8-3A0626C5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EA153-42A4-4D54-9C1A-1E2981D1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9A2B3-F53F-4FFA-953D-72E5DEB0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3286D-ED1B-4EFA-9999-1353DD11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A08C0-AE14-4B26-9251-ACB7CA3D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FF1FE-5FC2-4D48-9DEC-217FD2EAA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87EEF-E91A-40FA-B737-8D042487A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0E824-1B34-4FB6-BEFF-53BD4034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82E79-6E2F-41AE-8AF1-B92710FB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D79C9-8EBD-4C40-B985-A56F3B6E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15725-F997-431D-9DC0-084F35D1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1DF0-64AF-429D-9643-34EEE2F4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62CF7-EBCC-465F-BBC0-9F418EC1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0D68C-F6AE-4705-AC75-DB465978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3E6A8-BADA-40A2-A26A-DF4A3740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9CB19-4CBB-4AAE-9B58-7993AA33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28774-B76D-4507-BF5C-F5164337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8C1AD-E179-4D2D-909E-D0483677F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F7015-57CD-4B1B-8D7C-7A09329F9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2ABBC3-ACB0-4E8F-89F3-435B4C294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C4CF2D-7164-4435-99A5-73EE0CE9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F16AC7-B0F5-4003-AFF1-E5FB6716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65BE-78D1-40CF-9496-C5610A238377}" type="datetime"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CDCF-5FBC-4587-A43F-546187B3126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97BB-A07D-4137-9A22-7BCCA56B256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8A0D-79EC-46FE-9E45-41F6D6FA3F20}" type="datetime"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81C9-93CB-4215-8307-6265928E5B70}" type="datetime"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F566-417B-4562-8C81-85F3BC9B8B6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4C4C-6846-4E14-8569-14BC7CDADD5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983B-F726-4D3D-A696-C093F7761433}" type="datetime"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052E-65C9-4049-AB99-F283D8F5786D}" type="datetime"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E23C-8F22-49D2-95EA-BF051E2055F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2BED-7C7B-41F0-B8FE-477ACE56DE5D}" type="datetime"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18D6-093B-4B4C-83ED-379171F74AC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8131-CC65-4A72-B1D8-22672DE2D2F4}" type="datetime"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58A1-7E0C-4DF1-BBE0-F8E9482F265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3E63-BDC9-458F-B4FD-E52AAB10104E}" type="datetime"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3B2A-FC59-4E5E-B78C-6BB398C8F69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1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B27C-95BA-488E-9E93-E1EF3987457D}" type="datetime"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F3B8-CFCE-47FA-8CD5-B70897A6742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2619-2F94-4BBA-897E-EA54480398CD}" type="datetime"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AE61-02BD-403E-BDE4-0C3925891CB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17F7-F90A-4273-9FF3-EFE33A42EC1D}" type="datetime"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4597-AB9D-4ACA-B4DC-BA4AD83F2859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A1D1-57D5-43A8-8F64-DCF6578818F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116C-F0D6-43B9-B482-9DABEA5B5748}" type="datetime"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646b86"/>
                </a:solidFill>
                <a:latin typeface="Georgia"/>
              </a:rPr>
              <a:t>10 КЛАС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646b86"/>
                </a:solidFill>
                <a:latin typeface="Georgia"/>
              </a:rPr>
              <a:t>ЗА ПІДРУЧНИКОМ «ІНФОРМАТИКА. 10 КЛАС» Й.Я. РИВКІНДА, Т.І. ЛИСЕНКО, Л.А. ЧЕРНІКОВОЇ, В.В. ШАКОТЬКО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d16349"/>
                </a:solidFill>
                <a:latin typeface="Georgia"/>
              </a:rPr>
              <a:t>Вивчаємо інформатику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8" name="Дата 3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5632-E60A-4AFD-AC10-FCB6DFC19DEB}" type="datetime">
              <a:rPr b="0" lang="uk-UA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Номер слайда 4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1680-BCB5-4389-A916-56EAE4E9B8C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0" name="Нижний колонтитул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7b9899"/>
                </a:solidFill>
                <a:latin typeface="Georgia"/>
              </a:rPr>
              <a:t>Налаштування параметрів сторінки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Дата 2"/>
          <p:cNvSpPr/>
          <p:nvPr/>
        </p:nvSpPr>
        <p:spPr>
          <a:xfrm>
            <a:off x="5791320" y="6410160"/>
            <a:ext cx="3044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ECED-34F7-432F-B27A-59B88ABDEC76}" type="datetime">
              <a:rPr b="0" lang="uk-UA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Нижний колонтитул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Номер слайда 4"/>
          <p:cNvSpPr/>
          <p:nvPr/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08AF-EB4F-4D8E-9890-A8657C7F4F5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213840" y="1371240"/>
            <a:ext cx="43578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Для налаштування параметрів сторінки слід в області завдань </a:t>
            </a:r>
            <a:r>
              <a:rPr b="1" lang="uk-UA" sz="1600" spc="-1" strike="noStrike">
                <a:solidFill>
                  <a:srgbClr val="000000"/>
                </a:solidFill>
                <a:latin typeface="Georgia"/>
              </a:rPr>
              <a:t>Форматування публікації </a:t>
            </a: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відкрити, вибравши  кнопку  біля назви, список </a:t>
            </a:r>
            <a:r>
              <a:rPr b="1" lang="uk-UA" sz="1600" spc="-1" strike="noStrike">
                <a:solidFill>
                  <a:srgbClr val="000000"/>
                </a:solidFill>
                <a:latin typeface="Georgia"/>
              </a:rPr>
              <a:t>Параметри сторінки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У полі </a:t>
            </a:r>
            <a:r>
              <a:rPr b="1" lang="uk-UA" sz="1600" spc="-1" strike="noStrike">
                <a:solidFill>
                  <a:srgbClr val="000000"/>
                </a:solidFill>
                <a:latin typeface="Georgia"/>
              </a:rPr>
              <a:t>Стовпці</a:t>
            </a: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 можна встановити кількість колонок тексту на поточній або на всіх сторінках публікації. Для цього слід вибрати кнопку відкриття списку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та вибрати команду, яка відповідає обраній області застосування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Вибір кнопки </a:t>
            </a:r>
            <a:r>
              <a:rPr b="1" lang="uk-UA" sz="1600" spc="-1" strike="noStrike">
                <a:solidFill>
                  <a:srgbClr val="000000"/>
                </a:solidFill>
                <a:latin typeface="Georgia"/>
              </a:rPr>
              <a:t>Комбінація</a:t>
            </a: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 встановлює різну кількість стовпців для різних статей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У списку </a:t>
            </a:r>
            <a:r>
              <a:rPr b="1" lang="uk-UA" sz="1600" spc="-1" strike="noStrike">
                <a:solidFill>
                  <a:srgbClr val="000000"/>
                </a:solidFill>
                <a:latin typeface="Georgia"/>
              </a:rPr>
              <a:t>Колірні схеми </a:t>
            </a: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області завдань Форматування публікації можна змінити обрану колірну схему публікації, а в списку </a:t>
            </a:r>
            <a:r>
              <a:rPr b="1" lang="uk-UA" sz="1600" spc="-1" strike="noStrike">
                <a:solidFill>
                  <a:srgbClr val="000000"/>
                </a:solidFill>
                <a:latin typeface="Georgia"/>
              </a:rPr>
              <a:t>Схема шрифтів</a:t>
            </a: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вказати новий набір шрифтів для заголовків і основного тексту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9" name="Picture 3" descr=""/>
          <p:cNvPicPr/>
          <p:nvPr/>
        </p:nvPicPr>
        <p:blipFill>
          <a:blip r:embed="rId1"/>
          <a:stretch/>
        </p:blipFill>
        <p:spPr>
          <a:xfrm>
            <a:off x="1928880" y="2357280"/>
            <a:ext cx="223920" cy="2239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660" name="Picture 6" descr=""/>
          <p:cNvPicPr/>
          <p:nvPr/>
        </p:nvPicPr>
        <p:blipFill>
          <a:blip r:embed="rId2"/>
          <a:stretch/>
        </p:blipFill>
        <p:spPr>
          <a:xfrm>
            <a:off x="6858000" y="1428840"/>
            <a:ext cx="1952640" cy="12571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661" name="Picture 7" descr=""/>
          <p:cNvPicPr/>
          <p:nvPr/>
        </p:nvPicPr>
        <p:blipFill>
          <a:blip r:embed="rId3"/>
          <a:stretch/>
        </p:blipFill>
        <p:spPr>
          <a:xfrm>
            <a:off x="6858000" y="2786040"/>
            <a:ext cx="1857240" cy="35006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662" name="Picture 8" descr=""/>
          <p:cNvPicPr/>
          <p:nvPr/>
        </p:nvPicPr>
        <p:blipFill>
          <a:blip r:embed="rId4"/>
          <a:stretch/>
        </p:blipFill>
        <p:spPr>
          <a:xfrm>
            <a:off x="4643280" y="1643040"/>
            <a:ext cx="2009880" cy="28764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7b9899"/>
                </a:solidFill>
                <a:latin typeface="Georgia"/>
              </a:rPr>
              <a:t>Налаштування параметрів сторінки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4" name="Дата 2"/>
          <p:cNvSpPr/>
          <p:nvPr/>
        </p:nvSpPr>
        <p:spPr>
          <a:xfrm>
            <a:off x="5791320" y="6410160"/>
            <a:ext cx="3044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E98E-148F-47A9-9575-D195AD969EA4}" type="datetime">
              <a:rPr b="0" lang="uk-UA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Нижний колонтитул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Номер слайда 4"/>
          <p:cNvSpPr/>
          <p:nvPr/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5E53-7D54-4D2B-AEA1-62CC82E0C39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213840" y="1371240"/>
            <a:ext cx="307188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Georgia"/>
              </a:rPr>
              <a:t>У списку </a:t>
            </a:r>
            <a:r>
              <a:rPr b="1" lang="uk-UA" sz="1900" spc="-1" strike="noStrike">
                <a:solidFill>
                  <a:srgbClr val="000000"/>
                </a:solidFill>
                <a:latin typeface="Georgia"/>
              </a:rPr>
              <a:t>Бюлетень</a:t>
            </a:r>
            <a:r>
              <a:rPr b="0" lang="uk-UA" sz="1900" spc="-1" strike="noStrike">
                <a:solidFill>
                  <a:srgbClr val="000000"/>
                </a:solidFill>
                <a:latin typeface="Georgia"/>
              </a:rPr>
              <a:t> — параметри цієї самої області завдань, крім зміни шаблону публікації, можна встановити і розміри сторінки публікації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Georgia"/>
              </a:rPr>
              <a:t>Для цього слід вибрати кнопку </a:t>
            </a:r>
            <a:r>
              <a:rPr b="1" lang="uk-UA" sz="1900" spc="-1" strike="noStrike">
                <a:solidFill>
                  <a:srgbClr val="000000"/>
                </a:solidFill>
                <a:latin typeface="Georgia"/>
              </a:rPr>
              <a:t>Змінити розмір </a:t>
            </a:r>
            <a:r>
              <a:rPr b="0" lang="uk-UA" sz="1900" spc="-1" strike="noStrike">
                <a:solidFill>
                  <a:srgbClr val="000000"/>
                </a:solidFill>
                <a:latin typeface="Georgia"/>
              </a:rPr>
              <a:t>сторінки і у вікні </a:t>
            </a:r>
            <a:r>
              <a:rPr b="1" lang="uk-UA" sz="1900" spc="-1" strike="noStrike">
                <a:solidFill>
                  <a:srgbClr val="000000"/>
                </a:solidFill>
                <a:latin typeface="Georgia"/>
              </a:rPr>
              <a:t>Параметри сторінки </a:t>
            </a:r>
            <a:r>
              <a:rPr b="0" lang="uk-UA" sz="1900" spc="-1" strike="noStrike">
                <a:solidFill>
                  <a:srgbClr val="000000"/>
                </a:solidFill>
                <a:latin typeface="Georgia"/>
              </a:rPr>
              <a:t>обрати один із стандартних розмірів або встановити свої значення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Georgia"/>
              </a:rPr>
              <a:t>У цьому самому вікні встановлюються і розміри полів сторінки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8" name="Picture 4" descr=""/>
          <p:cNvPicPr/>
          <p:nvPr/>
        </p:nvPicPr>
        <p:blipFill>
          <a:blip r:embed="rId1"/>
          <a:stretch/>
        </p:blipFill>
        <p:spPr>
          <a:xfrm>
            <a:off x="7215120" y="1143000"/>
            <a:ext cx="1771560" cy="22766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669" name="Picture 2" descr=""/>
          <p:cNvPicPr/>
          <p:nvPr/>
        </p:nvPicPr>
        <p:blipFill>
          <a:blip r:embed="rId2"/>
          <a:stretch/>
        </p:blipFill>
        <p:spPr>
          <a:xfrm>
            <a:off x="3500280" y="1428840"/>
            <a:ext cx="1971720" cy="34002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670" name="Picture 3" descr=""/>
          <p:cNvPicPr/>
          <p:nvPr/>
        </p:nvPicPr>
        <p:blipFill>
          <a:blip r:embed="rId3"/>
          <a:stretch/>
        </p:blipFill>
        <p:spPr>
          <a:xfrm>
            <a:off x="4929120" y="3454560"/>
            <a:ext cx="4071960" cy="29746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7b9899"/>
                </a:solidFill>
                <a:latin typeface="Georgia"/>
              </a:rPr>
              <a:t>Редагування заголовка, змісту і бічної панелі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2" name="Дата 2"/>
          <p:cNvSpPr/>
          <p:nvPr/>
        </p:nvSpPr>
        <p:spPr>
          <a:xfrm>
            <a:off x="5791320" y="6410160"/>
            <a:ext cx="3044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7C7F-55F6-4029-9843-834DA544C81F}" type="datetime">
              <a:rPr b="0" lang="uk-UA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3" name="Нижний колонтитул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4" name="Номер слайда 4"/>
          <p:cNvSpPr/>
          <p:nvPr/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3F21-7768-4434-8339-315E3120FA2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Georgia"/>
              </a:rPr>
              <a:t>Структура заголовка бюлетеня стандартна для всіх шаблонів.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Georgia"/>
              </a:rPr>
              <a:t>На рисунку (справа)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2100" spc="-1" strike="noStrike">
                <a:solidFill>
                  <a:srgbClr val="000000"/>
                </a:solidFill>
                <a:latin typeface="Georgia"/>
              </a:rPr>
              <a:t>подано оформлення заголовка бюлетеня із шаблона </a:t>
            </a:r>
            <a:r>
              <a:rPr b="0" i="1" lang="uk-UA" sz="2100" spc="-1" strike="noStrike">
                <a:solidFill>
                  <a:srgbClr val="000000"/>
                </a:solidFill>
                <a:latin typeface="Georgia"/>
              </a:rPr>
              <a:t>Літо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, т</a:t>
            </a:r>
            <a:r>
              <a:rPr b="0" lang="uk-UA" sz="2100" spc="-1" strike="noStrike">
                <a:solidFill>
                  <a:srgbClr val="000000"/>
                </a:solidFill>
                <a:latin typeface="Georgia"/>
              </a:rPr>
              <a:t>а змінений варіант заголовка цього шаблону для бюлетеня</a:t>
            </a:r>
            <a:r>
              <a:rPr b="0" i="1" lang="uk-UA" sz="2100" spc="-1" strike="noStrike">
                <a:solidFill>
                  <a:srgbClr val="000000"/>
                </a:solidFill>
                <a:latin typeface="Georgia"/>
              </a:rPr>
              <a:t> екологічної молодіжної організації “Пролісок”.</a:t>
            </a:r>
            <a:r>
              <a:rPr b="0" lang="uk-UA" sz="2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Georgia"/>
              </a:rPr>
              <a:t>Для створення заголовка на основі існуючого шаблону слід увести у відповідні написи нові тексти, замінити існуючі графічні зображення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6" name="Picture 2" descr=""/>
          <p:cNvPicPr/>
          <p:nvPr/>
        </p:nvPicPr>
        <p:blipFill>
          <a:blip r:embed="rId1"/>
          <a:stretch/>
        </p:blipFill>
        <p:spPr>
          <a:xfrm>
            <a:off x="4786200" y="1428840"/>
            <a:ext cx="4038840" cy="1079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677" name="Picture 3" descr=""/>
          <p:cNvPicPr/>
          <p:nvPr/>
        </p:nvPicPr>
        <p:blipFill>
          <a:blip r:embed="rId2"/>
          <a:stretch/>
        </p:blipFill>
        <p:spPr>
          <a:xfrm>
            <a:off x="4572000" y="2571840"/>
            <a:ext cx="4457880" cy="2786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678" name="Picture 4" descr=""/>
          <p:cNvPicPr/>
          <p:nvPr/>
        </p:nvPicPr>
        <p:blipFill>
          <a:blip r:embed="rId3"/>
          <a:stretch/>
        </p:blipFill>
        <p:spPr>
          <a:xfrm>
            <a:off x="5214960" y="5429160"/>
            <a:ext cx="3324240" cy="9651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7b9899"/>
                </a:solidFill>
                <a:latin typeface="Georgia"/>
              </a:rPr>
              <a:t>Об'єкти титульної сторінки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0" name="Дата 2"/>
          <p:cNvSpPr/>
          <p:nvPr/>
        </p:nvSpPr>
        <p:spPr>
          <a:xfrm>
            <a:off x="5791320" y="6410160"/>
            <a:ext cx="3044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B109-FE9B-4BBA-97AF-C8F7DBB4663E}" type="datetime">
              <a:rPr b="0" lang="uk-UA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Нижний колонтитул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2" name="Номер слайда 4"/>
          <p:cNvSpPr/>
          <p:nvPr/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2025-9A01-4707-BBFB-40CC89E7AC9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На титульній сторінці бюлетеня, особливо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якщо він має багатосторінкову структуру, вставляють перелік заголовків внутрішніх статей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Шаблон для переліку заголовків, як правило, розміщується збоку, поруч із першою або другою статтею бюлетеня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Користувач може змінити кількість рядків у переліку, залежно від кількості статей у публікації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Цей об'єкт є таблицею, і його редагування та форматування здійснюється з використанням команд  меню </a:t>
            </a:r>
            <a:r>
              <a:rPr b="1" lang="uk-UA" sz="1400" spc="-1" strike="noStrike">
                <a:solidFill>
                  <a:srgbClr val="000000"/>
                </a:solidFill>
                <a:latin typeface="Calibri"/>
              </a:rPr>
              <a:t>Таблиця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 або контекстного меню об'єкта. Редагування і форматування тексту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в переліку статей відбувається відповідно до аналогічних операцій у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 2007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Під таблицею заголовків статей на титульній сторінці бюлетеня з макетом шаблону</a:t>
            </a:r>
            <a:r>
              <a:rPr b="0" i="1" lang="uk-U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uk-UA" sz="1400" spc="-1" strike="noStrike">
                <a:solidFill>
                  <a:srgbClr val="000000"/>
                </a:solidFill>
                <a:latin typeface="Calibri"/>
              </a:rPr>
              <a:t>Літо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 розміщено </a:t>
            </a:r>
            <a:r>
              <a:rPr b="1" lang="uk-UA" sz="1400" spc="-1" strike="noStrike">
                <a:solidFill>
                  <a:srgbClr val="000000"/>
                </a:solidFill>
                <a:latin typeface="Calibri"/>
              </a:rPr>
              <a:t>Бічну панель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, що має заголовок</a:t>
            </a:r>
            <a:r>
              <a:rPr b="0" i="1" lang="uk-U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uk-UA" sz="1400" spc="-1" strike="noStrike">
                <a:solidFill>
                  <a:srgbClr val="000000"/>
                </a:solidFill>
                <a:latin typeface="Calibri"/>
              </a:rPr>
              <a:t>Важливі деталі</a:t>
            </a:r>
            <a:r>
              <a:rPr b="0" i="1" lang="uk-UA" sz="1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 Вона, як правило, містить посилання на цікаві матеріали бюлетеня, відомості про авторів, анонси статей наступних випусків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4" name="Picture 2" descr=""/>
          <p:cNvPicPr/>
          <p:nvPr/>
        </p:nvPicPr>
        <p:blipFill>
          <a:blip r:embed="rId1"/>
          <a:stretch/>
        </p:blipFill>
        <p:spPr>
          <a:xfrm>
            <a:off x="4611600" y="1432080"/>
            <a:ext cx="4246560" cy="41400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685" name="Picture 3" descr=""/>
          <p:cNvPicPr/>
          <p:nvPr/>
        </p:nvPicPr>
        <p:blipFill>
          <a:blip r:embed="rId2"/>
          <a:stretch/>
        </p:blipFill>
        <p:spPr>
          <a:xfrm>
            <a:off x="3143160" y="5000760"/>
            <a:ext cx="1436760" cy="13856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7b9899"/>
                </a:solidFill>
                <a:latin typeface="Georgia"/>
              </a:rPr>
              <a:t>Редагування статей бюлетен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7" name="Дата 2"/>
          <p:cNvSpPr/>
          <p:nvPr/>
        </p:nvSpPr>
        <p:spPr>
          <a:xfrm>
            <a:off x="5791320" y="6410160"/>
            <a:ext cx="3044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D696-3F29-4F23-97CE-71CD2092D843}" type="datetime">
              <a:rPr b="0" lang="uk-UA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Нижний колонтитул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9" name="Номер слайда 4"/>
          <p:cNvSpPr/>
          <p:nvPr/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354C-6B33-4319-8F0D-F4FB56FD20A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142560" y="1371240"/>
            <a:ext cx="442908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Основною відмінністю розміщення тексту на сторінках публікації від розміщення тексту на слайді презентації або в текстовому документі є можливість автоматичного продовження тексту з однієї колонки статті в іншу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Колонки з текстом в програмі називають </a:t>
            </a:r>
            <a:r>
              <a:rPr b="1" lang="uk-UA" sz="1400" spc="-1" strike="noStrike">
                <a:solidFill>
                  <a:srgbClr val="000000"/>
                </a:solidFill>
                <a:latin typeface="Calibri"/>
              </a:rPr>
              <a:t>текстовими полями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, а автоматичне продовження тексту в наступних текстових полях статті називають </a:t>
            </a:r>
            <a:r>
              <a:rPr b="1" lang="uk-UA" sz="1400" spc="-1" strike="noStrike">
                <a:solidFill>
                  <a:srgbClr val="000000"/>
                </a:solidFill>
                <a:latin typeface="Calibri"/>
              </a:rPr>
              <a:t>перетіканням тексту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Перетікання можливе також у текстові поля на іншій сторінці. Для підказки, в якому текстовому полі продовжується (починається) текст з вибраного текстового поля, використовуються спеціальні КНОПКИ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Перейти до наступного текстового ПОЛЯ та Перейти ДО попереднього текстового ПОЛ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Їх вибір приводить до виділення текстового поля, в якому продовжується або починається текст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5143680" y="1566720"/>
            <a:ext cx="2143080" cy="27432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692" name="Picture 4" descr=""/>
          <p:cNvPicPr/>
          <p:nvPr/>
        </p:nvPicPr>
        <p:blipFill>
          <a:blip r:embed="rId2"/>
          <a:stretch/>
        </p:blipFill>
        <p:spPr>
          <a:xfrm>
            <a:off x="928800" y="4143240"/>
            <a:ext cx="866520" cy="3574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693" name="Picture 5" descr=""/>
          <p:cNvPicPr/>
          <p:nvPr/>
        </p:nvPicPr>
        <p:blipFill>
          <a:blip r:embed="rId3"/>
          <a:stretch/>
        </p:blipFill>
        <p:spPr>
          <a:xfrm>
            <a:off x="2357280" y="4143240"/>
            <a:ext cx="981360" cy="3463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7b9899"/>
                </a:solidFill>
                <a:latin typeface="Calibri"/>
              </a:rPr>
              <a:t>Зв'язування  текстових полів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5" name="Дата 2"/>
          <p:cNvSpPr/>
          <p:nvPr/>
        </p:nvSpPr>
        <p:spPr>
          <a:xfrm>
            <a:off x="5791320" y="6410160"/>
            <a:ext cx="3044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A38F-0345-40FF-B8BE-CF724EBBB8AA}" type="datetime">
              <a:rPr b="0" lang="uk-UA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Нижний колонтитул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Номер слайда 4"/>
          <p:cNvSpPr/>
          <p:nvPr/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DC9D-2485-4E6F-86D9-2E094C39789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У шаблонах уже встановлено автоматичне перетікання тексту між текстовими полями статті. Якщо ж користувач самостійно створює макет публікації або вносить суттєві зміни в існуючий, то йому потрібно вміти самостійно встановлювати і відміняти перетікання тексту з одного текстового поля до іншого.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Ця операція називається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uk-UA" sz="1300" spc="-1" strike="noStrike">
                <a:solidFill>
                  <a:srgbClr val="000000"/>
                </a:solidFill>
                <a:latin typeface="Calibri"/>
              </a:rPr>
              <a:t>зв'язуванням текстових полів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Перед початком виконання зв'язування текстових полів необхідно встановити відображення панелі інструментів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Зв'язати написи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. Для цього слід виконати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uk-UA" sz="1300" spc="-1" strike="noStrike">
                <a:solidFill>
                  <a:srgbClr val="000000"/>
                </a:solidFill>
                <a:latin typeface="Calibri"/>
              </a:rPr>
              <a:t>Вигляд, Панелі інструментів, Зв'язати написи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Для зв'язування текстових полів необхідно вибрати початкове текст поле і на панелі інструментів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Зв'язати написи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вибрати кнопку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Створити зв'язок з написом</a:t>
            </a:r>
            <a:r>
              <a:rPr b="1" i="1" lang="uk-UA" sz="13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Вказівник набуде вигляду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чашки зі стрілкою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вниз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Його слід підвести до текстового поля, з яким планується встановити зв'язок (курсор повинен набути вигляду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нахиленої чашки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, з якої виливаються літери і натиснути ліву кнопку миші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Поле,  з яким створюється зв'язок, повинно бути порожнім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99" name="Picture 2" descr=""/>
          <p:cNvPicPr/>
          <p:nvPr/>
        </p:nvPicPr>
        <p:blipFill>
          <a:blip r:embed="rId1"/>
          <a:stretch/>
        </p:blipFill>
        <p:spPr>
          <a:xfrm>
            <a:off x="4714920" y="1500120"/>
            <a:ext cx="4095720" cy="31431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00" name="Picture 4" descr=""/>
          <p:cNvPicPr/>
          <p:nvPr/>
        </p:nvPicPr>
        <p:blipFill>
          <a:blip r:embed="rId2"/>
          <a:stretch/>
        </p:blipFill>
        <p:spPr>
          <a:xfrm>
            <a:off x="5072040" y="5000760"/>
            <a:ext cx="1766880" cy="4395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01" name="Picture 5" descr=""/>
          <p:cNvPicPr/>
          <p:nvPr/>
        </p:nvPicPr>
        <p:blipFill>
          <a:blip r:embed="rId3">
            <a:lum bright="14000"/>
          </a:blip>
          <a:stretch/>
        </p:blipFill>
        <p:spPr>
          <a:xfrm>
            <a:off x="1071720" y="5643720"/>
            <a:ext cx="423720" cy="3981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02" name="Picture 6" descr="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1571760" y="5643720"/>
            <a:ext cx="484200" cy="395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03" name="Picture 7" descr=""/>
          <p:cNvPicPr/>
          <p:nvPr/>
        </p:nvPicPr>
        <p:blipFill>
          <a:blip r:embed="rId5"/>
          <a:stretch/>
        </p:blipFill>
        <p:spPr>
          <a:xfrm>
            <a:off x="4000680" y="4214880"/>
            <a:ext cx="328320" cy="2746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7b9899"/>
                </a:solidFill>
                <a:latin typeface="Georgia"/>
              </a:rPr>
              <a:t>Зв'язування написів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Дата 2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89AE-A048-4C74-A2D1-093636EFCD59}" type="datetime">
              <a:rPr b="0" lang="uk-UA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Нижний колонтитул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Номер слайда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8E73-E916-4A0F-91F6-50B1EB38450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301320" y="1526760"/>
            <a:ext cx="8504280" cy="31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Calibri"/>
              </a:rPr>
              <a:t>Для розірвання зв'язку необхідно вибрати потрібне текстове поле і з панелі інструментів </a:t>
            </a:r>
            <a:r>
              <a:rPr b="1" lang="uk-UA" sz="1500" spc="-1" strike="noStrike">
                <a:solidFill>
                  <a:srgbClr val="000000"/>
                </a:solidFill>
                <a:latin typeface="Calibri"/>
              </a:rPr>
              <a:t>Зв'язати написи</a:t>
            </a:r>
            <a:r>
              <a:rPr b="0" lang="uk-UA" sz="1500" spc="-1" strike="noStrike">
                <a:solidFill>
                  <a:srgbClr val="000000"/>
                </a:solidFill>
                <a:latin typeface="Calibri"/>
              </a:rPr>
              <a:t> вибрати кнопку </a:t>
            </a:r>
            <a:r>
              <a:rPr b="1" lang="uk-UA" sz="1500" spc="-1" strike="noStrike">
                <a:solidFill>
                  <a:srgbClr val="000000"/>
                </a:solidFill>
                <a:latin typeface="Calibri"/>
              </a:rPr>
              <a:t>Розірвати зв'язок з попереднім</a:t>
            </a:r>
            <a:r>
              <a:rPr b="0" lang="uk-UA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Calibri"/>
              </a:rPr>
              <a:t>Незважаючи на таку назву кнопки, зв'язок розривається з наступним текстовим полем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Calibri"/>
              </a:rPr>
              <a:t>Тексти статей, як правило, готуються заздалегідь в одному з текстових процесорів, наприклад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ord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2007, </a:t>
            </a:r>
            <a:r>
              <a:rPr b="0" lang="uk-UA" sz="1500" spc="-1" strike="noStrike">
                <a:solidFill>
                  <a:srgbClr val="000000"/>
                </a:solidFill>
                <a:latin typeface="Calibri"/>
              </a:rPr>
              <a:t>і вставляються в текстові полі публікації з використанням Буфера обміну.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Calibri"/>
              </a:rPr>
              <a:t>За вибору текстового поля шаблону виділяється увесь текст статті, навіть якщо він розміщений у кількох колонках (написах). І після виконання команди </a:t>
            </a:r>
            <a:r>
              <a:rPr b="1" lang="uk-UA" sz="1500" spc="-1" strike="noStrike">
                <a:solidFill>
                  <a:srgbClr val="000000"/>
                </a:solidFill>
                <a:latin typeface="Calibri"/>
              </a:rPr>
              <a:t>Вставити </a:t>
            </a:r>
            <a:r>
              <a:rPr b="0" lang="uk-UA" sz="1500" spc="-1" strike="noStrike">
                <a:solidFill>
                  <a:srgbClr val="000000"/>
                </a:solidFill>
                <a:latin typeface="Calibri"/>
              </a:rPr>
              <a:t>новий текст замінює шаблонний.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Calibri"/>
              </a:rPr>
              <a:t>Якщо текст не вміщується в одне чи кілька зв'язаних текстових полів, відведених для статті в даному шаблоні, то програма відкриє діалогове вікно з відповідним повідомленням і запитом на виконання авторозливання.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Calibri"/>
              </a:rPr>
              <a:t>Підтвердження виконанню дії авторозливання приведе до зв'язування текстових полів поточної статті з текстовими полями наступних статей і продовження в них тексту, шо вставляється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500" spc="-1" strike="noStrike">
                <a:solidFill>
                  <a:srgbClr val="000000"/>
                </a:solidFill>
                <a:latin typeface="Calibri"/>
              </a:rPr>
              <a:t>Користувачу буде запропоновано підтвердити розміщенню тексту в текстових полях однієї з наступних статей шаблону, якщо вони ще не заповнені текстом. Якщо ж порожніх, без введеного користувачем тексту, немає, то програма запропонує створити нові текстові поля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361800">
              <a:lnSpc>
                <a:spcPct val="8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09" name="Picture 3" descr=""/>
          <p:cNvPicPr/>
          <p:nvPr/>
        </p:nvPicPr>
        <p:blipFill>
          <a:blip r:embed="rId1"/>
          <a:stretch/>
        </p:blipFill>
        <p:spPr>
          <a:xfrm>
            <a:off x="857160" y="4786200"/>
            <a:ext cx="7567560" cy="142884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2" descr=""/>
          <p:cNvPicPr/>
          <p:nvPr/>
        </p:nvPicPr>
        <p:blipFill>
          <a:blip r:embed="rId2"/>
          <a:stretch/>
        </p:blipFill>
        <p:spPr>
          <a:xfrm>
            <a:off x="5000760" y="1714680"/>
            <a:ext cx="228600" cy="2379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Дата 2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71E1-9DF8-4E1B-8CD7-80BB972E04B3}" type="datetime">
              <a:rPr b="0" lang="uk-UA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2" name="Нижний колонтитул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3" name="Номер слайда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8109-F3EA-4444-89FE-FCE19DF12AD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Georgia"/>
              </a:rPr>
              <a:t>Якщо ж користувач відмовиться від виконання операції авторозливання, то під останнім полем буде виведено позначку Текст в області переповнення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Georgia"/>
              </a:rPr>
              <a:t>Це означає, що частина тексту не відображається на екрані, але залишається в пам'яті і його можна відтворити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Georgia"/>
              </a:rPr>
              <a:t>Для того щоб у текстових полях статті відображався весь текст, користувачу слід виконати одну з дій: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indent="36180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Georgia"/>
              </a:rPr>
              <a:t>відредагувати текст, видаливши несуттєві його фрагменти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indent="36180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Georgia"/>
              </a:rPr>
              <a:t>відформатувати текст, змінивши значення властивостей символів або абзаців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indent="36180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Georgia"/>
              </a:rPr>
              <a:t>змінити розміри текстових полів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indent="36180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Georgia"/>
              </a:rPr>
              <a:t>зв'язати текстові поля статті з іншими на цій або іншій сторінці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Georgia"/>
              </a:rPr>
              <a:t>Зміна розмірів текстових полів здійснюється з використанням маркерів зміни розмірів обраного текстового поля, а переміщення - стандартною операцією перетягування після вибору межі поля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5" name="Picture 2" descr=""/>
          <p:cNvPicPr/>
          <p:nvPr/>
        </p:nvPicPr>
        <p:blipFill>
          <a:blip r:embed="rId1"/>
          <a:stretch/>
        </p:blipFill>
        <p:spPr>
          <a:xfrm>
            <a:off x="4143240" y="2071800"/>
            <a:ext cx="932040" cy="2854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16" name="Picture 3" descr=""/>
          <p:cNvPicPr/>
          <p:nvPr/>
        </p:nvPicPr>
        <p:blipFill>
          <a:blip r:embed="rId2"/>
          <a:stretch/>
        </p:blipFill>
        <p:spPr>
          <a:xfrm>
            <a:off x="3143160" y="5500800"/>
            <a:ext cx="2928960" cy="90000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7b9899"/>
                </a:solidFill>
                <a:latin typeface="Georgia"/>
              </a:rPr>
              <a:t>Зв'язування написів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7b9899"/>
                </a:solidFill>
                <a:latin typeface="Calibri"/>
              </a:rPr>
              <a:t>Редагування і форматування графічних об'єктів у публікаціях </a:t>
            </a:r>
            <a:r>
              <a:rPr b="0" lang="en-US" sz="3000" spc="-1" strike="noStrike">
                <a:solidFill>
                  <a:srgbClr val="7b9899"/>
                </a:solidFill>
                <a:latin typeface="Calibri"/>
              </a:rPr>
              <a:t>Publisher </a:t>
            </a:r>
            <a:r>
              <a:rPr b="0" lang="ru-RU" sz="3000" spc="-1" strike="noStrike">
                <a:solidFill>
                  <a:srgbClr val="7b9899"/>
                </a:solidFill>
                <a:latin typeface="Calibri"/>
              </a:rPr>
              <a:t>2007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9" name="Дата 2"/>
          <p:cNvSpPr/>
          <p:nvPr/>
        </p:nvSpPr>
        <p:spPr>
          <a:xfrm>
            <a:off x="5791320" y="6410160"/>
            <a:ext cx="3044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CE89-4984-40AD-8162-A8A90365192B}" type="datetime">
              <a:rPr b="0" lang="uk-UA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0" name="Нижний колонтитул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Номер слайда 4"/>
          <p:cNvSpPr/>
          <p:nvPr/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A42B-DABD-430C-90A1-8E9526179EC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142560" y="1371240"/>
            <a:ext cx="442908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Редагування і форматування графічних об'єктів у публікаціях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blisher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007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здійснюється аналогічно операціям у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d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007 і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007.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Тільки якщо графічні об'єкти з файлів у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d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007 за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замовчуванням вставляються з обтіканням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У тексті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, а в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007 -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з обтіканням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Перед текстом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, то в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blisher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007 —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з обтіканням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Навколо рамки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Фотографії і рисунки в публікації прийнято підписувати. У шаблонах графічні об'єкти вже вставлені і мають шаблони підписів. Якщо користувач хоче замінити зображення, то спочатку він повинен виконати операцію розгрупування графічного об'єкта і напису. Для цього після вибору графічного об'єкта слід вибрати кнопку Розгрупувати , що з'явиться біля вибраного об'єкта. Далі слід виконати операцію вставлення нового графічного об'єкта одним з відомих способів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23" name="Picture 2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846600" cy="29718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7b9899"/>
                </a:solidFill>
                <a:latin typeface="Calibri"/>
              </a:rPr>
              <a:t>Створення підпису під графічним об'єктом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Дата 2"/>
          <p:cNvSpPr/>
          <p:nvPr/>
        </p:nvSpPr>
        <p:spPr>
          <a:xfrm>
            <a:off x="5791320" y="6410160"/>
            <a:ext cx="3044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C307-F1EE-4F31-8DDF-2325AC733302}" type="datetime">
              <a:rPr b="0" lang="uk-UA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Нижний колонтитул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Номер слайда 4"/>
          <p:cNvSpPr/>
          <p:nvPr/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D9EE-CDBE-4CEF-99F1-55E338DE51D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142560" y="1371240"/>
            <a:ext cx="442908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Для створення нового підпису під графічним об'єктом слід вибрати кнопку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Напис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анелі інструментів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Об'єкти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, вказати місце розміщення напису і ввести текст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ісля створення напису його слід згрупувати з фотографією або малюнком: виділити ці об'єкти одним з відомих способів, наприклад з використанням кнопки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Вибір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об'єктів панелі інструментів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Об'єкти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, і вибрати кнопку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Групування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, що з'являється біля виділених об'єктів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 ході створення публікацій слід виконувати вимоги дотримання авторських прав. Усі статті та графічні матеріали повинні мати посилання на авторів. Під час використання матеріалів з інших друкованих чи електронних публікацій слід отримати дозвіл на це їхніх авторів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29" name="Picture 2" descr=""/>
          <p:cNvPicPr/>
          <p:nvPr/>
        </p:nvPicPr>
        <p:blipFill>
          <a:blip r:embed="rId1"/>
          <a:stretch/>
        </p:blipFill>
        <p:spPr>
          <a:xfrm>
            <a:off x="5072040" y="2571840"/>
            <a:ext cx="1785960" cy="314316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3" descr=""/>
          <p:cNvPicPr/>
          <p:nvPr/>
        </p:nvPicPr>
        <p:blipFill>
          <a:blip r:embed="rId2"/>
          <a:stretch/>
        </p:blipFill>
        <p:spPr>
          <a:xfrm>
            <a:off x="5143680" y="2000160"/>
            <a:ext cx="428400" cy="470160"/>
          </a:xfrm>
          <a:prstGeom prst="rect">
            <a:avLst/>
          </a:prstGeom>
          <a:ln w="0">
            <a:noFill/>
          </a:ln>
        </p:spPr>
      </p:pic>
      <p:cxnSp>
        <p:nvCxnSpPr>
          <p:cNvPr id="731" name="Прямая со стрелкой 10"/>
          <p:cNvCxnSpPr/>
          <p:nvPr/>
        </p:nvCxnSpPr>
        <p:spPr>
          <a:xfrm>
            <a:off x="4000320" y="3714840"/>
            <a:ext cx="2143800" cy="1715040"/>
          </a:xfrm>
          <a:prstGeom prst="straightConnector1">
            <a:avLst/>
          </a:prstGeom>
          <a:ln w="25560">
            <a:solidFill>
              <a:srgbClr val="d163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85480" y="380520"/>
            <a:ext cx="86439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d16349"/>
                </a:solidFill>
                <a:latin typeface="Georgia"/>
              </a:rPr>
              <a:t>Розділ 2</a:t>
            </a:r>
            <a:br>
              <a:rPr sz="3800"/>
            </a:br>
            <a:r>
              <a:rPr b="0" lang="ru-RU" sz="3800" spc="-1" strike="noStrike">
                <a:solidFill>
                  <a:srgbClr val="d16349"/>
                </a:solidFill>
                <a:latin typeface="Georgia"/>
              </a:rPr>
              <a:t>Комп</a:t>
            </a:r>
            <a:r>
              <a:rPr b="0" lang="uk-UA" sz="3800" spc="-1" strike="noStrike">
                <a:solidFill>
                  <a:srgbClr val="d16349"/>
                </a:solidFill>
                <a:latin typeface="Georgia"/>
              </a:rPr>
              <a:t>'</a:t>
            </a:r>
            <a:r>
              <a:rPr b="0" lang="ru-RU" sz="3800" spc="-1" strike="noStrike">
                <a:solidFill>
                  <a:srgbClr val="d16349"/>
                </a:solidFill>
                <a:latin typeface="Georgia"/>
              </a:rPr>
              <a:t>ютерні  презентації та публікації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Дата 3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D57B-F684-43F7-B412-E4B3F4FA23DA}" type="datetime">
              <a:rPr b="0" lang="uk-UA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Номер слайда 4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931A-0274-4F87-81D3-BFC435700AE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Нижний колонтитул 5"/>
          <p:cNvSpPr/>
          <p:nvPr/>
        </p:nvSpPr>
        <p:spPr>
          <a:xfrm>
            <a:off x="304920" y="6410160"/>
            <a:ext cx="39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43416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7b9899"/>
                </a:solidFill>
                <a:latin typeface="Calibri"/>
              </a:rPr>
              <a:t>Створення буклет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3" name="Дата 2"/>
          <p:cNvSpPr/>
          <p:nvPr/>
        </p:nvSpPr>
        <p:spPr>
          <a:xfrm>
            <a:off x="5791320" y="6410160"/>
            <a:ext cx="3044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5944-A51F-4D5F-8C5D-C796DEBD0B12}" type="datetime">
              <a:rPr b="0" lang="uk-UA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4" name="Нижний колонтитул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Номер слайда 4"/>
          <p:cNvSpPr/>
          <p:nvPr/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3583-A71E-46F3-882D-EC782DCE9EF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213840" y="1371240"/>
            <a:ext cx="42865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Calibri"/>
              </a:rPr>
              <a:t>Буклет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(франц.</a:t>
            </a: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Calibri"/>
              </a:rPr>
              <a:t>bouclette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кільце)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публікація, виготовлена на одному аркуші та складена згинанням у кілька сторінок так, що її можна переглядати, не розрізаючи сторінок, а розкриваючи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У формі буклету виготовляються путівники, проспекти, програми концертів і вистав, реклами продукції та послуг тощо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Як правило, </a:t>
            </a:r>
            <a:r>
              <a:rPr b="1" lang="uk-UA" sz="1900" spc="-1" strike="noStrike">
                <a:solidFill>
                  <a:srgbClr val="000000"/>
                </a:solidFill>
                <a:latin typeface="Calibri"/>
              </a:rPr>
              <a:t>буклет складається з одного аркуша формату А4, розміщеного в альбомній орієнтації та розділеного на три рівні частини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. По межах цих частин буклет згинається. Друк здійснюється, як правило, з обох сторін аркуша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37" name="Picture 2" descr=""/>
          <p:cNvPicPr/>
          <p:nvPr/>
        </p:nvPicPr>
        <p:blipFill>
          <a:blip r:embed="rId1"/>
          <a:stretch/>
        </p:blipFill>
        <p:spPr>
          <a:xfrm>
            <a:off x="4572000" y="2714760"/>
            <a:ext cx="4429080" cy="36558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38" name="Picture 3" descr=""/>
          <p:cNvPicPr/>
          <p:nvPr/>
        </p:nvPicPr>
        <p:blipFill>
          <a:blip r:embed="rId2"/>
          <a:stretch/>
        </p:blipFill>
        <p:spPr>
          <a:xfrm>
            <a:off x="5357880" y="428760"/>
            <a:ext cx="3143160" cy="22003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7b9899"/>
                </a:solidFill>
                <a:latin typeface="Calibri"/>
              </a:rPr>
              <a:t>Створення буклет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0" name="Дата 2"/>
          <p:cNvSpPr/>
          <p:nvPr/>
        </p:nvSpPr>
        <p:spPr>
          <a:xfrm>
            <a:off x="5791320" y="6410160"/>
            <a:ext cx="3044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20B4-A53B-4DE5-8C97-5DEDEE42EB45}" type="datetime">
              <a:rPr b="0" lang="uk-UA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1" name="Нижний колонтитул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Номер слайда 4"/>
          <p:cNvSpPr/>
          <p:nvPr/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168E-9577-4B88-BD85-F0314EDC7B7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42560" y="1371240"/>
            <a:ext cx="442908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Створення буклету в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ublisher</a:t>
            </a: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 2007, вставлення текстових і графічних об'єктів не відрізняється від аналогічних операцій з бюлетенем.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Для створення буклету слід у початковому вікні програми серед типів публікацій вибрати </a:t>
            </a:r>
            <a:r>
              <a:rPr b="1" lang="uk-UA" sz="2100" spc="-1" strike="noStrike">
                <a:solidFill>
                  <a:srgbClr val="000000"/>
                </a:solidFill>
                <a:latin typeface="Calibri"/>
              </a:rPr>
              <a:t>Буклет</a:t>
            </a: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, а потім конкретний шаблон.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Якщо користувач працює з основним вікном програми, то необхідно для відкриття типу публікації виконати</a:t>
            </a:r>
            <a:r>
              <a:rPr b="0" i="1" lang="uk-UA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uk-UA" sz="2100" spc="-1" strike="noStrike">
                <a:solidFill>
                  <a:srgbClr val="000000"/>
                </a:solidFill>
                <a:latin typeface="Calibri"/>
              </a:rPr>
              <a:t>Файл </a:t>
            </a: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=&gt; </a:t>
            </a:r>
            <a:r>
              <a:rPr b="1" i="1" lang="uk-UA" sz="2100" spc="-1" strike="noStrike">
                <a:solidFill>
                  <a:srgbClr val="000000"/>
                </a:solidFill>
                <a:latin typeface="Calibri"/>
              </a:rPr>
              <a:t>Створити</a:t>
            </a:r>
            <a:r>
              <a:rPr b="0" i="1" lang="uk-UA" sz="2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Основні відмінності в роботі з буклетом визначаються його призначенням і формою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44" name="Picture 3" descr=""/>
          <p:cNvPicPr/>
          <p:nvPr/>
        </p:nvPicPr>
        <p:blipFill>
          <a:blip r:embed="rId1"/>
          <a:stretch/>
        </p:blipFill>
        <p:spPr>
          <a:xfrm>
            <a:off x="4422600" y="1928880"/>
            <a:ext cx="47037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7b9899"/>
                </a:solidFill>
                <a:latin typeface="Georgia"/>
              </a:rPr>
              <a:t>Об'єкти буклету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Дата 2"/>
          <p:cNvSpPr/>
          <p:nvPr/>
        </p:nvSpPr>
        <p:spPr>
          <a:xfrm>
            <a:off x="5791320" y="6410160"/>
            <a:ext cx="3044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9068-A849-4A18-BEBA-3DE1D2D7808C}" type="datetime">
              <a:rPr b="0" lang="uk-UA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Нижний колонтитул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8" name="Номер слайда 4"/>
          <p:cNvSpPr/>
          <p:nvPr/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0AFA-5F7A-496E-8BEE-B8422BFC9B5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Основне призначення буклету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реклама: навчального закладу, підприємства, організації, особи, нового товару, нової акції тощо. А враховуючи, що всі дані повинні бути розміщені на одному аркуші, буклет повинен містити невеликі за обсягом фрагменти тексту, які точно передають основні дані про об'єкт, а також фотографії і рисунки, що ілюструють ці дані. Фотографії та рисунки повинні бути високої якості і містити незначну кількість об'єктів, які чітко розрізняються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Як правило, буклет має титульну і заключну сторінки. На титульній сторінці вказують заголовок буклета, його основну тему і фотографію або малюнок із цієї самої теми. Можуть вказуватися дані про того, хто випустив цей буклет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На заключній сторінці вказуються контактні дані тієї організації або особи, яка випустила цей буклет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Приклади оформлення буклетів можна переглянути в Інтернеті. Для цього слід в рядку пошуку ввести ключове слово</a:t>
            </a:r>
            <a:r>
              <a:rPr b="0" i="1" lang="uk-U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uk-UA" sz="1400" spc="-1" strike="noStrike">
                <a:solidFill>
                  <a:srgbClr val="000000"/>
                </a:solidFill>
                <a:latin typeface="Calibri"/>
              </a:rPr>
              <a:t>буклет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 і вибрати команду (або гіперпосилання, залежно від пошукової системи) </a:t>
            </a:r>
            <a:r>
              <a:rPr b="1" lang="uk-UA" sz="1400" spc="-1" strike="noStrike">
                <a:solidFill>
                  <a:srgbClr val="000000"/>
                </a:solidFill>
                <a:latin typeface="Calibri"/>
              </a:rPr>
              <a:t>Зображення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50" name="Picture 2" descr=""/>
          <p:cNvPicPr/>
          <p:nvPr/>
        </p:nvPicPr>
        <p:blipFill>
          <a:blip r:embed="rId1"/>
          <a:stretch/>
        </p:blipFill>
        <p:spPr>
          <a:xfrm>
            <a:off x="4429080" y="1785960"/>
            <a:ext cx="442908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864396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Georgia"/>
              </a:rPr>
              <a:t>2.10. </a:t>
            </a:r>
            <a:r>
              <a:rPr b="0" lang="ru-RU" sz="3600" spc="-1" strike="noStrike">
                <a:solidFill>
                  <a:srgbClr val="ffffff"/>
                </a:solidFill>
                <a:latin typeface="Georgia"/>
              </a:rPr>
              <a:t>Особливості роботи з текстовими і графічними об'єктами в </a:t>
            </a: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Publisher </a:t>
            </a:r>
            <a:r>
              <a:rPr b="0" lang="ru-RU" sz="3600" spc="-1" strike="noStrike">
                <a:solidFill>
                  <a:srgbClr val="ffffff"/>
                </a:solidFill>
                <a:latin typeface="Georgia"/>
              </a:rPr>
              <a:t>2007. Створення бюлетеня і буклета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Дата 3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7A8C-FC96-4573-AE5E-62BEE03A23AC}" type="datetime">
              <a:rPr b="0" lang="uk-UA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Номер слайда 4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AF7C-AD22-460C-9811-872A9035792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Нижний колонтитул 5"/>
          <p:cNvSpPr/>
          <p:nvPr/>
        </p:nvSpPr>
        <p:spPr>
          <a:xfrm>
            <a:off x="304920" y="6410160"/>
            <a:ext cx="40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7b9899"/>
                </a:solidFill>
                <a:latin typeface="Georgia"/>
              </a:rPr>
              <a:t>Поняття про бюлетень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Дата 3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A054-6178-44EE-8A6A-AA39E0458BF9}" type="datetime">
              <a:rPr b="0" lang="uk-UA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Нижний колонтитул 5"/>
          <p:cNvSpPr/>
          <p:nvPr/>
        </p:nvSpPr>
        <p:spPr>
          <a:xfrm>
            <a:off x="304920" y="6410160"/>
            <a:ext cx="39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Номер слайда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DC79-35FE-49CF-8C8C-996E709AAA5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42920" y="1526760"/>
            <a:ext cx="87868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eorgia"/>
              </a:rPr>
              <a:t>Як уже зазначалося, у публікаціях можуть розміщуватися об'єкти двох типів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1" lang="uk-UA" sz="1400" spc="-1" strike="noStrike">
                <a:solidFill>
                  <a:srgbClr val="000000"/>
                </a:solidFill>
                <a:latin typeface="Georgia"/>
              </a:rPr>
              <a:t>тексти та графічні зображення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eorgia"/>
              </a:rPr>
              <a:t>Розглянемо особливості роботи з ними під час створення публікацій у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Publisher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2007. </a:t>
            </a:r>
            <a:r>
              <a:rPr b="0" lang="uk-UA" sz="1400" spc="-1" strike="noStrike">
                <a:solidFill>
                  <a:srgbClr val="000000"/>
                </a:solidFill>
                <a:latin typeface="Georgia"/>
              </a:rPr>
              <a:t>Зробимо це на прикладі створення бюлетеня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Georgia"/>
              </a:rPr>
              <a:t>Бюлетень </a:t>
            </a:r>
            <a:r>
              <a:rPr b="1" lang="ru-RU" sz="1400" spc="-1" strike="noStrike">
                <a:solidFill>
                  <a:srgbClr val="ff0000"/>
                </a:solidFill>
                <a:latin typeface="Georgia"/>
              </a:rPr>
              <a:t>(франц.</a:t>
            </a:r>
            <a:r>
              <a:rPr b="1" i="1" lang="ru-RU" sz="14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Georgia"/>
              </a:rPr>
              <a:t>bulletin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Georgia"/>
              </a:rPr>
              <a:t>- </a:t>
            </a:r>
            <a:r>
              <a:rPr b="1" lang="uk-UA" sz="1400" spc="-1" strike="noStrike">
                <a:solidFill>
                  <a:srgbClr val="ff0000"/>
                </a:solidFill>
                <a:latin typeface="Georgia"/>
              </a:rPr>
              <a:t>записка, листок, документ) </a:t>
            </a:r>
            <a:r>
              <a:rPr b="1" lang="ru-RU" sz="1400" spc="-1" strike="noStrike">
                <a:solidFill>
                  <a:srgbClr val="ff0000"/>
                </a:solidFill>
                <a:latin typeface="Georgia"/>
              </a:rPr>
              <a:t>- </a:t>
            </a:r>
            <a:r>
              <a:rPr b="1" lang="uk-UA" sz="1400" spc="-1" strike="noStrike">
                <a:solidFill>
                  <a:srgbClr val="ff0000"/>
                </a:solidFill>
                <a:latin typeface="Georgia"/>
              </a:rPr>
              <a:t>коротке офіційне повідомлення, збірка офіційних актів або періодичне видання, яке містить повідомлення з певного кола питань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eorgia"/>
              </a:rPr>
              <a:t>У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Publisher</a:t>
            </a:r>
            <a:r>
              <a:rPr b="0" lang="uk-UA" sz="1400" spc="-1" strike="noStrike">
                <a:solidFill>
                  <a:srgbClr val="000000"/>
                </a:solidFill>
                <a:latin typeface="Georgia"/>
              </a:rPr>
              <a:t> 2007 бюлетень - це публікація з однієї чи кількох сторінок, яка містить повідомлення з певного кола питань, наприклад аналіз економічного чи фінансового стану підприємства за певний період, добірка нормативних актів з певного питання або за певний період, огляд спортивних новин, звіт про проведені дослідження тощо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eorgia"/>
              </a:rPr>
              <a:t>Бюлетень має титульну і заключну сторінки. На кожній сторінці може бути кілька статей. Матеріал статей розміщується в кілька колонок. Кожна колонка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0" lang="uk-UA" sz="1400" spc="-1" strike="noStrike">
                <a:solidFill>
                  <a:srgbClr val="000000"/>
                </a:solidFill>
                <a:latin typeface="Georgia"/>
              </a:rPr>
              <a:t>це напис, який у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Publisher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2007 </a:t>
            </a:r>
            <a:r>
              <a:rPr b="0" lang="uk-UA" sz="1400" spc="-1" strike="noStrike">
                <a:solidFill>
                  <a:srgbClr val="000000"/>
                </a:solidFill>
                <a:latin typeface="Georgia"/>
              </a:rPr>
              <a:t>ще називають текстовим полем. Текстові поля однієї статті зв'язані між собою. Статті можуть починатися на одній сторінці, а закінчуватися на іншій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eorgia"/>
              </a:rPr>
              <a:t>Один з головних об'єктів публікації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0" lang="uk-UA" sz="1400" spc="-1" strike="noStrike">
                <a:solidFill>
                  <a:srgbClr val="000000"/>
                </a:solidFill>
                <a:latin typeface="Georgia"/>
              </a:rPr>
              <a:t>заголовок бюлетеня. За своєю структурою заголовок бюлетеня схожий до газетного. Він містить текст заголовка і дані про видавця, може містити девіз, емблему, для періодичних видань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0" lang="uk-UA" sz="1400" spc="-1" strike="noStrike">
                <a:solidFill>
                  <a:srgbClr val="000000"/>
                </a:solidFill>
                <a:latin typeface="Georgia"/>
              </a:rPr>
              <a:t>номер і дату випуску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eorgia"/>
              </a:rPr>
              <a:t>Основне місце на титульній сторінці займає перша або головна стаття. У бюлетені вона відіграє роль своєрідної програмної статті - тобто статті, в якій розкрито цілі данного видання або описано проблеми, які з наступних статтях будуть обговорюватися, деталізуватися і уточнюватися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eorgia"/>
              </a:rPr>
              <a:t>Остання сторінка бюлетеня містить дані про редакторів і дизайнерів бюлетеня, а також деякі службові дані: тираж публікації, реквізити редакції та друкарні тощо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7b9899"/>
                </a:solidFill>
                <a:latin typeface="Georgia"/>
              </a:rPr>
              <a:t>Приклад (1, 2 сторінки бюлетеню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Дата 2"/>
          <p:cNvSpPr/>
          <p:nvPr/>
        </p:nvSpPr>
        <p:spPr>
          <a:xfrm>
            <a:off x="5791320" y="6410160"/>
            <a:ext cx="3044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A245-B249-458E-81BF-D2C9EDD9E744}" type="datetime">
              <a:rPr b="0" lang="uk-UA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Нижний колонтитул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Номер слайда 4"/>
          <p:cNvSpPr/>
          <p:nvPr/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0294-4787-4442-B483-D5E2ED72C66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8" name="Picture 2" descr=""/>
          <p:cNvPicPr/>
          <p:nvPr/>
        </p:nvPicPr>
        <p:blipFill>
          <a:blip r:embed="rId1"/>
          <a:stretch/>
        </p:blipFill>
        <p:spPr>
          <a:xfrm>
            <a:off x="642960" y="1500120"/>
            <a:ext cx="3348000" cy="468144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3" descr=""/>
          <p:cNvPicPr/>
          <p:nvPr/>
        </p:nvPicPr>
        <p:blipFill>
          <a:blip r:embed="rId2"/>
          <a:stretch/>
        </p:blipFill>
        <p:spPr>
          <a:xfrm>
            <a:off x="5143680" y="1500120"/>
            <a:ext cx="3303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7b9899"/>
                </a:solidFill>
                <a:latin typeface="Georgia"/>
              </a:rPr>
              <a:t>Приклад (3, 4 сторінки бюлетеню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Дата 2"/>
          <p:cNvSpPr/>
          <p:nvPr/>
        </p:nvSpPr>
        <p:spPr>
          <a:xfrm>
            <a:off x="5791320" y="6410160"/>
            <a:ext cx="3044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00B5-ED10-4613-9348-B98FE558A976}" type="datetime">
              <a:rPr b="0" lang="uk-UA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Нижний колонтитул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Номер слайда 4"/>
          <p:cNvSpPr/>
          <p:nvPr/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1115-FA3A-42B7-B411-E941C90F730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4" name="Picture 2" descr=""/>
          <p:cNvPicPr/>
          <p:nvPr/>
        </p:nvPicPr>
        <p:blipFill>
          <a:blip r:embed="rId1"/>
          <a:stretch/>
        </p:blipFill>
        <p:spPr>
          <a:xfrm>
            <a:off x="642960" y="1571760"/>
            <a:ext cx="3354480" cy="46814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3" descr=""/>
          <p:cNvPicPr/>
          <p:nvPr/>
        </p:nvPicPr>
        <p:blipFill>
          <a:blip r:embed="rId2"/>
          <a:stretch/>
        </p:blipFill>
        <p:spPr>
          <a:xfrm>
            <a:off x="5143680" y="1571760"/>
            <a:ext cx="33508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7b9899"/>
                </a:solidFill>
                <a:latin typeface="Georgia"/>
              </a:rPr>
              <a:t>Створення бюлетеня на основі шаблону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Дата 2"/>
          <p:cNvSpPr/>
          <p:nvPr/>
        </p:nvSpPr>
        <p:spPr>
          <a:xfrm>
            <a:off x="5791320" y="6410160"/>
            <a:ext cx="3044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1A56-F10C-45F0-9002-7D1CF4903E39}" type="datetime">
              <a:rPr b="0" lang="uk-UA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Нижний колонтитул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Номер слайда 4"/>
          <p:cNvSpPr/>
          <p:nvPr/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6511-583E-4C5C-AE09-D21B5374350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213840" y="1371240"/>
            <a:ext cx="43578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Процес створення бюлетеня розпочинається з розробки структури і дизайну даного виду публікації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Перш за все слід ознайомитися з шаблонами публікацій даного типу, з'ясувати тематику та перелік питань, які будуть висвітлюватися з публікації, добрати матеріали до публікації</a:t>
            </a: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: назву бюлетеня, заголовки і тексти статей, ілюстрації до них, елементи оформлення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тощо. Далі слід перейти до безпосереднього створення бюлетеня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Для створення бюлетеня необхідно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1). В початковому вікні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ublisher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2007 у списку типів публікацій обрати Бюлетень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2). Вибрати шаблон бюлетеня і на відповідній панелі установити значення властивостей публікації</a:t>
            </a: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: вибрати колірну схему та схему шрифтів, указати службові відомості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1" name="Picture 2" descr=""/>
          <p:cNvPicPr/>
          <p:nvPr/>
        </p:nvPicPr>
        <p:blipFill>
          <a:blip r:embed="rId1"/>
          <a:stretch/>
        </p:blipFill>
        <p:spPr>
          <a:xfrm>
            <a:off x="4565520" y="1606680"/>
            <a:ext cx="4578480" cy="3767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7b9899"/>
                </a:solidFill>
                <a:latin typeface="Georgia"/>
              </a:rPr>
              <a:t>Створення бюлетеня на основі шаблону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Дата 2"/>
          <p:cNvSpPr/>
          <p:nvPr/>
        </p:nvSpPr>
        <p:spPr>
          <a:xfrm>
            <a:off x="5791320" y="6410160"/>
            <a:ext cx="3044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FD75-B790-42F0-BE39-ADB7593DEFC7}" type="datetime">
              <a:rPr b="0" lang="uk-UA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Нижний колонтитул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Номер слайда 4"/>
          <p:cNvSpPr/>
          <p:nvPr/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B971-C3FA-41DC-8E37-7E71BD3765D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213840" y="1371240"/>
            <a:ext cx="43578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На цій самій панелі в полі Розмір сторінки встановлюється кількість аркушів публікації. Слід враховувати, що передбачається двосторонній друк, і якщо обрати один аркуш публікації, то ми матимемо дві сторінки бюлетеня, а якщо два аркуші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то чотир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ісля завершення початкового встановлення значень властивостей публікації слід вибрати кнопку Створити і перейти в режим редагування та форматування шаблону бюлетеня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7" name="Picture 2" descr=""/>
          <p:cNvPicPr/>
          <p:nvPr/>
        </p:nvPicPr>
        <p:blipFill>
          <a:blip r:embed="rId1"/>
          <a:stretch/>
        </p:blipFill>
        <p:spPr>
          <a:xfrm>
            <a:off x="5910120" y="1371600"/>
            <a:ext cx="1819440" cy="46814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7b9899"/>
                </a:solidFill>
                <a:latin typeface="Calibri"/>
              </a:rPr>
              <a:t>Ярлики сторінок публікації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9" name="Дата 2"/>
          <p:cNvSpPr/>
          <p:nvPr/>
        </p:nvSpPr>
        <p:spPr>
          <a:xfrm>
            <a:off x="5791320" y="6410160"/>
            <a:ext cx="3044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11D1-1E27-46B4-91F7-221AFB4FF9A1}" type="datetime">
              <a:rPr b="0" lang="uk-UA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0" name="Нижний колонтитул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Номер слайда 4"/>
          <p:cNvSpPr/>
          <p:nvPr/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1924-8EE9-4F3B-9A15-CE1679F4577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213840" y="1371240"/>
            <a:ext cx="43578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0" lang="uk-UA" sz="23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Calibri"/>
              </a:rPr>
              <a:t>У Рядку стану вікна програми відображаються ярлики сторінок публікації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Calibri"/>
              </a:rPr>
              <a:t>Для перегляду потрібної сторінки публікації слід вибрати ярлик з її номером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Calibri"/>
              </a:rPr>
              <a:t>Внутрішні сторінки (наприклад,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uk-UA" sz="2300" spc="-1" strike="noStrike">
                <a:solidFill>
                  <a:srgbClr val="000000"/>
                </a:solidFill>
                <a:latin typeface="Calibri"/>
              </a:rPr>
              <a:t>і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uk-UA" sz="2300" spc="-1" strike="noStrike">
                <a:solidFill>
                  <a:srgbClr val="000000"/>
                </a:solidFill>
                <a:latin typeface="Calibri"/>
              </a:rPr>
              <a:t>відображаються попарно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Calibri"/>
              </a:rPr>
              <a:t>Ярлик поточної сторінки має більш темний колір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3" name="Picture 2" descr=""/>
          <p:cNvPicPr/>
          <p:nvPr/>
        </p:nvPicPr>
        <p:blipFill>
          <a:blip r:embed="rId1"/>
          <a:stretch/>
        </p:blipFill>
        <p:spPr>
          <a:xfrm>
            <a:off x="4929120" y="3000240"/>
            <a:ext cx="3600360" cy="8352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30T05:49:19Z</dcterms:created>
  <dc:creator>KEK$</dc:creator>
  <dc:description/>
  <dc:language>en-US</dc:language>
  <cp:lastModifiedBy>Two_2</cp:lastModifiedBy>
  <dcterms:modified xsi:type="dcterms:W3CDTF">2014-02-09T19:25:27Z</dcterms:modified>
  <cp:revision>35</cp:revision>
  <dc:subject/>
  <dc:title>Вивчаємо інформатику</dc:title>
</cp:coreProperties>
</file>