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C71-8E24-4BB8-B22B-F7078DFB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C89-E15F-4EA5-AA74-3347FD67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5E3-D271-4B15-AD2C-B1CFA463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90E-4D7D-47EF-87BD-E33B153E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66E-B344-48D8-B185-F612128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078-A32D-4E11-9C49-24B7141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B09-6A39-4DC3-A2CB-4B4AEB1E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739-237B-40CE-9574-D8F7065F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F0F-C70D-4C27-B14C-BE9D794B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D9D-3399-425A-A4F0-6484A555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4BB-4516-42B7-99AD-BCA5451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427-50B3-4748-944E-10A4837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55F7-0829-44FC-96E5-92A2C19B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42100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Arial Black"/>
              </a:rPr>
              <a:t>ЛАБОРАТОР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3429000"/>
            <a:ext cx="61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10800000"/>
                </a:gradFill>
                <a:latin typeface="Arial Black"/>
              </a:rPr>
              <a:t>РОБОТА №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614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333399"/>
                </a:solidFill>
                <a:latin typeface="Arial Black"/>
              </a:rPr>
              <a:t>Вивчення законів відбивання світла за допомогою плоского дзерка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9528"/>
          <a:stretch/>
        </p:blipFill>
        <p:spPr>
          <a:xfrm>
            <a:off x="0" y="0"/>
            <a:ext cx="9144000" cy="483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3492360" y="2205000"/>
            <a:ext cx="648000" cy="2303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4941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 папері у клітку накресліть відрізок, де буде знаходитись дзеркало (синя лінія). Від його середини виведіть перпендикуляр (червоний пунктир) та промінь під довільним кутом (градусів 30-4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2205000"/>
            <a:ext cx="3313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9528"/>
          <a:stretch/>
        </p:blipFill>
        <p:spPr>
          <a:xfrm>
            <a:off x="0" y="0"/>
            <a:ext cx="9144000" cy="483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64000" y="2349360"/>
            <a:ext cx="72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3933720"/>
            <a:ext cx="72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941720"/>
            <a:ext cx="8785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 промені позначте дві точки А</a:t>
            </a:r>
            <a:r>
              <a:rPr b="1" lang="uk-U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та А</a:t>
            </a:r>
            <a:r>
              <a:rPr b="1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(на віддалі 3-4см одна від одної). Ввіткніть у цих точках вертикально розміщені булавки. Лінія, що проходить через ці точки, вкаже напрям падаючого на дзеркало променя (сині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563640" y="1773360"/>
            <a:ext cx="647640" cy="2303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1341360"/>
            <a:ext cx="1979640" cy="792360"/>
          </a:xfrm>
          <a:prstGeom prst="wedgeRoundRectCallout">
            <a:avLst>
              <a:gd name="adj1" fmla="val -137972"/>
              <a:gd name="adj2" fmla="val 62425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ь перша бул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781360"/>
            <a:ext cx="1979640" cy="792000"/>
          </a:xfrm>
          <a:prstGeom prst="wedgeRoundRectCallout">
            <a:avLst>
              <a:gd name="adj1" fmla="val -89537"/>
              <a:gd name="adj2" fmla="val 73648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ь друга бул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1773360"/>
            <a:ext cx="2232000" cy="302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6575" t="17717" r="0" b="35433"/>
          <a:stretch/>
        </p:blipFill>
        <p:spPr>
          <a:xfrm>
            <a:off x="0" y="0"/>
            <a:ext cx="9144000" cy="437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4653000"/>
            <a:ext cx="8605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найдіть відображення цих булавок у дзерка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верніть увагу, що для цього ви повинні дивитись на дзеркало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 другої сторони перпендикуляру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8920" y="2924280"/>
            <a:ext cx="1944720" cy="1368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2997360"/>
            <a:ext cx="72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404640"/>
            <a:ext cx="3024000" cy="792360"/>
          </a:xfrm>
          <a:prstGeom prst="wedgeRoundRectCallout">
            <a:avLst>
              <a:gd name="adj1" fmla="val -64907"/>
              <a:gd name="adj2" fmla="val 117333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ь зображення другої бул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333360"/>
            <a:ext cx="3024000" cy="792000"/>
          </a:xfrm>
          <a:prstGeom prst="wedgeRoundRectCallout">
            <a:avLst>
              <a:gd name="adj1" fmla="val 70629"/>
              <a:gd name="adj2" fmla="val 126152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ь зображення першої бул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1773360"/>
            <a:ext cx="1979640" cy="792000"/>
          </a:xfrm>
          <a:prstGeom prst="wedgeRoundRectCallout">
            <a:avLst>
              <a:gd name="adj1" fmla="val -69407"/>
              <a:gd name="adj2" fmla="val 62425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ь перша бул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539000">
            <a:off x="2195640" y="3573360"/>
            <a:ext cx="1079280" cy="647640"/>
          </a:xfrm>
          <a:prstGeom prst="rightArrow">
            <a:avLst>
              <a:gd name="adj1" fmla="val 50000"/>
              <a:gd name="adj2" fmla="val 7449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26575" t="17717" r="0" b="29528"/>
          <a:stretch/>
        </p:blipFill>
        <p:spPr>
          <a:xfrm>
            <a:off x="0" y="0"/>
            <a:ext cx="9144000" cy="492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4941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найдіть таку точку зору, з якої зображення булавок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неначе закриватимуть одне одного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 Тепер ввіткніть перед ними ще дві булавки так, щоб всі чотири булавки закривали одна одну (розмістились на одній прямі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341360"/>
            <a:ext cx="3024360" cy="792360"/>
          </a:xfrm>
          <a:prstGeom prst="wedgeRoundRectCallout">
            <a:avLst>
              <a:gd name="adj1" fmla="val 80342"/>
              <a:gd name="adj2" fmla="val 134972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ва зображення неначе злились в о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2146" t="17717" r="0" b="29528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2627280" y="3141360"/>
            <a:ext cx="72072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22146" t="17717" r="0" b="29528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3635280" y="2924280"/>
            <a:ext cx="1297080" cy="793080"/>
            <a:chOff x="3635280" y="2924280"/>
            <a:chExt cx="1297080" cy="793080"/>
          </a:xfrm>
        </p:grpSpPr>
        <p:sp>
          <p:nvSpPr>
            <p:cNvPr id="71" name=""/>
            <p:cNvSpPr/>
            <p:nvPr/>
          </p:nvSpPr>
          <p:spPr>
            <a:xfrm flipH="1" flipV="1">
              <a:off x="3635280" y="2924280"/>
              <a:ext cx="64944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11640" y="3068640"/>
              <a:ext cx="72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 Black"/>
                </a:rPr>
                <a:t>А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050920" y="3068640"/>
            <a:ext cx="1297080" cy="648720"/>
            <a:chOff x="2050920" y="3068640"/>
            <a:chExt cx="1297080" cy="648720"/>
          </a:xfrm>
        </p:grpSpPr>
        <p:sp>
          <p:nvSpPr>
            <p:cNvPr id="74" name=""/>
            <p:cNvSpPr/>
            <p:nvPr/>
          </p:nvSpPr>
          <p:spPr>
            <a:xfrm flipV="1">
              <a:off x="2627280" y="3141360"/>
              <a:ext cx="72072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0920" y="3068640"/>
              <a:ext cx="72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 Black"/>
                </a:rPr>
                <a:t>А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79280" y="4941720"/>
            <a:ext cx="8785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гляньте, як ввіткнуті булавки в точках А</a:t>
            </a:r>
            <a:r>
              <a:rPr b="1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та А</a:t>
            </a:r>
            <a:r>
              <a:rPr b="1" lang="uk-UA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 Лінія, проведена через точки А3 та А4 вкаже напрям відбитого від дзеркала променя (зеле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59280" y="2637000"/>
            <a:ext cx="720720" cy="1079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2637000"/>
            <a:ext cx="4753080" cy="287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29528"/>
          <a:stretch/>
        </p:blipFill>
        <p:spPr>
          <a:xfrm>
            <a:off x="0" y="0"/>
            <a:ext cx="9144000" cy="4832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3492360" y="2205000"/>
            <a:ext cx="648000" cy="2303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2205000"/>
            <a:ext cx="3313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2205000"/>
            <a:ext cx="1800000" cy="230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115640" y="2205000"/>
            <a:ext cx="3024360" cy="1944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9051000">
            <a:off x="2206080" y="517320"/>
            <a:ext cx="4552920" cy="327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53" y="3281"/>
                </a:moveTo>
                <a:arcTo wR="10800" hR="10800" stAng="-2647261" swAng="2647261"/>
                <a:lnTo>
                  <a:pt x="10800" y="10800"/>
                </a:lnTo>
                <a:close/>
              </a:path>
              <a:path fill="none" w="21600" h="21600">
                <a:moveTo>
                  <a:pt x="18553" y="3281"/>
                </a:moveTo>
                <a:arcTo wR="10800" hR="10800" stAng="-2647261" swAng="264726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9051000">
            <a:off x="3000240" y="1150920"/>
            <a:ext cx="3732840" cy="217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86" y="245"/>
                </a:moveTo>
                <a:arcTo wR="10800" hR="10800" stAng="-4666664" swAng="2740253"/>
                <a:lnTo>
                  <a:pt x="10800" y="10800"/>
                </a:lnTo>
                <a:close/>
              </a:path>
              <a:path fill="none" w="21600" h="21600">
                <a:moveTo>
                  <a:pt x="13086" y="245"/>
                </a:moveTo>
                <a:arcTo wR="10800" hR="10800" stAng="-4666664" swAng="274025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3284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3573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4941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лишається виміряти кут падіння (</a:t>
            </a:r>
            <a:r>
              <a:rPr b="1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) та кут відбивання (</a:t>
            </a:r>
            <a:r>
              <a:rPr b="1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), щоб перевірити, чи правильний закон відбивання світла. Кути вимірюйте транспортиром з точністю до одного град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8:10:59Z</dcterms:created>
  <dc:creator>name</dc:creator>
  <dc:description/>
  <dc:language>en-US</dc:language>
  <cp:lastModifiedBy>name</cp:lastModifiedBy>
  <dcterms:modified xsi:type="dcterms:W3CDTF">2010-02-04T14:24:50Z</dcterms:modified>
  <cp:revision>4</cp:revision>
  <dc:subject/>
  <dc:title>Лабораторна робота №9</dc:title>
</cp:coreProperties>
</file>