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AAF-C2A1-4142-84A8-563780F3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DBC-C759-441F-B6AA-3D74A59C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378-E103-4710-9CFC-65CADDD6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08F-EBC7-43D7-A6B9-BDD76E8C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B41-5BB7-49DE-A3F3-E6F2BE1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123-F840-48E4-93D9-D6B7F541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E48-09E2-4E4B-8B91-4BB72417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181-56AC-40C7-8A4D-47EDCD09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5A9-D94B-4862-8477-9E3097FD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14C-C9A4-4C97-B96F-18B9F5EF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D04-14EE-4066-A661-27CB7F8D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C40-F585-448E-ABCD-CAB632E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CB46-1275-4C7B-AEEB-60363A1E4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3" descr=""/>
          <p:cNvPicPr/>
          <p:nvPr/>
        </p:nvPicPr>
        <p:blipFill>
          <a:blip r:embed="rId1"/>
          <a:stretch/>
        </p:blipFill>
        <p:spPr>
          <a:xfrm>
            <a:off x="12600" y="274680"/>
            <a:ext cx="913140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кутник 4" descr=""/>
          <p:cNvPicPr/>
          <p:nvPr/>
        </p:nvPicPr>
        <p:blipFill>
          <a:blip r:embed="rId2"/>
          <a:stretch/>
        </p:blipFill>
        <p:spPr>
          <a:xfrm>
            <a:off x="12600" y="1238400"/>
            <a:ext cx="9144000" cy="12492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кутник 5" descr=""/>
          <p:cNvPicPr/>
          <p:nvPr/>
        </p:nvPicPr>
        <p:blipFill>
          <a:blip r:embed="rId3"/>
          <a:stretch/>
        </p:blipFill>
        <p:spPr>
          <a:xfrm>
            <a:off x="-285840" y="1871640"/>
            <a:ext cx="97156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176720" cy="4435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716360" y="262080"/>
            <a:ext cx="3917880" cy="4435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395280" y="4797360"/>
            <a:ext cx="8497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1. На аркуші паперу в клітинку розмістіть призму з плоскопаралельними гранями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Обмалюйте олівцем чи ручкою її контур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Домалюйте промінь під довільним кутом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, який падає на меншу грань призми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Побудуйте перпендикуляр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 точки падіння променя до грані призми. Після цього покладіть аркуш паперу на коврик для комп'ютерної миші (чи аркуш гофрованого картону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14480" cy="424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50920" y="4797360"/>
            <a:ext cx="8642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Поверніть призму на своє місце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 папері. Виберіть на промені дві довільні точки А і В (на відстані 2-4 см одна від одної) і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ввіткніть у цих точках вертикально булавк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4. Дивлячись через призму на булавки,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спробуйте побачити їх зображення у призмі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(зверніть увагу, що зображення будуть дещо зміщені відносно справжнього положення булавок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4130640" y="189000"/>
            <a:ext cx="4710240" cy="4248000"/>
          </a:xfrm>
          <a:prstGeom prst="rect">
            <a:avLst/>
          </a:prstGeom>
          <a:ln w="0">
            <a:noFill/>
          </a:ln>
        </p:spPr>
      </p:pic>
      <p:sp>
        <p:nvSpPr>
          <p:cNvPr id="50" name="Округлена прямокутна виноска 3"/>
          <p:cNvSpPr/>
          <p:nvPr/>
        </p:nvSpPr>
        <p:spPr>
          <a:xfrm>
            <a:off x="6485040" y="333360"/>
            <a:ext cx="1974600" cy="431640"/>
          </a:xfrm>
          <a:prstGeom prst="wedgeRoundRectCallout">
            <a:avLst>
              <a:gd name="adj1" fmla="val -67120"/>
              <a:gd name="adj2" fmla="val 104828"/>
              <a:gd name="adj3" fmla="val 16667"/>
            </a:avLst>
          </a:prstGeom>
          <a:gradFill rotWithShape="0">
            <a:gsLst>
              <a:gs pos="0">
                <a:srgbClr val="ffc000"/>
              </a:gs>
              <a:gs pos="50000">
                <a:srgbClr val="ffff00"/>
              </a:gs>
              <a:gs pos="100000">
                <a:srgbClr val="ffc000"/>
              </a:gs>
            </a:gsLst>
            <a:lin ang="5400000"/>
          </a:gradFill>
          <a:ln w="64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бул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круглена прямокутна виноска 8"/>
          <p:cNvSpPr/>
          <p:nvPr/>
        </p:nvSpPr>
        <p:spPr>
          <a:xfrm>
            <a:off x="4211640" y="2644920"/>
            <a:ext cx="1976400" cy="423720"/>
          </a:xfrm>
          <a:prstGeom prst="wedgeRoundRectCallout">
            <a:avLst>
              <a:gd name="adj1" fmla="val 30393"/>
              <a:gd name="adj2" fmla="val -264277"/>
              <a:gd name="adj3" fmla="val 16667"/>
            </a:avLst>
          </a:prstGeom>
          <a:gradFill rotWithShape="0">
            <a:gsLst>
              <a:gs pos="0">
                <a:srgbClr val="ffc000"/>
              </a:gs>
              <a:gs pos="50000">
                <a:srgbClr val="ffff00"/>
              </a:gs>
              <a:gs pos="100000">
                <a:srgbClr val="ffc000"/>
              </a:gs>
            </a:gsLst>
            <a:lin ang="5400000"/>
          </a:gradFill>
          <a:ln w="64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Їх зображе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 сполучна лінія 6"/>
          <p:cNvSpPr/>
          <p:nvPr/>
        </p:nvSpPr>
        <p:spPr>
          <a:xfrm>
            <a:off x="4356000" y="1413000"/>
            <a:ext cx="720720" cy="43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 сполучна лінія 11"/>
          <p:cNvSpPr/>
          <p:nvPr/>
        </p:nvSpPr>
        <p:spPr>
          <a:xfrm flipV="1">
            <a:off x="4363920" y="1393920"/>
            <a:ext cx="719280" cy="450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76200" y="189000"/>
            <a:ext cx="3743280" cy="4209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50920" y="4797360"/>
            <a:ext cx="8642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Знайдіть таке положення променя зору, коли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зображення булавок у призмі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 неначе ховаються одне за одним 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(закривають один одного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6. Не змінюючи положення зору,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увіткніть ще дві булавки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ПЕРЕД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 призмою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(між вами і призмою) так, щоб ці дві булавки закривали собою зображення булавок у призмі. Ввіткнуті вами булавки і зображення у призмі повинні розміститись на одній прям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3872160" cy="4209840"/>
          </a:xfrm>
          <a:prstGeom prst="rect">
            <a:avLst/>
          </a:prstGeom>
          <a:ln w="0">
            <a:noFill/>
          </a:ln>
        </p:spPr>
      </p:pic>
      <p:sp>
        <p:nvSpPr>
          <p:cNvPr id="57" name="Округлена прямокутна виноска 7"/>
          <p:cNvSpPr/>
          <p:nvPr/>
        </p:nvSpPr>
        <p:spPr>
          <a:xfrm>
            <a:off x="2050920" y="3213000"/>
            <a:ext cx="1976400" cy="603360"/>
          </a:xfrm>
          <a:prstGeom prst="wedgeRoundRectCallout">
            <a:avLst>
              <a:gd name="adj1" fmla="val -64037"/>
              <a:gd name="adj2" fmla="val -217055"/>
              <a:gd name="adj3" fmla="val 16667"/>
            </a:avLst>
          </a:prstGeom>
          <a:gradFill rotWithShape="0">
            <a:gsLst>
              <a:gs pos="0">
                <a:srgbClr val="ffc000"/>
              </a:gs>
              <a:gs pos="50000">
                <a:srgbClr val="ffff00"/>
              </a:gs>
              <a:gs pos="100000">
                <a:srgbClr val="ffc000"/>
              </a:gs>
            </a:gsLst>
            <a:lin ang="5400000"/>
          </a:gradFill>
          <a:ln w="64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ображення булав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 сполучна лінія 5"/>
          <p:cNvSpPr/>
          <p:nvPr/>
        </p:nvSpPr>
        <p:spPr>
          <a:xfrm flipH="1">
            <a:off x="4657680" y="2060640"/>
            <a:ext cx="719280" cy="201924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круглена прямокутна виноска 17"/>
          <p:cNvSpPr/>
          <p:nvPr/>
        </p:nvSpPr>
        <p:spPr>
          <a:xfrm>
            <a:off x="6496200" y="189000"/>
            <a:ext cx="1974600" cy="444240"/>
          </a:xfrm>
          <a:prstGeom prst="wedgeRoundRectCallout">
            <a:avLst>
              <a:gd name="adj1" fmla="val -114027"/>
              <a:gd name="adj2" fmla="val -13273"/>
              <a:gd name="adj3" fmla="val 16667"/>
            </a:avLst>
          </a:prstGeom>
          <a:gradFill rotWithShape="0">
            <a:gsLst>
              <a:gs pos="0">
                <a:srgbClr val="558ed5"/>
              </a:gs>
              <a:gs pos="50000">
                <a:srgbClr val="8eb4e3"/>
              </a:gs>
              <a:gs pos="100000">
                <a:srgbClr val="558ed5"/>
              </a:gs>
            </a:gsLst>
            <a:lin ang="5400000"/>
          </a:gradFill>
          <a:ln w="648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ві нові бул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круглена прямокутна виноска 18"/>
          <p:cNvSpPr/>
          <p:nvPr/>
        </p:nvSpPr>
        <p:spPr>
          <a:xfrm>
            <a:off x="6496200" y="2306520"/>
            <a:ext cx="1974600" cy="906480"/>
          </a:xfrm>
          <a:prstGeom prst="wedgeRoundRectCallout">
            <a:avLst>
              <a:gd name="adj1" fmla="val -107240"/>
              <a:gd name="adj2" fmla="val -109375"/>
              <a:gd name="adj3" fmla="val 16667"/>
            </a:avLst>
          </a:prstGeom>
          <a:gradFill rotWithShape="0">
            <a:gsLst>
              <a:gs pos="0">
                <a:srgbClr val="ffc000"/>
              </a:gs>
              <a:gs pos="50000">
                <a:srgbClr val="ffff00"/>
              </a:gs>
              <a:gs pos="100000">
                <a:srgbClr val="ffc000"/>
              </a:gs>
            </a:gsLst>
            <a:lin ang="5400000"/>
          </a:gradFill>
          <a:ln w="64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ображення «старих» булав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87360" y="230040"/>
            <a:ext cx="3809880" cy="427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336920" y="230040"/>
            <a:ext cx="4364280" cy="4276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55520" y="47973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Перевірте положення булавок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(дві булавки мають бути розміщені ЗА призмою, дві – ПЕРЕД призм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8. Зніміть призму та аркуш паперу з коврика,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домалюйте відрізок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через дві ближні до вас булавки до того місця, де був край призм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6000" y="168120"/>
            <a:ext cx="4282920" cy="505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641840" y="168120"/>
            <a:ext cx="4226040" cy="5054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55520" y="5321160"/>
            <a:ext cx="86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uk-UA" sz="1800" spc="-1" strike="noStrike">
                <a:solidFill>
                  <a:srgbClr val="0000ff"/>
                </a:solidFill>
                <a:latin typeface="Calibri"/>
              </a:rPr>
              <a:t>Сполучіть точку входу світла у скло з точкою виходу світла зі скла.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еревірте візуально, чи заломлювалось світло у склі (чи змінювало напрям поширенн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. Позначте і виміряйте транспортиром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кути падіння і заломлення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ля переходів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ПОВІТРЯ-СКЛО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жовті) і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СКЛО-ПОВІТРЯ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фіолетові). Запишіть дані у таблиц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екторна 4"/>
          <p:cNvSpPr/>
          <p:nvPr/>
        </p:nvSpPr>
        <p:spPr>
          <a:xfrm>
            <a:off x="5694480" y="1427040"/>
            <a:ext cx="1266840" cy="1268640"/>
          </a:xfrm>
          <a:custGeom>
            <a:avLst/>
            <a:gdLst/>
            <a:ahLst/>
            <a:rect l="l" t="t" r="r" b="b"/>
            <a:pathLst>
              <a:path w="1267968" h="1267968">
                <a:moveTo>
                  <a:pt x="237247" y="139478"/>
                </a:moveTo>
                <a:cubicBezTo>
                  <a:pt x="349772" y="49201"/>
                  <a:pt x="489721" y="0"/>
                  <a:pt x="633984" y="0"/>
                </a:cubicBezTo>
                <a:lnTo>
                  <a:pt x="633984" y="633984"/>
                </a:lnTo>
                <a:lnTo>
                  <a:pt x="237247" y="139478"/>
                </a:lnTo>
                <a:close/>
              </a:path>
            </a:pathLst>
          </a:cu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екторна 9"/>
          <p:cNvSpPr/>
          <p:nvPr/>
        </p:nvSpPr>
        <p:spPr>
          <a:xfrm>
            <a:off x="5694480" y="1427040"/>
            <a:ext cx="1266840" cy="1268640"/>
          </a:xfrm>
          <a:custGeom>
            <a:avLst/>
            <a:gdLst/>
            <a:ahLst/>
            <a:rect l="l" t="t" r="r" b="b"/>
            <a:pathLst>
              <a:path w="1267968" h="1267968">
                <a:moveTo>
                  <a:pt x="958048" y="1178886"/>
                </a:moveTo>
                <a:cubicBezTo>
                  <a:pt x="865139" y="1234141"/>
                  <a:pt x="759644" y="1264722"/>
                  <a:pt x="651587" y="1267724"/>
                </a:cubicBezTo>
                <a:lnTo>
                  <a:pt x="633984" y="633984"/>
                </a:lnTo>
                <a:lnTo>
                  <a:pt x="958048" y="1178886"/>
                </a:lnTo>
                <a:close/>
              </a:path>
            </a:pathLst>
          </a:custGeom>
          <a:solidFill>
            <a:srgbClr val="ffc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екторна 10"/>
          <p:cNvSpPr/>
          <p:nvPr/>
        </p:nvSpPr>
        <p:spPr>
          <a:xfrm>
            <a:off x="6254640" y="2401920"/>
            <a:ext cx="1268640" cy="1268280"/>
          </a:xfrm>
          <a:custGeom>
            <a:avLst/>
            <a:gdLst/>
            <a:ahLst/>
            <a:rect l="l" t="t" r="r" b="b"/>
            <a:pathLst>
              <a:path w="1267968" h="1267968">
                <a:moveTo>
                  <a:pt x="362222" y="61200"/>
                </a:moveTo>
                <a:cubicBezTo>
                  <a:pt x="428669" y="29674"/>
                  <a:pt x="500095" y="9950"/>
                  <a:pt x="573304" y="2910"/>
                </a:cubicBezTo>
                <a:lnTo>
                  <a:pt x="633984" y="633984"/>
                </a:lnTo>
                <a:lnTo>
                  <a:pt x="362222" y="61200"/>
                </a:lnTo>
                <a:close/>
              </a:path>
            </a:pathLst>
          </a:custGeom>
          <a:solidFill>
            <a:srgbClr val="7030a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екторна 11"/>
          <p:cNvSpPr/>
          <p:nvPr/>
        </p:nvSpPr>
        <p:spPr>
          <a:xfrm>
            <a:off x="6254640" y="2401920"/>
            <a:ext cx="1268640" cy="1268280"/>
          </a:xfrm>
          <a:custGeom>
            <a:avLst/>
            <a:gdLst/>
            <a:ahLst/>
            <a:rect l="l" t="t" r="r" b="b"/>
            <a:pathLst>
              <a:path w="1267968" h="1267968">
                <a:moveTo>
                  <a:pt x="1034727" y="1125248"/>
                </a:moveTo>
                <a:cubicBezTo>
                  <a:pt x="925465" y="1214378"/>
                  <a:pt x="789607" y="1264539"/>
                  <a:pt x="648640" y="1267798"/>
                </a:cubicBezTo>
                <a:lnTo>
                  <a:pt x="633984" y="633984"/>
                </a:lnTo>
                <a:lnTo>
                  <a:pt x="1034727" y="1125248"/>
                </a:lnTo>
                <a:close/>
              </a:path>
            </a:pathLst>
          </a:custGeom>
          <a:solidFill>
            <a:srgbClr val="7030a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83280" y="141768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6010200" y="23018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6718320" y="248616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888240" y="348624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круглена прямокутна виноска 17"/>
          <p:cNvSpPr/>
          <p:nvPr/>
        </p:nvSpPr>
        <p:spPr>
          <a:xfrm>
            <a:off x="2357280" y="1116000"/>
            <a:ext cx="1974960" cy="603360"/>
          </a:xfrm>
          <a:prstGeom prst="wedgeRoundRectCallout">
            <a:avLst>
              <a:gd name="adj1" fmla="val -60949"/>
              <a:gd name="adj2" fmla="val 116074"/>
              <a:gd name="adj3" fmla="val 16667"/>
            </a:avLst>
          </a:prstGeom>
          <a:gradFill rotWithShape="0">
            <a:gsLst>
              <a:gs pos="0">
                <a:srgbClr val="ffc000"/>
              </a:gs>
              <a:gs pos="50000">
                <a:srgbClr val="ffff00"/>
              </a:gs>
              <a:gs pos="100000">
                <a:srgbClr val="ffc000"/>
              </a:gs>
            </a:gsLst>
            <a:lin ang="5400000"/>
          </a:gradFill>
          <a:ln w="64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очка входу світла у ск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круглена прямокутна виноска 18"/>
          <p:cNvSpPr/>
          <p:nvPr/>
        </p:nvSpPr>
        <p:spPr>
          <a:xfrm>
            <a:off x="382680" y="3832200"/>
            <a:ext cx="1974600" cy="603360"/>
          </a:xfrm>
          <a:prstGeom prst="wedgeRoundRectCallout">
            <a:avLst>
              <a:gd name="adj1" fmla="val 58782"/>
              <a:gd name="adj2" fmla="val -162541"/>
              <a:gd name="adj3" fmla="val 16667"/>
            </a:avLst>
          </a:prstGeom>
          <a:gradFill rotWithShape="0">
            <a:gsLst>
              <a:gs pos="0">
                <a:srgbClr val="ffc000"/>
              </a:gs>
              <a:gs pos="50000">
                <a:srgbClr val="ffff00"/>
              </a:gs>
              <a:gs pos="100000">
                <a:srgbClr val="ffc000"/>
              </a:gs>
            </a:gsLst>
            <a:lin ang="5400000"/>
          </a:gradFill>
          <a:ln w="64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очка виходу світла зі с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50920" y="3589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. Повторіть дослід на новому аркуші паперу, змінивши кут падіння променя на призму (зробіть його більшим чи меншим за попередній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0000"/>
                </a:solidFill>
                <a:uFillTx/>
                <a:latin typeface="Calibri"/>
              </a:rPr>
              <a:t>Додаткове завд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истуючись таблицями синусів, обчисліть за законом заломлення світла  </a:t>
            </a:r>
            <a:r>
              <a:rPr b="1" i="1" lang="uk-UA" sz="1800" spc="-1" strike="noStrike">
                <a:solidFill>
                  <a:srgbClr val="ff0000"/>
                </a:solidFill>
                <a:latin typeface="Calibri"/>
              </a:rPr>
              <a:t>абсолютний показник заломлення скла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uk-UA" sz="1800" spc="-1" strike="noStrike">
                <a:solidFill>
                  <a:srgbClr val="0000ff"/>
                </a:solidFill>
                <a:latin typeface="Calibri"/>
              </a:rPr>
              <a:t>абсолютний показник заломлення повітря вважайте рівним 1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). Таблиця синусів для цілих значень кутів від 0 до 90 розміщена на наступному слайд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81160" y="1231920"/>
            <a:ext cx="1995480" cy="527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4616280" y="1236600"/>
            <a:ext cx="2063880" cy="5302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824520" y="1231920"/>
            <a:ext cx="2124360" cy="5222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2374920" y="1231920"/>
            <a:ext cx="2146320" cy="5275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а сполучна лінія 2"/>
          <p:cNvSpPr/>
          <p:nvPr/>
        </p:nvSpPr>
        <p:spPr>
          <a:xfrm flipV="1">
            <a:off x="2332080" y="1096560"/>
            <a:ext cx="0" cy="5442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 сполучна лінія 10"/>
          <p:cNvSpPr/>
          <p:nvPr/>
        </p:nvSpPr>
        <p:spPr>
          <a:xfrm flipV="1">
            <a:off x="4524480" y="1096920"/>
            <a:ext cx="11160" cy="5399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 сполучна лінія 11"/>
          <p:cNvSpPr/>
          <p:nvPr/>
        </p:nvSpPr>
        <p:spPr>
          <a:xfrm flipV="1">
            <a:off x="6726240" y="1096920"/>
            <a:ext cx="0" cy="5446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кутник 5" descr=""/>
          <p:cNvPicPr/>
          <p:nvPr/>
        </p:nvPicPr>
        <p:blipFill>
          <a:blip r:embed="rId5"/>
          <a:stretch/>
        </p:blipFill>
        <p:spPr>
          <a:xfrm>
            <a:off x="171360" y="49320"/>
            <a:ext cx="8691480" cy="12430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 сполучна лінія 7"/>
          <p:cNvSpPr/>
          <p:nvPr/>
        </p:nvSpPr>
        <p:spPr>
          <a:xfrm>
            <a:off x="281160" y="1096920"/>
            <a:ext cx="8508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22:55:30Z</dcterms:created>
  <dc:creator>Two_2</dc:creator>
  <dc:description/>
  <dc:language>en-US</dc:language>
  <cp:lastModifiedBy>Two_2</cp:lastModifiedBy>
  <dcterms:modified xsi:type="dcterms:W3CDTF">2014-02-11T00:31:33Z</dcterms:modified>
  <cp:revision>13</cp:revision>
  <dc:subject/>
  <dc:title>Презентація PowerPoint</dc:title>
</cp:coreProperties>
</file>