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38EC-ED01-4B3E-AE0C-9D2C04D7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610D-5169-4A0E-A3E9-FD19E274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E5DFD-27AD-43B1-B182-E0E52275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6FA88-C8A9-4243-8C34-C2F549FD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921A8-90A1-4D79-8887-8ACEB87D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7A1B8-8A99-4969-A071-458BFD92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78EC4-7B5B-460A-927C-EFAF7079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130DC-94AE-465A-9A34-63FBBB4A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E5CD3-E279-4860-ACDD-D9E9348C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C2362-5011-401C-A63F-79BCDC4E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5304A-825F-4961-A352-662A9D96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00F42-74BB-4612-83F3-6DD46371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27E-19FC-4AAF-9FB7-FD9ADC59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FB968-CC25-4DE5-B17A-077B3C85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37B99-9345-4AA7-86A8-D2A55F4D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F065B-C28E-474C-9C9B-0FF3BD53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D5889-4C08-43B4-993E-CE761F6B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D6185-BEF2-44AF-BB4E-C1EAC19D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D12B0-1FF1-4245-A159-0299103C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E202B-C837-445C-8B12-8A9796C6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3E823-055B-49F3-AE28-0F43106C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487F7-057C-4B9D-A63C-535C0D46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0B35D-1F71-41DF-98C5-F380959D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9E38-EE88-447C-A9DA-70567629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2BAA6-DF19-404C-9C10-F516BE5A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C103E-9ACF-41E0-9985-34B635AC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CC61C-F36D-4D9B-83A6-8B536159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1DF1B-81FA-4A83-978C-911D1F8F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7677F-B710-44BB-B016-0175C78F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0636E-7614-4915-932E-558DBAC9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2C9CF-A1C2-4502-B008-074D4D13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E17BC-7243-4E07-9F86-FD356788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4D400-A329-4723-858C-34D189CD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B2472-B133-490F-88F6-92CA9080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1F1F-E59A-4A0B-B698-56762095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DC33F-5A09-4D12-BA6D-ED9DB8C1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70992-1741-45F9-B4C3-B8001EAE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80355-D870-4AF0-A579-0967980B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88E11-431A-48FE-925E-6FFE7DA6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34EE0-2DB6-416D-9A28-219367B4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04F27-C5E5-4625-A2E3-AD3BCEA7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013E3-E1D2-4C2D-854A-FDE049A4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0BB6F-030A-4EB4-AB0E-D54034A0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42A68-9BD9-4AD6-87A8-EE2F25D4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DD39A-7B8B-4A8C-9791-67FEF11C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4F5F-003E-44DA-97E6-57C227FF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FDCA9-65E3-4A0E-A68C-CF5F05E9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64744-EBD2-42F8-A4A0-C8AFECC0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72B42-8C86-465A-A360-03137763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869EF-3E27-4747-93DF-E841C470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D2E4D-A697-4ECE-B672-F58B6934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EB9286-AB28-4F8C-A14D-E4E68620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FDE851-DC85-4CBB-B192-AAD7A690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EA93C4-DE89-44F3-B58B-7581F32E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052B3C-CA7B-4FF9-BD45-4CCA4DEC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15B7F9-89AA-4713-B75F-5AB5B514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1739-EA08-408F-B211-EE707595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54A080-6EA5-47AF-8293-797AACF1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AF6BFF-4B77-4859-90CB-617F9F23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71EF04-A42E-4280-9804-095DB5ED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B7BA44-4073-40DF-B28B-88E6D2D7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38DDE-CA54-4DB7-AF0E-390CA150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D72883-EF51-4547-9D35-B9E5E679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EAACC6-6F0D-491B-8F02-9B5DFE73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CD4E2A-28A6-4140-92DE-DF886E18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60323C-D2C9-4C6A-BFCF-BF7F96C4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BC508B-8BF3-4681-80BB-09B2993B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FD18-2665-4B41-928F-A257A1D3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1DD285-DEE3-4AFD-B186-9A3AF1ED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CF3C54-90F5-40A3-91F2-64220487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303A8A-927D-4B7F-A89A-724023CC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7C8962-2619-471E-BBFF-67D5CB34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532470-7CD5-4487-904C-F0B9C66A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0785C1-307A-4753-ADA2-5B4D5228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152893-A794-46A8-B1A7-690C6FDC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E9DF57-E737-442D-8193-ABAAB68D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78C909-EDC6-4637-811B-74779B3C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E3C0-F609-43F7-8C38-89D97A98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B895-BC5D-4090-8325-EA10161E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0ADE-4EA8-4E0D-9D54-4ECB4947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75C-1FA5-4483-B732-2E483E7E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76A3-ABDE-447E-860E-66B17ABE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F1FF-0ED6-4707-A55A-3C9FF36D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E5B4-E46C-4C67-BAB6-A09E5024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2D74-2CE3-4340-BE3E-5EE780A7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E884-D35C-496C-B576-60445E645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A0434-4130-4CB7-80D9-C49B91C3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6C38F-6495-4143-8DBE-756E39BE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B69C7-477D-4E9C-B55F-1C292F11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FF007-719E-4176-ACE8-A5172176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B6CF5-AB65-4CD0-9384-F652B41F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7627-6754-4890-954F-1649787F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B36F0-6DE5-495C-BFCF-F1C9875F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71EFC-43C3-4231-9DED-2E81FB1C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1D04A-65C3-415F-A882-2C3F5130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7C118-085B-45CF-9ABC-78F16CA4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5E5C9-D534-483A-A350-40B2A9FB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62B48-64E1-4ED7-8D01-FE75E90C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0A626-320B-4E62-994E-D2D91B99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60C7D-5896-415D-B580-FE720B90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230BF-6A93-4055-8ECF-4F40302D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A3E4A-3DDB-4F54-86C7-BE79D1A4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F92F-6A89-4D9E-B917-08BBE6EB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FE416-B0CB-46EE-9071-972A9E26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4EB02-EA81-469B-83F7-7B3DEBC6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AB972-54C0-46A2-9E08-9330F7EF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00AB9-EBE5-4830-B9F9-673821C0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8DF77-564F-4A75-8A0B-02D543E8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F8CAD-CE6F-4946-9E6B-B542FF96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CDF9C-9040-49C6-BF07-19134B6A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399D2-75AA-48AB-9F61-0BC2F896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FCD2E-C13A-445A-AFB1-E43351B8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C4208-43B4-4053-9512-4A4F7827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D9E5-6BFE-4C71-BE05-CA3DF4A3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FD111-394D-4F6E-92B5-255E6D11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E055C-B9B7-408F-BC6F-47625B40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31F30-31DA-4AD9-A48A-4E7BDAD5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CA7E6-C912-400E-8CA5-3ED66671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2BA00-68D6-403B-915D-08DC819C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5BFFC-DE00-41F0-BB41-738343B4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5857A-C97C-40F5-A0A8-740BCD75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20D2F-00A8-44FB-8C0A-A4CA0A46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D4B73-E7B3-4A5F-9203-2964927F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52A37-5AC3-4DF3-BDDD-6F0F51A4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A435-05E2-4902-8B49-0F688140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F00CB-8945-4013-B02F-F7A21C6C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0D55F-2E64-44AC-8E02-7A3B4DEF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8580C-6881-4C00-927D-01A3543D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8C9AA-E271-4C55-9D4B-98E4363B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4564E-FF18-4D2A-8630-1397149E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16292-E930-47FB-B188-2B17F332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0D9DD-9B7C-49CB-A388-364684B6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533F9-7198-4F02-B5E5-0178D000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480A6-4705-4353-937F-80AC07AB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9AD1C-A049-4AE8-B64B-168C80EB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E412-1950-43B3-B661-1B4346DE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5AA76-E7D4-4336-B147-C81DC8E7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4AD2C-0DA2-43C2-BCC1-C05545A8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6A662-B1D3-48F6-A024-60E724B7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A3A0D-BE05-4315-9095-8513E486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E7CCC-B597-4C44-8993-A483E6CE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C509B-D165-4C8E-82FD-F5B631D9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9945D-934E-40CB-BC12-F0F04C98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BB6AD-F70A-4BFB-8856-D1F63A38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AFCA9-1EFD-4319-96D3-DF7D08B8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6F724-4747-4150-8870-FA7FFE6C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69A6-568D-4C5F-A688-F64B86E8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BA679-39D1-455B-A1F0-78DEBD00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E4FD5-7C09-42B3-833A-BF789E67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8890B-2400-4063-852B-F1E4AF17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00B6E-4D5D-4BA5-8712-E9E08022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6CAAE-92BD-4FF8-A998-2E825709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390E0-F586-46F7-ABF8-B6C3C9E9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2C5F1-8611-43E9-9CD3-82C08A86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09E03-3419-4A71-911A-B24D5F44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5E680-A124-42A5-83C1-DF192F83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04324-A508-445D-B6FF-EAD74603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EDBE-6481-43B3-932F-16A8A0F4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8B818-4BE8-4639-ACA4-A76404D5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B41DB-005C-4A33-BCBD-BFDACB70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858DF-FBE6-4137-8AA9-7103052E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33DDA-1B2D-4F5B-A9DF-BBDA5C7C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C97F8-2036-481B-BCAB-0EF4421B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AAD04-1A2E-4F67-9DD7-D355022C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3CB11-822F-4786-8B8F-2E0359DB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B9134-B604-4B1B-A23C-8395F457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4020D-BCCF-4DEF-8C24-7AFA9FAC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A1D9D-088E-4769-9173-BB9D28E4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473F-9052-4272-BA67-C71892C17D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00A7-0D53-46BF-9E15-45DA97145B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C318-2E6F-4E62-9D51-B8C5F45C8D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C68C-5AF1-4AD7-ACEC-1FEB6AF736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E5B0-F814-4DF0-ADC2-1E9CA3D342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3B65-5962-4D78-82E3-7E73A5CA67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070E-9FCC-419F-B78B-5212D5A527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AA9F-C094-4FB7-85E4-D55EE2DAF9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4275-A73C-4D5F-BD03-115FC8C374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2E62-F99F-464A-8567-EC82D8F821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99F4-C8B8-4363-A736-B9EDACB5D7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B911-F7BA-4B86-B10D-43ABEF6AEF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27FF-26AD-4054-9164-4B6F41008F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679E-94D4-4053-AEE8-C27C2EC4C6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15"/>
          <p:cNvGrpSpPr/>
          <p:nvPr/>
        </p:nvGrpSpPr>
        <p:grpSpPr>
          <a:xfrm>
            <a:off x="1332000" y="619920"/>
            <a:ext cx="6696000" cy="4464720"/>
            <a:chOff x="1332000" y="619920"/>
            <a:chExt cx="6696000" cy="4464720"/>
          </a:xfrm>
        </p:grpSpPr>
        <p:sp>
          <p:nvSpPr>
            <p:cNvPr id="575" name="Rectangle 5"/>
            <p:cNvSpPr/>
            <p:nvPr/>
          </p:nvSpPr>
          <p:spPr>
            <a:xfrm>
              <a:off x="1403280" y="619920"/>
              <a:ext cx="662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Рівномірний рух по колу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Picture 14" descr=""/>
            <p:cNvPicPr/>
            <p:nvPr/>
          </p:nvPicPr>
          <p:blipFill>
            <a:blip r:embed="rId1"/>
            <a:stretch/>
          </p:blipFill>
          <p:spPr>
            <a:xfrm>
              <a:off x="1332000" y="1557360"/>
              <a:ext cx="6337080" cy="3527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мірку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179280" y="1557360"/>
            <a:ext cx="85694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576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бертова частота якої зі стрілок більше: годинної чи хвилинної? Чо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5760" indent="0" algn="ctr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576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постереження за яким процесом призвело до появи таких одиниць виміру, як місяць і тижден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791856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ашнє завданн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Гендельштейн Л. Е. Фізика, 8 кл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ідручник для загальноосвітніх шкі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§ 4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Ненашев І. Ю. Фізика, 8 кла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Збірник задач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ів1 — № 4.5, 4.7, 4.8, 4.9, 4.10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ів2 — № 4.13, 4.17, 4.18, 4.19, 4.21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ів3 — № 4.25; 4.27, 4.28, 4.30, 4.31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Д: Виконати вдома самостійну роботу № 4 «Рух по колу. Обертова частот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вдання для самостійної робо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358560" y="980640"/>
            <a:ext cx="8569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Початковий рів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иберіть правильне твердження. Обертова частота — це фізична величина, що дорівнює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ислу повних обертів за одну секунд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Б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асу одного повного оберт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ислу повних обертів за 2π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иберіть правильну відповідь. Рух автомобіля якою із трьох доріг можна вважати найменш близьким до руху по кол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7" name="Group 7"/>
          <p:cNvGrpSpPr/>
          <p:nvPr/>
        </p:nvGrpSpPr>
        <p:grpSpPr>
          <a:xfrm>
            <a:off x="576360" y="4365720"/>
            <a:ext cx="7990920" cy="1778040"/>
            <a:chOff x="576360" y="4365720"/>
            <a:chExt cx="7990920" cy="1778040"/>
          </a:xfrm>
        </p:grpSpPr>
        <p:pic>
          <p:nvPicPr>
            <p:cNvPr id="618" name="Picture 4" descr=""/>
            <p:cNvPicPr/>
            <p:nvPr/>
          </p:nvPicPr>
          <p:blipFill>
            <a:blip r:embed="rId1"/>
            <a:stretch/>
          </p:blipFill>
          <p:spPr>
            <a:xfrm>
              <a:off x="576360" y="4365720"/>
              <a:ext cx="2808000" cy="174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5" descr=""/>
            <p:cNvPicPr/>
            <p:nvPr/>
          </p:nvPicPr>
          <p:blipFill>
            <a:blip r:embed="rId2"/>
            <a:stretch/>
          </p:blipFill>
          <p:spPr>
            <a:xfrm>
              <a:off x="3348000" y="4365720"/>
              <a:ext cx="2736360" cy="17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6" descr=""/>
            <p:cNvPicPr/>
            <p:nvPr/>
          </p:nvPicPr>
          <p:blipFill>
            <a:blip r:embed="rId3"/>
            <a:stretch/>
          </p:blipFill>
          <p:spPr>
            <a:xfrm>
              <a:off x="6084720" y="4371840"/>
              <a:ext cx="2482560" cy="1771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15640" y="115560"/>
            <a:ext cx="878508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Середній рівень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еріод обертання платформи карусельного верстата 4 с. Знайдіть швидкість крайніх точок платформи, віддалених від осі обертання на 2 м.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Хлопчик обертає камінь на мотузці, довжина якої 1,2 м. Визначте період обертання каменя, якщо середня швидкість його дорівнює 18 км/го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Достатній рівень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У скільки разів швидкість кінця хвилинної стрілки баштових годинників більше за швидкість кінця хвилинної стрілки наручних годинників, якщо довжина стрілки баштових годинників 1,5 м, а довжина стрілки наручних годинників 1,5 см?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Знайдіть радіус колеса, що обертається, якщо відомо, що швидкість точки, що лежить на ободі, в 2,5 рази більше швидкості точки, що лежить на 5 см ближче до осі коле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Group 7"/>
          <p:cNvGrpSpPr/>
          <p:nvPr/>
        </p:nvGrpSpPr>
        <p:grpSpPr>
          <a:xfrm>
            <a:off x="324000" y="248400"/>
            <a:ext cx="8569080" cy="5595840"/>
            <a:chOff x="324000" y="248400"/>
            <a:chExt cx="8569080" cy="5595840"/>
          </a:xfrm>
        </p:grpSpPr>
        <p:sp>
          <p:nvSpPr>
            <p:cNvPr id="623" name="Rectangle 5"/>
            <p:cNvSpPr/>
            <p:nvPr/>
          </p:nvSpPr>
          <p:spPr>
            <a:xfrm>
              <a:off x="324000" y="248400"/>
              <a:ext cx="8569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Calibri"/>
                  <a:ea typeface="Calibri"/>
                </a:rPr>
                <a:t>Високий рі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Calibri"/>
                  <a:ea typeface="Calibri"/>
                </a:rPr>
                <a:t>1.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Перша у світі орбітальна космічна станція рухалася зі швидкістю 7,3 км/с і мала період обертання 88,85 хв. Уважаючи її орбіту круговою, знайдіть висоту станції над поверхнею Землі. Радіус Землі вважайте рівним 6400 к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4" name="Picture 4" descr=""/>
            <p:cNvPicPr/>
            <p:nvPr/>
          </p:nvPicPr>
          <p:blipFill>
            <a:blip r:embed="rId1"/>
            <a:stretch/>
          </p:blipFill>
          <p:spPr>
            <a:xfrm>
              <a:off x="2987640" y="2414520"/>
              <a:ext cx="262728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Rectangle 6"/>
            <p:cNvSpPr/>
            <p:nvPr/>
          </p:nvSpPr>
          <p:spPr>
            <a:xfrm>
              <a:off x="324000" y="4287240"/>
              <a:ext cx="8569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Calibri"/>
                  <a:ea typeface="Calibri"/>
                </a:rPr>
                <a:t>2.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Знайдіть швидкість точок земного екватора, обумовлену добовим обертанням Землі. З якою швидкістю й куди повинен летіти літак поблизу екватора, щоб сонце на небі для нього «зупинилося»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13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х тіл по колу з постійною за модулем швидкістю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рівномірним рухом по кол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324000" y="5229000"/>
            <a:ext cx="8424720" cy="10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ід час руху по колу швидкість у будь-якій точці траєкторії спрямована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по дотичні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о кола в цій точц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Picture 4" descr=""/>
          <p:cNvPicPr/>
          <p:nvPr/>
        </p:nvPicPr>
        <p:blipFill>
          <a:blip r:embed="rId1"/>
          <a:stretch/>
        </p:blipFill>
        <p:spPr>
          <a:xfrm>
            <a:off x="1042920" y="2317680"/>
            <a:ext cx="3241800" cy="227664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" descr=""/>
          <p:cNvPicPr/>
          <p:nvPr/>
        </p:nvPicPr>
        <p:blipFill>
          <a:blip r:embed="rId2"/>
          <a:stretch/>
        </p:blipFill>
        <p:spPr>
          <a:xfrm>
            <a:off x="4788000" y="2349360"/>
            <a:ext cx="324000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Період обертанн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це фізична величина, що дорівнює проміжку часу, за який тіло, що рівномірно обертається, робить один обер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Group 9"/>
          <p:cNvGrpSpPr/>
          <p:nvPr/>
        </p:nvGrpSpPr>
        <p:grpSpPr>
          <a:xfrm>
            <a:off x="420840" y="2349360"/>
            <a:ext cx="8615160" cy="3300480"/>
            <a:chOff x="420840" y="2349360"/>
            <a:chExt cx="8615160" cy="3300480"/>
          </a:xfrm>
        </p:grpSpPr>
        <p:pic>
          <p:nvPicPr>
            <p:cNvPr id="583" name="Picture 4" descr=""/>
            <p:cNvPicPr/>
            <p:nvPr/>
          </p:nvPicPr>
          <p:blipFill>
            <a:blip r:embed="rId1"/>
            <a:stretch/>
          </p:blipFill>
          <p:spPr>
            <a:xfrm>
              <a:off x="420840" y="2349360"/>
              <a:ext cx="271116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Rectangle 6"/>
            <p:cNvSpPr/>
            <p:nvPr/>
          </p:nvSpPr>
          <p:spPr>
            <a:xfrm>
              <a:off x="3203640" y="2489400"/>
              <a:ext cx="583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Якщо період обертання дорівнює </a:t>
              </a:r>
              <a:r>
                <a:rPr b="0" lang="ru-RU" sz="2400" spc="-1" strike="noStrike">
                  <a:solidFill>
                    <a:srgbClr val="0000ff"/>
                  </a:solidFill>
                  <a:latin typeface="Times New Roman"/>
                  <a:ea typeface="Calibri"/>
                </a:rPr>
                <a:t>1с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, це означає, що тіло за одну секунду робить один повний оберт. Якщо за час </a:t>
              </a:r>
              <a:r>
                <a:rPr b="0" i="1" lang="ru-RU" sz="2400" spc="-1" strike="noStrike">
                  <a:solidFill>
                    <a:srgbClr val="0000ff"/>
                  </a:solidFill>
                  <a:latin typeface="Times New Roman"/>
                  <a:ea typeface="Calibri"/>
                </a:rPr>
                <a:t>t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тіло зробило </a:t>
              </a:r>
              <a:r>
                <a:rPr b="0" i="1" lang="ru-RU" sz="2400" spc="-1" strike="noStrike">
                  <a:solidFill>
                    <a:srgbClr val="0000ff"/>
                  </a:solidFill>
                  <a:latin typeface="Times New Roman"/>
                  <a:ea typeface="Calibri"/>
                </a:rPr>
                <a:t>N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повних обертів, то період можна визначити за формулою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5" name="Object 5"/>
                <p:cNvSpPr txBox="1"/>
                <p:nvPr/>
              </p:nvSpPr>
              <p:spPr>
                <a:xfrm>
                  <a:off x="5435640" y="4653000"/>
                  <a:ext cx="1123920" cy="99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Т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t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14"/>
          <p:cNvGrpSpPr/>
          <p:nvPr/>
        </p:nvGrpSpPr>
        <p:grpSpPr>
          <a:xfrm>
            <a:off x="324000" y="622080"/>
            <a:ext cx="8820000" cy="5470920"/>
            <a:chOff x="324000" y="622080"/>
            <a:chExt cx="8820000" cy="5470920"/>
          </a:xfrm>
        </p:grpSpPr>
        <p:sp>
          <p:nvSpPr>
            <p:cNvPr id="587" name="Rectangle 10"/>
            <p:cNvSpPr/>
            <p:nvPr/>
          </p:nvSpPr>
          <p:spPr>
            <a:xfrm>
              <a:off x="324000" y="2854440"/>
              <a:ext cx="8820000" cy="13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716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i="1" lang="ru-RU" sz="3600" spc="-1" strike="noStrike">
                  <a:solidFill>
                    <a:srgbClr val="0000ff"/>
                  </a:solidFill>
                  <a:latin typeface="Calibri"/>
                  <a:ea typeface="Calibri"/>
                </a:rPr>
                <a:t>о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Calibri"/>
                  <a:ea typeface="Calibri"/>
                </a:rPr>
                <a:t>бертова частота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- кількість повних обертів за одну секунд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2716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Обертова частота й </a:t>
              </a:r>
              <a:r>
                <a:rPr b="0" lang="ru-RU" sz="2400" spc="-1" strike="noStrike">
                  <a:solidFill>
                    <a:srgbClr val="0000ff"/>
                  </a:solidFill>
                  <a:latin typeface="Calibri"/>
                  <a:ea typeface="Calibri"/>
                </a:rPr>
                <a:t>період обертання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зв’язані таким співвідношенням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8" name="Group 13"/>
            <p:cNvGrpSpPr/>
            <p:nvPr/>
          </p:nvGrpSpPr>
          <p:grpSpPr>
            <a:xfrm>
              <a:off x="395280" y="622080"/>
              <a:ext cx="8569440" cy="5470920"/>
              <a:chOff x="395280" y="622080"/>
              <a:chExt cx="8569440" cy="5470920"/>
            </a:xfrm>
          </p:grpSpPr>
          <mc:AlternateContent>
            <mc:Choice xmlns:a14="http://schemas.microsoft.com/office/drawing/2010/main" Requires="a14">
              <p:sp>
                <p:nvSpPr>
                  <p:cNvPr id="589" name="Object 5"/>
                  <p:cNvSpPr txBox="1"/>
                  <p:nvPr/>
                </p:nvSpPr>
                <p:spPr>
                  <a:xfrm>
                    <a:off x="3780000" y="1416240"/>
                    <a:ext cx="1079280" cy="347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R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0" name="Object 4"/>
                  <p:cNvSpPr txBox="1"/>
                  <p:nvPr/>
                </p:nvSpPr>
                <p:spPr>
                  <a:xfrm>
                    <a:off x="3603600" y="1992240"/>
                    <a:ext cx="1720800" cy="827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R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91" name="Rectangle 6"/>
              <p:cNvSpPr/>
              <p:nvPr/>
            </p:nvSpPr>
            <p:spPr>
              <a:xfrm>
                <a:off x="395280" y="622080"/>
                <a:ext cx="8569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Якщо відомий період обертання </a:t>
                </a:r>
                <a:r>
                  <a:rPr b="0" i="1" lang="ru-RU" sz="2400" spc="-1" strike="noStrike">
                    <a:solidFill>
                      <a:srgbClr val="0000ff"/>
                    </a:solidFill>
                    <a:latin typeface="Calibri"/>
                    <a:ea typeface="Calibri"/>
                  </a:rPr>
                  <a:t>Т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, то можна знайти швидкість тіла </a:t>
                </a:r>
                <a:r>
                  <a:rPr b="0" i="1" lang="ru-RU" sz="2400" spc="-1" strike="noStrike">
                    <a:solidFill>
                      <a:srgbClr val="0000ff"/>
                    </a:solidFill>
                    <a:latin typeface="Calibri"/>
                    <a:ea typeface="Calibri"/>
                  </a:rPr>
                  <a:t>v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. За час </a:t>
                </a:r>
                <a:r>
                  <a:rPr b="0" i="1" lang="ru-RU" sz="2400" spc="-1" strike="noStrike">
                    <a:solidFill>
                      <a:srgbClr val="0000ff"/>
                    </a:solidFill>
                    <a:latin typeface="Calibri"/>
                    <a:ea typeface="Calibri"/>
                  </a:rPr>
                  <a:t>t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, що дорівнює періоду </a:t>
                </a:r>
                <a:r>
                  <a:rPr b="0" i="1" lang="ru-RU" sz="2400" spc="-1" strike="noStrike">
                    <a:solidFill>
                      <a:srgbClr val="0000ff"/>
                    </a:solidFill>
                    <a:latin typeface="Calibri"/>
                    <a:ea typeface="Calibri"/>
                  </a:rPr>
                  <a:t>Т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, тіло проходить шлях, що дорівнює довжині кола: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Rectangle 7"/>
              <p:cNvSpPr/>
              <p:nvPr/>
            </p:nvSpPr>
            <p:spPr>
              <a:xfrm>
                <a:off x="4933800" y="1343520"/>
                <a:ext cx="93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Отже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3" name="Object 9"/>
                  <p:cNvSpPr txBox="1"/>
                  <p:nvPr/>
                </p:nvSpPr>
                <p:spPr>
                  <a:xfrm>
                    <a:off x="4140360" y="4295880"/>
                    <a:ext cx="893520" cy="87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4" name="Object 8"/>
                  <p:cNvSpPr txBox="1"/>
                  <p:nvPr/>
                </p:nvSpPr>
                <p:spPr>
                  <a:xfrm>
                    <a:off x="4222800" y="5376960"/>
                    <a:ext cx="768240" cy="716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95" name="Rectangle 11"/>
              <p:cNvSpPr/>
              <p:nvPr/>
            </p:nvSpPr>
            <p:spPr>
              <a:xfrm>
                <a:off x="828360" y="5518800"/>
                <a:ext cx="348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Частоту в СІ вимірюють в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Group 6"/>
          <p:cNvGrpSpPr/>
          <p:nvPr/>
        </p:nvGrpSpPr>
        <p:grpSpPr>
          <a:xfrm>
            <a:off x="324000" y="689760"/>
            <a:ext cx="8569080" cy="5309280"/>
            <a:chOff x="324000" y="689760"/>
            <a:chExt cx="8569080" cy="5309280"/>
          </a:xfrm>
        </p:grpSpPr>
        <p:sp>
          <p:nvSpPr>
            <p:cNvPr id="597" name="Rectangle 5"/>
            <p:cNvSpPr/>
            <p:nvPr/>
          </p:nvSpPr>
          <p:spPr>
            <a:xfrm>
              <a:off x="324000" y="689760"/>
              <a:ext cx="8569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Важливою особливістю обертового руху є те, що </a:t>
              </a:r>
              <a:r>
                <a:rPr b="0" i="1" lang="ru-RU" sz="2400" spc="-1" strike="noStrike">
                  <a:solidFill>
                    <a:srgbClr val="0000ff"/>
                  </a:solidFill>
                  <a:latin typeface="Calibri"/>
                  <a:ea typeface="Calibri"/>
                </a:rPr>
                <a:t>всі точки тіла рухаються з тим самим періодом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, але швидкості різних точок можуть істотно відрізнятися, оскільки різні точки рухаються по колах різних радіусі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Picture 4" descr=""/>
            <p:cNvPicPr/>
            <p:nvPr/>
          </p:nvPicPr>
          <p:blipFill>
            <a:blip r:embed="rId1"/>
            <a:stretch/>
          </p:blipFill>
          <p:spPr>
            <a:xfrm>
              <a:off x="2916000" y="2852640"/>
              <a:ext cx="3311280" cy="314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000" y="36828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итання </a:t>
            </a:r>
            <a:br>
              <a:rPr sz="3200"/>
            </a:br>
            <a:br>
              <a:rPr sz="2400"/>
            </a:b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1.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Наведіть два–три приклади криволінійних рухів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2. Наведіть два–три приклади рівномірного руху по колу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3. Що таке обертовий рух? Наведіть приклади такого руху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4. Як спрямована миттєва швидкість під час руху по колу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5. Наведіть два–три прикла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4720" y="225000"/>
            <a:ext cx="804384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кріплення вивченого матеріал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216000" y="130284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З якою швидкістю рухаються кінці годинної, хвилинної й секундної стрілок настінних годинникі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йміть, що довжина кожної із цих стрілок дорівнює 10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4" descr=""/>
          <p:cNvPicPr/>
          <p:nvPr/>
        </p:nvPicPr>
        <p:blipFill>
          <a:blip r:embed="rId1"/>
          <a:stretch/>
        </p:blipFill>
        <p:spPr>
          <a:xfrm>
            <a:off x="3022560" y="3321000"/>
            <a:ext cx="25351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Group 10"/>
          <p:cNvGrpSpPr/>
          <p:nvPr/>
        </p:nvGrpSpPr>
        <p:grpSpPr>
          <a:xfrm>
            <a:off x="250920" y="258840"/>
            <a:ext cx="8640720" cy="6022800"/>
            <a:chOff x="250920" y="258840"/>
            <a:chExt cx="8640720" cy="6022800"/>
          </a:xfrm>
        </p:grpSpPr>
        <mc:AlternateContent>
          <mc:Choice xmlns:a14="http://schemas.microsoft.com/office/drawing/2010/main" Requires="a14">
            <p:sp>
              <p:nvSpPr>
                <p:cNvPr id="604" name="Object 6"/>
                <p:cNvSpPr txBox="1"/>
                <p:nvPr/>
              </p:nvSpPr>
              <p:spPr>
                <a:xfrm>
                  <a:off x="1905120" y="1628640"/>
                  <a:ext cx="5187960" cy="71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год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R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  <m:r>
                            <m:t xml:space="preserve">⋅</m:t>
                          </m:r>
                          <m:r>
                            <m:t xml:space="preserve">0,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00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м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0,015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мм</m:t>
                          </m:r>
                        </m:num>
                        <m:den>
                          <m:r>
                            <m:t xml:space="preserve">с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5" name="Object 5"/>
                <p:cNvSpPr txBox="1"/>
                <p:nvPr/>
              </p:nvSpPr>
              <p:spPr>
                <a:xfrm>
                  <a:off x="1908000" y="2852640"/>
                  <a:ext cx="51134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хв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R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  <m:r>
                            <m:t xml:space="preserve">⋅</m:t>
                          </m:r>
                          <m:r>
                            <m:t xml:space="preserve">0,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0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,7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м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0,17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мм</m:t>
                          </m:r>
                        </m:num>
                        <m:den>
                          <m:r>
                            <m:t xml:space="preserve">с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6" name="Object 4"/>
                <p:cNvSpPr txBox="1"/>
                <p:nvPr/>
              </p:nvSpPr>
              <p:spPr>
                <a:xfrm>
                  <a:off x="2593800" y="5589720"/>
                  <a:ext cx="4097520" cy="69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R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  <m:r>
                            <m:t xml:space="preserve">⋅</m:t>
                          </m:r>
                          <m:r>
                            <m:t xml:space="preserve">0,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м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см</m:t>
                          </m:r>
                        </m:num>
                        <m:den>
                          <m:r>
                            <m:t xml:space="preserve">с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07" name="Rectangle 7"/>
            <p:cNvSpPr/>
            <p:nvPr/>
          </p:nvSpPr>
          <p:spPr>
            <a:xfrm>
              <a:off x="250920" y="258840"/>
              <a:ext cx="864072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i="1" lang="ru-RU" sz="2800" spc="-1" strike="noStrike">
                  <a:solidFill>
                    <a:srgbClr val="0000ff"/>
                  </a:solidFill>
                  <a:latin typeface="Calibri"/>
                  <a:ea typeface="Calibri"/>
                </a:rPr>
                <a:t>Розв’язо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Використовуючи формулу, що зв’язує швидкість, період і радіус, одержуємо для кінців годинної й хвилинної стрілок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9"/>
            <p:cNvSpPr/>
            <p:nvPr/>
          </p:nvSpPr>
          <p:spPr>
            <a:xfrm>
              <a:off x="250920" y="3787200"/>
              <a:ext cx="8640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Рух з такими малими швидкостями важко помітити оком, тому коли ми дивимося на настінні годинники, годинна й хвилинна стрілки здаються нерухомими. Кінець же секундної стрілки рухається зі швидкістю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2472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ому дорівнює період обертання Землі навколо Сонця? Місяця навколо Землі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68360" y="4869000"/>
            <a:ext cx="770256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ому дорівнює період обертання годинної стрілки годинників? Хвилинної? Секундної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tretch/>
        </p:blipFill>
        <p:spPr>
          <a:xfrm>
            <a:off x="2627280" y="2060640"/>
            <a:ext cx="34560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18T19:40:3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PT_Export_sFileName">
    <vt:lpwstr>D:\Физика 8 класс\Урок 07 Равномерное движение по кругу\P-Урок 07 Равномерное движение по кругу.Ppt</vt:lpwstr>
  </property>
</Properties>
</file>