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37A-3E76-45FC-B644-9A0828B9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EA2-6525-4C11-9966-8A88B9A1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8F10B-783B-4DDC-BA19-5574770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40B58-DD44-41BD-B387-1D522124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45E8B-FE28-4DAD-8AF0-41CD72F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C1E0D-2B30-4A0C-90DF-DB82DA6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AB16-3D83-497D-A74A-1BC2FA8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FABEE-DEB6-49E4-9A7F-E4A956F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F7FF4-2764-49BF-934C-891EF92D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D9040-BD14-4E00-A9A6-1B9A2356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3A4DC-E9A2-4B2A-8AC3-37774462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17B1B-BE2D-4439-93D5-75074C65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881-7F25-4247-8B94-E8AA6DB3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4B5DE-22D8-4E4A-93C0-E1520D8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789F9-2156-437E-A2D3-59F151A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AE237-6FB7-4BF0-AC6C-ADB94B1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DC71-5CDF-4027-A5E0-FCC393A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A48D-FDE6-4C8A-A8F5-A3B56EC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BF72C-7356-484F-BD86-5C9560B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3B49D-FB1A-4249-8C8F-6DFCDAF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D9AC-1CBA-4ED6-AD7A-20567B4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0F83-14F7-4EB5-8507-FC69A002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609F-E1F1-4D0F-94F9-A2A02D21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A81-7ADA-4A8A-9F92-DEA339BB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9740-9454-4791-925E-BD8E830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E67FA-F02F-4991-A204-EFF5669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70BFD-DCF1-4A14-B86F-ADCDC45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25231-3C87-4482-B048-C49C9B5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C518E-6856-49EE-A129-A4E2ACEB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D6A95-852E-48E1-AA3B-987CB04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C526-A95E-4310-9D45-1CA0D89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49A35-2532-4C4F-A3EE-0312255C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7F12E-DE6D-47AD-BDB9-7CE0DEF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735E5-8AEA-466C-A7BB-3F5193F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9CB-FCD5-4F9D-BADC-90C88A9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53A6-E96C-45A7-8CF7-71D6083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26B0-DB35-41C5-93BF-DB38A5EA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6EAC3-19AE-498A-AE07-4E0C5C91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9F326-CB75-4E08-888B-916D0C8F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5C706-8368-4DF4-B96C-8FA2D27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FA19-1337-4751-9CCA-3EDAD00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1D40F-5293-4976-813C-586C985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FDDB5-017A-4B42-B6ED-59CA732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629C1-84E1-4080-9DCC-1275B04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D8C32-5CD3-42B2-AADE-1929673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4D87-FE43-4F6C-812B-D7982AB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33899-C4C4-4EB0-8F3A-7DA2FAE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C69FB-2DA7-404A-A3B1-AC74D19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2077-FC95-40EE-9C6B-BB8B92A1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D310F-47E0-4C1C-9E96-9908647A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7BEFF-443D-45DE-B613-35880B3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FB7F3-0B29-4510-8911-6FA6B636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2AB1B-4689-4D97-9AE2-7D81A042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E9019-2A56-4983-A53E-F16C32DF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95A71-3C5C-4F63-9418-4A62342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88F8D-14AB-4EF7-A454-C4D3F8E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EC02-569E-4E8B-8233-918D6AC9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CD662-BAAA-4AED-B322-305C720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E78FA-0CD3-4445-962A-FBF95FD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8F1DB-5055-4798-8B82-05E6B82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8BC93-57EF-4F6A-BEAE-C176A9F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A3000-325B-4F8B-9A40-2CA6A71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6A840-8358-458A-A8B0-1086E8C9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A39E1-8EF9-4906-9728-F2C60EBF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E31-0678-4406-9C54-EC1B82C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CBF6-49C1-41EE-90C5-3598F26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358-692C-4626-A8A8-3958BFB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7542-D26A-4DF5-BC5C-B7BA392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576-CA45-45B5-BE5C-DE6B8B74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96C8-B2D6-4767-9D2A-FEEADBB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8E74-7A35-43B4-B333-7A42434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269-4388-4677-91C8-B2385B1A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8A40-647D-4271-BCA9-C14BB877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636-1C7F-4F7F-BAD6-79D5EBF9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71A1-3783-48C2-B417-756166E6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5648-EB34-4C9B-A7F9-F1296A40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B8FD-2AC2-42CF-96DF-BC6A788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0ED5-FAFE-4420-8A79-87FFC106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0321-50DE-4647-A7B6-232171F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8AD-1073-4285-B75C-110D7C35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E3BE-BB1D-4096-94B5-1370693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3E6F-C782-461C-8DA9-DD513CA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948A-BC7F-4D9A-9155-406192D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23CD-1322-441F-A638-BB96E97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E516-1A35-4BDB-97F8-86AC7AF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FFA4-70FE-4850-8F93-89C12406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E22C-700B-4EBD-9250-DC49B5D3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3A89-FE91-411D-BBDA-74F78B8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594C-412B-4B01-B56A-7689515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7000-EA7F-4837-BEB3-051EE79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79A-F308-45DB-804D-68E4F91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591E-5061-49FA-BAC3-E4F2109F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9903-A9AF-400C-95B9-1212BCE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6536-5BCE-4153-AC92-1ADA6EF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9E01-3FE1-412D-9E4A-0A9B011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29E7-E138-4428-A9B2-43856A1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BFCE-273C-4CB6-B04B-9CD03F7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84A3-8D8B-435E-8AEB-D02535A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A040-2D0D-4101-A4FB-903A221F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35BF-910E-456B-A4FF-E54E2DF2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23AF-8E1D-40B5-81A4-C009F494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491-7CF4-453B-AC67-181B1FD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72E1-44EB-4B7B-8002-7B04C94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7481-C473-476A-8DD8-77A252F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6A1F8-8159-4678-9A12-D09F688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5944-BD8F-40EB-8FF7-4542A09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86B0-8441-467E-AA78-BC040BDC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DFC6-2A63-420B-8C79-C1A0B8C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FBBA-6D5C-41FA-A42C-2BAAD03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A52E-DA69-4A9A-BE31-6E2F5E5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EA33-0845-4A3F-9D8F-4F9F9EE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7959-8397-4584-860C-CB59FE99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7F5-0B86-45E8-B4E8-9D7C8161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D4A6-A7F3-470B-BC48-6BBF58E1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5A08-81FA-4D0B-9868-E68257C6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98C3-DED4-4EEF-BC75-26619CC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ED28-98FB-431F-8A0C-BABCD433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6D9C6-1920-472C-9043-89848E67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4DDE-15C8-4E24-816D-C63B8D4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22C6-7BDD-4198-BA2C-C762F38E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3C6E-8A33-430E-BA77-C47708E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80D2-542A-4741-9948-62C362C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A958-2688-4F69-BDEE-CBD4470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578-4BBB-4B60-8DD7-E769C61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0715-B2CA-47C0-AE38-521660E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23A5A-D5CA-46F0-93E6-89C75CEF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70747-349C-4AAA-81BB-EC05B18B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8EC1-1468-4FB9-8089-395062F6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31CE-A901-48E6-865A-DACD2C9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B8FF-0BB4-4C94-9C42-7AFA2C1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2BC9-1269-4534-ABFD-A5239418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D538E-8993-43B4-A7F0-1C27A43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9DCA-658B-4612-8B8C-A1910EC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FB0E-A003-432C-9E79-1FA4AFA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B56-624E-4133-892F-72405FB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03AF-9933-4CA4-871E-7B8BC21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C43B-D8D6-4007-97A7-B896F26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59E0-3929-455A-AE26-616B8097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AADA-3009-4B7A-8413-61779D7C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5F54-7148-4416-9BCA-E7D0A3B2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6493B-F92D-405C-9CE1-A9045F2C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9D8B-B602-4750-BFA5-166DCD59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5A69F-5979-4116-97E8-9738DAB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C092-A6F5-40FB-A1EC-CA544C9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5162-4A61-4FBD-9FA8-11F022D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2D4-706F-41FA-8C04-B199461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B70E-9DFB-4CC1-94A2-0D226574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B5B2-4225-4D08-B72F-A22E6531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081A-090C-4945-92DF-2242AC9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950D-8721-40EA-B63B-1B5997E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004E-1B92-4E9B-9347-39882BF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DDE3-891A-4CB1-A673-DE39D728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BCC3-DDB5-4B27-8687-BF3A0BC4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BC7D5-0473-46F0-842B-7845CA44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C786B-F9D4-4CED-B15E-D03E3DD9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28753-022F-4B94-8CCE-44F2389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5FE-C7D1-44E3-92EE-611284DEC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E4A-471B-4834-A533-D0C5D9684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60F1-3608-4648-BB25-67BC3219E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3F1E-D929-4D74-A976-C2BB79098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47B-FC0B-4AA8-96E6-C6B88F13D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9DF1-C22E-407D-94F6-72A4D06FC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B0C-7C16-4996-A99B-3E56C5194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2BF-45B8-4804-8A2F-A5151B4EB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1592-09E6-4534-B5C5-D6448CC73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D846-5279-4E16-907C-E5FAB2D0B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D02-3FB2-4430-8598-FD0545C89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461-2E48-4DF0-823D-8FEFC170C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27E2-B6AA-4FFE-891F-41D1DD6E4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9"/>
          <p:cNvGrpSpPr/>
          <p:nvPr/>
        </p:nvGrpSpPr>
        <p:grpSpPr>
          <a:xfrm>
            <a:off x="1763640" y="620280"/>
            <a:ext cx="5399280" cy="4488120"/>
            <a:chOff x="1763640" y="620280"/>
            <a:chExt cx="5399280" cy="4488120"/>
          </a:xfrm>
        </p:grpSpPr>
        <p:sp>
          <p:nvSpPr>
            <p:cNvPr id="534" name="Rectangle 5"/>
            <p:cNvSpPr/>
            <p:nvPr/>
          </p:nvSpPr>
          <p:spPr>
            <a:xfrm>
              <a:off x="1763640" y="620280"/>
              <a:ext cx="52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Зву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8" descr=""/>
            <p:cNvPicPr/>
            <p:nvPr/>
          </p:nvPicPr>
          <p:blipFill>
            <a:blip r:embed="rId1"/>
            <a:stretch/>
          </p:blipFill>
          <p:spPr>
            <a:xfrm>
              <a:off x="2050920" y="1700280"/>
              <a:ext cx="5112000" cy="34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6360" y="33300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358920" y="1302840"/>
            <a:ext cx="8569080" cy="4118400"/>
            <a:chOff x="358920" y="1302840"/>
            <a:chExt cx="8569080" cy="4118400"/>
          </a:xfrm>
        </p:grpSpPr>
        <p:sp>
          <p:nvSpPr>
            <p:cNvPr id="559" name="Rectangle 5"/>
            <p:cNvSpPr/>
            <p:nvPr/>
          </p:nvSpPr>
          <p:spPr>
            <a:xfrm>
              <a:off x="358920" y="1302840"/>
              <a:ext cx="856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постерігаючи </a:t>
              </a: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  <a:ea typeface="Calibri"/>
                </a:rPr>
                <a:t>здалеку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за рухами людини, що працює молотком або сокирою, можна помітити, що звук удару чується не під час удару, а коли людина піднімає руку з молотком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Як це пояснит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Picture 4" descr=""/>
            <p:cNvPicPr/>
            <p:nvPr/>
          </p:nvPicPr>
          <p:blipFill>
            <a:blip r:embed="rId1"/>
            <a:stretch/>
          </p:blipFill>
          <p:spPr>
            <a:xfrm>
              <a:off x="2879640" y="3098880"/>
              <a:ext cx="2951280" cy="23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280" y="657000"/>
            <a:ext cx="827892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ід час грози шум грому був почутий через 8 с після спалаху блискавки. На якій відстані йде гроза? Швидкість звуку в повітрі вважайте 340 м/с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2664000" y="2960640"/>
            <a:ext cx="38527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9280" y="37440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02920" y="1375920"/>
            <a:ext cx="83516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1. Чи можна на Землі почути гуркіт від падіння метеорита на Місяці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Чому космонавти, що перебувають у відкритому космосі, не чують одне одного, хоча в їхніх скафандрах є повітр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Чому ми чуємо звук від комара, що летить, а від птаха, що летить, не чуєм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8026560" cy="57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ендельштейн Л. Е. Фізика, 8 к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ідручник для загальноосвітніх шкі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§ 6 (п. 6.1, 6.2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енашев І. Ю. Фізика, 8 кл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бірник задач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6.3, 6.6, 6.7, 6.11, 6.12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6.16, 6.17, 6.22, 6.25, 6.26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6.29; 6.30, 6.31, 6.40, 6.4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186920" y="549360"/>
            <a:ext cx="7129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жерелами звуків є тіла, що коливаю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Group 11"/>
          <p:cNvGrpSpPr/>
          <p:nvPr/>
        </p:nvGrpSpPr>
        <p:grpSpPr>
          <a:xfrm>
            <a:off x="596880" y="2133720"/>
            <a:ext cx="8078760" cy="3095640"/>
            <a:chOff x="596880" y="2133720"/>
            <a:chExt cx="8078760" cy="3095640"/>
          </a:xfrm>
        </p:grpSpPr>
        <p:pic>
          <p:nvPicPr>
            <p:cNvPr id="538" name="Picture 6" descr=""/>
            <p:cNvPicPr/>
            <p:nvPr/>
          </p:nvPicPr>
          <p:blipFill>
            <a:blip r:embed="rId1"/>
            <a:stretch/>
          </p:blipFill>
          <p:spPr>
            <a:xfrm>
              <a:off x="596880" y="2133720"/>
              <a:ext cx="25351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7" descr=""/>
            <p:cNvPicPr/>
            <p:nvPr/>
          </p:nvPicPr>
          <p:blipFill>
            <a:blip r:embed="rId2"/>
            <a:stretch/>
          </p:blipFill>
          <p:spPr>
            <a:xfrm>
              <a:off x="3435480" y="2133720"/>
              <a:ext cx="156816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8" descr=""/>
            <p:cNvPicPr/>
            <p:nvPr/>
          </p:nvPicPr>
          <p:blipFill>
            <a:blip r:embed="rId3"/>
            <a:stretch/>
          </p:blipFill>
          <p:spPr>
            <a:xfrm>
              <a:off x="5291280" y="2133720"/>
              <a:ext cx="3384360" cy="30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640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ширення звуку необхідне середовищ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06216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2920" y="260280"/>
            <a:ext cx="820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Хвиле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ється процес поширення у просторі і з часом коливан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ханічні хвилі бу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перечни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й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здовжні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Group 7"/>
          <p:cNvGrpSpPr/>
          <p:nvPr/>
        </p:nvGrpSpPr>
        <p:grpSpPr>
          <a:xfrm>
            <a:off x="216000" y="1932120"/>
            <a:ext cx="8351640" cy="4333680"/>
            <a:chOff x="216000" y="1932120"/>
            <a:chExt cx="8351640" cy="4333680"/>
          </a:xfrm>
        </p:grpSpPr>
        <p:pic>
          <p:nvPicPr>
            <p:cNvPr id="545" name="Picture 4" descr=""/>
            <p:cNvPicPr/>
            <p:nvPr/>
          </p:nvPicPr>
          <p:blipFill>
            <a:blip r:embed="rId1"/>
            <a:stretch/>
          </p:blipFill>
          <p:spPr>
            <a:xfrm>
              <a:off x="216000" y="1932120"/>
              <a:ext cx="2881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" descr=""/>
            <p:cNvPicPr/>
            <p:nvPr/>
          </p:nvPicPr>
          <p:blipFill>
            <a:blip r:embed="rId2"/>
            <a:stretch/>
          </p:blipFill>
          <p:spPr>
            <a:xfrm>
              <a:off x="3201840" y="3103560"/>
              <a:ext cx="266544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6" descr=""/>
            <p:cNvPicPr/>
            <p:nvPr/>
          </p:nvPicPr>
          <p:blipFill>
            <a:blip r:embed="rId3"/>
            <a:stretch/>
          </p:blipFill>
          <p:spPr>
            <a:xfrm>
              <a:off x="5975280" y="4437000"/>
              <a:ext cx="259236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583920"/>
            <a:ext cx="8713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здовжні хвилі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це періодичні згущення й розрідження середовищ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ому такі хвилі можуть існувати в будь-яких тілах — твердих, рідких, газоподібних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перечні хвилі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жуть існувати лише у твердих тілах.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1378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6920" y="6573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видкість зв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4090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2920" y="765000"/>
            <a:ext cx="8134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важливішим для нас приймачем звуку є, вух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2771640" y="2313000"/>
            <a:ext cx="40309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47640" y="41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ухо є природним приймачем звуку, однак створені й штучні приймачі звуку. Найбільш широко використовуються різні мікрофони. Вони перетворюють звукові коливання на коливання електричного стру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779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280" y="225000"/>
            <a:ext cx="8533080" cy="63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10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1. Що таке звук? Яка фізична природа звук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Наведіть приклади джерел звук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Чи можуть звуки поширюватися у вакуумі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4. Якою загальною властивістю володіють всі джерела звук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5. Наведіть приклади джерел звук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6. Наведіть приклади приймачів звук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7. Поздовжні чи поперечні коливання спостерігаються у звукових хвилях у повітрі? У воді? У твердому тілі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8. Як звук передається від джерела до приймач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wo_2</cp:lastModifiedBy>
  <dcterms:modified xsi:type="dcterms:W3CDTF">2014-10-11T17:07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Физика 8 класс\Урок 11 Звук\P-Урок 11 Звук.Ppt</vt:lpwstr>
  </property>
</Properties>
</file>