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CE9-5C48-4364-BDBB-DF486E5B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C8FF-4D3C-42CF-BEAF-A9217560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71D521-BD93-40BA-8994-48167638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0BFAC-00E0-4C0F-913B-BF556E29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94B65-B3BF-475B-86B7-B8DACBCA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FE443-9596-4C37-AF97-A06A6A139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33452-08C6-4F3F-805A-267993A1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B6AC4C-D50A-4DA5-9664-ED7A2966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28729E-74A1-4CA7-84F1-D3033FCD8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B7DA7-0F88-4C61-B8F4-0CD045B6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25DF0-859F-47BE-A160-6D752D128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B5ADB9-69F9-49D6-8E29-F0C8F1C0C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82D-88A9-4CBD-893F-8F711EBB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617E2-85CC-4B03-B4AE-A6A8939C0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F95AC-5A03-49E7-B12C-E033DE84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3417D-4F6A-4E5A-996C-378D6FDF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C8A830-E182-414F-8771-E3FB6FF0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79E27-BAED-4F0B-8955-634F33A9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918DE-A07B-47D1-B2BB-A89B68CA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DB8A9E-B9ED-4B8C-91E7-64F8D570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FB75D1-B14D-4691-B7E9-9F83D3891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B1EDF3-7CF6-4217-BB7E-4B58BDB3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3AEEA-D7B5-4734-9C34-AA7D0E23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833-90B1-4B0E-A03F-24AB14556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B7C3F-8D22-472E-B5EA-12C2BD5B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D7473-36D5-4DE9-BD27-83ECF098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128B3-7AA0-4FC9-AAB5-C47D70815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6E4C7-4CA0-4194-B175-716127F4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52AC6-7725-4C67-9E06-0B3A723C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744F54-25BF-4C16-A47D-049749F4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5147B6-6D51-4E0D-8D7B-5676BF40E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90215B-FCA7-4DB5-9EB1-1FD60C35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E1A450-83A0-4B1B-AD43-6960C879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E33358-4F98-4DF4-8727-760DE1B6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DE7A3-6058-461F-AFB4-F16C7A853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1A69EA-DDC8-4F27-A530-C4DE40FAA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F76F5-524E-425B-AC35-8A5D0E36A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FA677-E4E5-4CB8-88E5-CB937B762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8B3618-C3D8-45C6-883F-0C5572DD0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B69A39-93B2-422E-9D26-B9E38699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5D59BF-925F-44C0-AEA5-B86C8D00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500F54-5EB5-49AA-A474-B5B22882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A3782-A56D-498F-9042-A666284E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65322D-88E4-4466-AE0F-36C04025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32567-64A7-46CD-9D30-CF843968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ACC7-B36F-491E-AFE6-76235E3E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533248-3E73-49D6-B2E8-A5607F5D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197D63-8984-4F14-8B3A-FD329BD2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93DF4E-1374-48E0-92CE-084A1F59E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9122F4-5427-4BE3-8439-CF524D4A6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9765B1-3B8C-419E-A9EF-86546EBD5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311898-D819-4D18-8A2B-7981FA686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E543F-BEB4-42F2-B783-C6486E739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3B9F8-D55F-481F-A919-3B778A09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931EFC-F242-4260-A529-81B0EB09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EAEF9D-6EBC-43A3-A7AA-3A454B23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7F58-DCF1-4545-BEB2-8CB6A6E0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11B73-44C7-41DD-A5B4-0DF862B3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5C1374-5056-4F75-97F8-56A2C29E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6F51DE-1A4B-4412-8C7E-DD7D5F91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B7338-3F17-4868-B6CA-49461BE7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6687E-0F49-4EF8-A8AB-C7879845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4F98E-7775-4C32-BA30-AE0BD6B1F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C8B63B-1FB7-4995-B1F8-B21DEE0E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339ECA-876F-4444-A0ED-ABDE420F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FF1B0-4A0C-4DCE-B293-ADAB94AC1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740F25-BF86-4A27-BDE3-A59AD468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A8AA-1244-486D-9F10-96B2A85E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E79F5-A73C-48F2-9300-D108A177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3DF8DC-6019-4671-A75C-F8FC0422B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D478FF-6B19-44A9-8EDB-AA908B3D8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FDF906-2519-49C1-A0B2-E776CDB1C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6C42C2-E414-4436-865E-96ED07F7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DE78D8-2D43-44D3-8F4D-8FC7D095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6DCD11-9C02-4287-B356-897190DE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AB0C8-3C08-478B-966B-95F44F24A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5A9677-3AC6-4249-A544-20D03A1CD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D66C70-D64B-4BF0-ADE8-E483A71F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3F9F-DC50-44F2-BCEE-C69C55771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3FA56F-D7AD-42B1-AB78-27EB36DB4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F4B83-0375-42C5-A5CA-754A8382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53064C-E4F6-477D-9AF2-0FBF40384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43C651-6254-491F-9656-54D5FD1A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7E4753-FCED-4E07-B2FE-9FB35B61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B24C7F-D56C-4478-9AA3-924A56CBD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B9ABDC-B94D-422F-9222-AEEECA15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F7C68-4D5F-4603-A470-E17E859A7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2DBC51-56E7-4CCE-9F53-3AB0FB98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E41DA-80D6-4675-A7E9-53F51D01E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FCF6-24A5-445B-B90A-43D1E73C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D36C33-38BB-4578-8264-2E085CE6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B78DB3-2983-484B-9D29-8D588C00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2C893D-D36D-4F95-8ACA-7536F1B6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4F593-6CBD-47BB-9877-F9C9A38D3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6AA7C3-4A5E-4708-97A6-46EA738C0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9516FF-921E-488C-9BB6-A5D9827A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E4EFF1-16D3-4C94-87D0-E38F7F60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013DB-FAD7-402F-A281-1959202A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7A963C-73D0-4AB5-A76D-08E843E37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C4B2FC-59A9-4E8A-8B93-C357260E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23C8-836E-48AF-B286-D2364BA06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07B3AC-1D15-4F0A-97DC-11BB09D4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45B184-CF86-4D76-85C5-01AB4716A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F3A190-01DB-4EFC-B7B8-6EAC88525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F5D140-6BD3-48C1-89F8-6D4F95C6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E7387E-C4F2-43BB-AA0B-2DC099FA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A5D1D3-F624-4C5B-B5B9-5D5F3EB82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FA4B04-5875-492D-A2A9-4FDBB216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A57A6A-78DD-4B22-AC00-E2287FFD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CCC62-7677-4C69-B5A9-8BFC3639A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B2187D-FA92-4525-A149-B604FC30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8597-B5EC-465F-BB21-F1AD54576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6B63-BF62-46A0-8048-20648134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AB3297-258A-4691-B279-9B183F48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908F49-57D6-4D80-84A4-F5E2276E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954B6F-3B7F-4084-BFD9-AC3401F6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1119BB-FBAD-430B-82F5-DC0D2CBF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B8C4E0-E581-4738-A5EC-82450F2C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5DF26-C634-46E3-865D-A369CC26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A247-19CF-44BB-8328-6E054AF3D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B30E-7273-4F4E-AC9F-5202A162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7C02-29F7-4361-AE89-4B7460BB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61539-8254-4AC6-9ACE-60C50A90B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AE773-E946-49D8-9EE0-51182CE0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69F37-3C65-4107-AE0C-CEA5C4A8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E121-A6C4-455E-98BC-1DECC7471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2DFE2-7360-4944-BA88-BABF1F455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9A72-6DBE-48D5-AF3A-3A7AFA2F4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18020-1949-46FB-9B20-623BA082E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3668D-364B-43D7-8C65-65DF9559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B647A7-4BC2-425A-AC48-AFEE4786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B445-4C38-4CBF-AF20-8376ED02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C299-A411-4251-9B2C-EEFAA794D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57088-4EEB-45FD-A3D6-D1EA39492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15445-66BC-4019-BECB-41DF9EE1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262A1-DBF7-4919-A3FA-179B7D285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A06E2-7BAB-46DD-AA55-67CD0C853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3EE07-C50D-4601-97EA-72736F35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D0D4-5416-43BA-B3C8-F7EE511BA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9E3ED-69E9-4F38-93DE-83FE03CF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7BEBF9-E63C-4CFC-9ED9-53A1443D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F117E-2CD2-4CF5-BE59-CFD99466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2F159-100C-4A30-A9AE-8DF967ED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C9980-B240-4F1A-9791-8590E2E0B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F1A48-E728-450E-8324-496FEC4E3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01C7F-D424-4ADE-880E-E91EB58E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DB5E2-8F43-4F61-9AA2-C1FE2B45E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4B8BFE-E78C-46B6-8AA3-688F5832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95F6B-4CA2-4C7A-9817-912E3E152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FAAE-69A0-4456-BF4F-26E9A6CF0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D2662-9EFB-48F6-ACC9-5659F15B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2EABCD-F135-44ED-A586-9E095739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1CE8F-EC10-4CF7-AB3F-AE84779B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6AD6A-51C0-4931-A7FC-F2CB703E8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FF2F9-3742-4609-8675-9E40EF61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0E561-2B32-4495-8D87-2F502E77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02CD5-D1C4-4C44-A0E0-7549B9CE4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09CD6-B594-43F3-AD1A-C3C9B4A6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09976-D7C4-416A-A93F-B3109917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8071C-9BB8-4768-81EB-D7575CE24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BF3C-7276-4EA9-A5BB-DF3A4BDD2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0F5606-E5FB-4248-9438-E77B690C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8D9F8-C40E-41DD-A612-6BCDFB4B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A362-9051-448B-AD8D-6AEC0283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104AE-122B-4502-A433-DE39DA0D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88727-8CB3-4412-84A0-A0868812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9C78C-1AD1-4F7F-A33C-873094DC1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B7E33C-615E-4E62-9FDD-4B4F74EAE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E679B-8C88-4642-8CF0-C5B03994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3455A-6935-4DD0-98FF-55796C83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733A47-3A1E-4706-B69A-B6C84C22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E2BB-D994-4C68-A191-7814DF30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74AC4-C165-4D74-96DD-F3102CF44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DC8DD-4DCB-43E6-9384-3E4E1F241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7BD26-9F34-4F83-9FC0-4752D614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6521E-AB81-4E8E-85C5-6B3D1EEC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DFA49-A6BB-4CC0-A39E-4BD74D3DD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94778-35CC-453A-98E3-C8FF927B1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8987B-EABD-40B0-B9B6-E7B3E2EF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8AB136-4F98-4F31-A611-8FB853B2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7AAAA-AC1A-45F5-AA86-2778F3246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CC089-EE44-4C46-8A56-F8ACAF04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D47C-F9C3-4975-AA9F-A4CD8D8B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FFB9E-83BA-44B2-ABB2-20FD3A26B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67DA1E-B145-4750-9018-AE8C6FDF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5BF41-F279-464B-81F8-E5CFA9CC1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B7AAF-BE9D-4F59-925F-169A07939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B51AD4-2021-4CC3-B99F-8F23AE123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F808E-3643-4FBA-95F9-C73C51117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5CED7B-B2B9-4462-AFE4-10218F4B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6E751-18FD-4F83-8A1B-24BC7D5CB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A54F8C-179E-44AF-8396-DCA2E9442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D5881-2250-414B-A54E-61C679F0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F8B-FAE8-4C14-A635-3EC8C671D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CA90E-4635-4199-BCF6-B87F441E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871D6-53B8-45EB-8520-C9AEBD3B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EECEC9-B9F3-46AB-89C1-91FB1D97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4ABD3-E7CE-46F5-B2E5-0306EA7B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20E02-8207-448B-9D3E-B3E96BF2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0AC3D2-0ADF-4917-B225-349CCEAFF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E0D6F-FB8E-4E78-A46A-E594556E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1B6914-0D78-48F1-8605-FF52AFB3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181931-7D27-494E-A635-6C538131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393CA-FBB3-40E8-9C0E-BA65466F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6EAD-CFF8-40C3-A314-29DF77D76B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5F79-532E-4C7B-8B02-D801C3FA2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8A2F5-8419-4E98-B455-72D97E79BE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3D4D4-9698-4F39-BA3D-FAEEAA43EF8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DDBF2-3EC8-492C-B1A6-96E26F0B55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D1F30-A3A6-4876-BA86-E5AE3047EF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EE22-AA16-4FA3-BA43-11A397DA40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A1F0-ACAC-4C4A-82E9-B1032E184F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81D3B-461F-41D9-9D20-7F1C42A683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EAE15-2F37-4637-A4E0-92BB734B48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45978-AA7D-4210-9EAB-729A59F44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AAC41-1370-4CA3-9AE6-C05BD08DB1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7191-20DF-4D05-A953-51DDDF835D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8042-40DC-4B0E-8C84-84122125BA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E60B-D766-4261-92C4-5004983CFF9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0F46-D03E-4FB4-BDF7-B658E73CDA7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44BF5-914C-41B9-9EFB-CA2FD2B06FB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92000" y="33300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Гучність звуку. Висота й тембр звук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5" descr=""/>
          <p:cNvPicPr/>
          <p:nvPr/>
        </p:nvPicPr>
        <p:blipFill>
          <a:blip r:embed="rId1"/>
          <a:stretch/>
        </p:blipFill>
        <p:spPr>
          <a:xfrm>
            <a:off x="1692360" y="1309680"/>
            <a:ext cx="5975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00720" y="2205000"/>
            <a:ext cx="381456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льтразвук широко використовують й у медицині — як для обстеження хворого, так і для його лікуванн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7" name="Picture 4" descr=""/>
          <p:cNvPicPr/>
          <p:nvPr/>
        </p:nvPicPr>
        <p:blipFill>
          <a:blip r:embed="rId1"/>
          <a:stretch/>
        </p:blipFill>
        <p:spPr>
          <a:xfrm>
            <a:off x="900000" y="2060640"/>
            <a:ext cx="33847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918200" cy="511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итання</a:t>
            </a:r>
            <a:br>
              <a:rPr sz="32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1. Чому після того, як ми вдаримо по камертону, чутний звук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2. З якою фізичною величиною пов’язана гучність звуку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3. Яка фізична величина визначає висоту звуку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4. Чим визначається відмінність тембру звуків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5. Які явища свідчать про відбиття звуків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Лабораторна робота № 4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Вивчення характеристик звуку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324000" y="3644640"/>
            <a:ext cx="864072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Туго натягніть нитку: один її кінець прив’яжіть, а інший тримайте в руці. Смикніть нитку — ви почуєте звук, начебто від натягнутої струни. Джерелом цього звуку є коливна нитк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322200" y="4746960"/>
            <a:ext cx="871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Переконайтеся в тому, що зі збільшенням амплітуди коливань нитки звук голоснішає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Зменште довжину нитки. Ви помітите, що звук став вище. У випадку зменшення довжини нитки (за тієї самої сили натягу) збільшується частота коливань ни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2" name="Picture 5" descr=""/>
          <p:cNvPicPr/>
          <p:nvPr/>
        </p:nvPicPr>
        <p:blipFill>
          <a:blip r:embed="rId1"/>
          <a:stretch/>
        </p:blipFill>
        <p:spPr>
          <a:xfrm>
            <a:off x="2195640" y="1341360"/>
            <a:ext cx="4897440" cy="21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4000" y="225360"/>
            <a:ext cx="8064360" cy="43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міркуй </a:t>
            </a:r>
            <a:br>
              <a:rPr sz="3200"/>
            </a:br>
            <a:br>
              <a:rPr sz="32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1. Чому звуки з однаковою амплітудою, але з різними частотами людина сприймає як звуки різної гучності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2. Якщо блискавка вдарила неподалік від вас, чутний різкий однократний удар грому, а якщо блискавка була далеко, чутно тривалий гуркіт грому. Чому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Calibri"/>
              </a:rPr>
              <a:t>3. На чому заснована дія рупор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15960" y="333000"/>
            <a:ext cx="7843680" cy="614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омашнє завдання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Гендельштейн Л. Е. Фізика, 8 кл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Підручник для загальноосвітніх шкіл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 § 6 (п. 6.3)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Ненашев І. Ю. Фізика, 8 клас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Збірник задач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1 — № 6.4, 6.5, 6.8, 6.13, 6.14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2 — № 6.19, 6.20, 6.23, 6.27, 6.28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ів3 — № 6.32; 6.33, 6.34, 6.39, 6.42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 Д: Підготуватися до самостійної роботи № 5 «Механічні коливання. Звук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авдання для самостійної робо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24000" y="112500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Початковий рівен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Підвішений на нитці вантаж здійснює малі коливання. Уважаючи коливання незатухаючими, виберіть правильне твердже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іод коливань залежить від маси вантаж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Б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им довша нитка, тим менше період коливан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нтаж здійснює періодичні колива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беріть правильне твердження. Які з названих властивостей характеризують поперечні хвилі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перечні хвилі являють собою стиски, що чергуються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і розрідженн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Б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астинки середовища зміщуються перпендикулярно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до напрямку поширення хвилі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і хвилі можуть поширюватися тільки в газ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Середній рівень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антаж, що коливається на пружині, за 8 с зробив 32 коливання. Знайдіть період і частоту коливань.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ідстань до перешкоди, що відбиває звук, дорівнює 68 м. Через який час людина почує луну? Швидкість звуку вважайте рівною 340 м/с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остатній рівень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) Як зміниться період коливань математичного маятника, якщо перенести його взимку в неопалюване приміщення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б) Писк комара — звук більш високого тону, ніж гудіння джмеля. Яка із цих комах частіше змахує крильцями?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) Від яких величин залежить період коливань тіла на пружині? Як зміниться період коливань, якщо збільшити масу тіла? Замінити пружину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б) При польоті багато комах видають звук. Під час польоту птахів звуку не чутно. Чому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21840" y="-360"/>
            <a:ext cx="8713800" cy="225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исокий рівень</a:t>
            </a: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) Як зміниться період коливань пружинного маятника, якщо амплітуду коливань збільшити у два рази?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б) Поясніть походження звуків, що видаються живими істотами, зображеними на малюнку (квакання, дзижчання, скрекотінн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94920" y="4653000"/>
            <a:ext cx="871380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а) Який фізичний зміст закладений у корейському прислів’ї: «Коли б’ють по стіні, і стеля тремтить»? Поясніть свою відповід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) Чому шум, створюваний поїздом, що рухається, стає особливо оглушливим, коли поїзд в’їжджає в тунель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0" name="Group 7"/>
          <p:cNvGrpSpPr/>
          <p:nvPr/>
        </p:nvGrpSpPr>
        <p:grpSpPr>
          <a:xfrm>
            <a:off x="900000" y="2529000"/>
            <a:ext cx="6443640" cy="1628640"/>
            <a:chOff x="900000" y="2529000"/>
            <a:chExt cx="6443640" cy="1628640"/>
          </a:xfrm>
        </p:grpSpPr>
        <p:pic>
          <p:nvPicPr>
            <p:cNvPr id="751" name="Picture 4" descr=""/>
            <p:cNvPicPr/>
            <p:nvPr/>
          </p:nvPicPr>
          <p:blipFill>
            <a:blip r:embed="rId1"/>
            <a:stretch/>
          </p:blipFill>
          <p:spPr>
            <a:xfrm>
              <a:off x="900000" y="2529000"/>
              <a:ext cx="2087640" cy="158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2" name="Picture 5" descr=""/>
            <p:cNvPicPr/>
            <p:nvPr/>
          </p:nvPicPr>
          <p:blipFill>
            <a:blip r:embed="rId2"/>
            <a:stretch/>
          </p:blipFill>
          <p:spPr>
            <a:xfrm>
              <a:off x="3132000" y="2529000"/>
              <a:ext cx="2016360" cy="162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3" name="Picture 6" descr=""/>
            <p:cNvPicPr/>
            <p:nvPr/>
          </p:nvPicPr>
          <p:blipFill>
            <a:blip r:embed="rId3"/>
            <a:stretch/>
          </p:blipFill>
          <p:spPr>
            <a:xfrm>
              <a:off x="5256360" y="2529000"/>
              <a:ext cx="2087280" cy="16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11280" y="51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Гучність зву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значається амплітудою коливань тіла, що звучи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0" name="Group 7"/>
          <p:cNvGrpSpPr/>
          <p:nvPr/>
        </p:nvGrpSpPr>
        <p:grpSpPr>
          <a:xfrm>
            <a:off x="647640" y="2241720"/>
            <a:ext cx="7775640" cy="3660120"/>
            <a:chOff x="647640" y="2241720"/>
            <a:chExt cx="7775640" cy="3660120"/>
          </a:xfrm>
        </p:grpSpPr>
        <p:pic>
          <p:nvPicPr>
            <p:cNvPr id="701" name="Picture 4" descr=""/>
            <p:cNvPicPr/>
            <p:nvPr/>
          </p:nvPicPr>
          <p:blipFill>
            <a:blip r:embed="rId1"/>
            <a:stretch/>
          </p:blipFill>
          <p:spPr>
            <a:xfrm>
              <a:off x="647640" y="2241720"/>
              <a:ext cx="3888000" cy="100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2" name="Picture 5" descr=""/>
            <p:cNvPicPr/>
            <p:nvPr/>
          </p:nvPicPr>
          <p:blipFill>
            <a:blip r:embed="rId2"/>
            <a:stretch/>
          </p:blipFill>
          <p:spPr>
            <a:xfrm>
              <a:off x="4535640" y="2241720"/>
              <a:ext cx="3887640" cy="102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3" name="Picture 6" descr=""/>
            <p:cNvPicPr/>
            <p:nvPr/>
          </p:nvPicPr>
          <p:blipFill>
            <a:blip r:embed="rId3"/>
            <a:stretch/>
          </p:blipFill>
          <p:spPr>
            <a:xfrm>
              <a:off x="1440000" y="3825720"/>
              <a:ext cx="5832360" cy="2076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148360" y="1267920"/>
            <a:ext cx="3450960" cy="42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ичайно, чим більше амплітуда звукових коливань, тим звук здається більш голосним, але гучність для звуків різних частот буде різно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5" name="Picture 4" descr=""/>
          <p:cNvPicPr/>
          <p:nvPr/>
        </p:nvPicPr>
        <p:blipFill>
          <a:blip r:embed="rId1"/>
          <a:stretch/>
        </p:blipFill>
        <p:spPr>
          <a:xfrm>
            <a:off x="466560" y="1052640"/>
            <a:ext cx="439272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0" y="691920"/>
            <a:ext cx="3741840" cy="269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Якщо гумовим молоточком ударити по «ніжках» камертона, то він буде видавати звук, що називається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музичним тон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539640" y="4005360"/>
            <a:ext cx="3600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исота зву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изначається частотою звукової хвилі: чим більше частота хвилі, тим звук вищ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8" name="Picture 4" descr=""/>
          <p:cNvPicPr/>
          <p:nvPr/>
        </p:nvPicPr>
        <p:blipFill>
          <a:blip r:embed="rId1"/>
          <a:stretch/>
        </p:blipFill>
        <p:spPr>
          <a:xfrm>
            <a:off x="1042920" y="692280"/>
            <a:ext cx="2808360" cy="2423880"/>
          </a:xfrm>
          <a:prstGeom prst="rect">
            <a:avLst/>
          </a:prstGeom>
          <a:ln w="0">
            <a:noFill/>
          </a:ln>
        </p:spPr>
      </p:pic>
      <p:pic>
        <p:nvPicPr>
          <p:cNvPr id="709" name="Picture 5" descr=""/>
          <p:cNvPicPr/>
          <p:nvPr/>
        </p:nvPicPr>
        <p:blipFill>
          <a:blip r:embed="rId2"/>
          <a:stretch/>
        </p:blipFill>
        <p:spPr>
          <a:xfrm>
            <a:off x="4788000" y="3789360"/>
            <a:ext cx="34560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0" name="Group 7"/>
          <p:cNvGrpSpPr/>
          <p:nvPr/>
        </p:nvGrpSpPr>
        <p:grpSpPr>
          <a:xfrm>
            <a:off x="611280" y="1266480"/>
            <a:ext cx="8066160" cy="4219560"/>
            <a:chOff x="611280" y="1266480"/>
            <a:chExt cx="8066160" cy="4219560"/>
          </a:xfrm>
        </p:grpSpPr>
        <p:sp>
          <p:nvSpPr>
            <p:cNvPr id="711" name="Rectangle 4"/>
            <p:cNvSpPr/>
            <p:nvPr/>
          </p:nvSpPr>
          <p:spPr>
            <a:xfrm>
              <a:off x="3780000" y="1305360"/>
              <a:ext cx="489744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Коливання повітря (і голосових зв’язок людини) є досить складними, оскільки складаються ніби з декількох коливань, що накладаються одне на одн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2" name="Picture 5" descr=""/>
            <p:cNvPicPr/>
            <p:nvPr/>
          </p:nvPicPr>
          <p:blipFill>
            <a:blip r:embed="rId1"/>
            <a:stretch/>
          </p:blipFill>
          <p:spPr>
            <a:xfrm>
              <a:off x="611280" y="1266480"/>
              <a:ext cx="2808360" cy="20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3" name="Picture 6" descr=""/>
            <p:cNvPicPr/>
            <p:nvPr/>
          </p:nvPicPr>
          <p:blipFill>
            <a:blip r:embed="rId2"/>
            <a:stretch/>
          </p:blipFill>
          <p:spPr>
            <a:xfrm>
              <a:off x="1187280" y="4219200"/>
              <a:ext cx="6409080" cy="1266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708000" y="549360"/>
            <a:ext cx="5111640" cy="35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синусоїдальне коливання може бути представлене у вигляді суми гармонічних коливань із різними частотами. Коливання з найменшою частотою називається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основним тоном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, а коливання з більш високою частотою називається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обертоном,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бо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 гармонікою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5" name="Picture 4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3162240" cy="3888000"/>
          </a:xfrm>
          <a:prstGeom prst="rect">
            <a:avLst/>
          </a:prstGeom>
          <a:ln w="0">
            <a:noFill/>
          </a:ln>
        </p:spPr>
      </p:pic>
      <p:sp>
        <p:nvSpPr>
          <p:cNvPr id="716" name="Rectangle 6"/>
          <p:cNvSpPr/>
          <p:nvPr/>
        </p:nvSpPr>
        <p:spPr>
          <a:xfrm>
            <a:off x="250920" y="5013360"/>
            <a:ext cx="863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ембр звуку визначає його забарв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Він визначається наявністю й інтенсивністю обертонів — частот, кратних основні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04400" cy="12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Лу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— результат відбиття звуку: звукові хвилі відбиваються від різних перешкод, навіть від хма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subTitle"/>
          </p:nvPr>
        </p:nvSpPr>
        <p:spPr>
          <a:xfrm>
            <a:off x="4066920" y="2060640"/>
            <a:ext cx="4716360" cy="15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ідбиття звуку відбувається за таким самим законом, що й відбиття світла: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ут відбиття дорівнює куту падіння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9" name="Group 8"/>
          <p:cNvGrpSpPr/>
          <p:nvPr/>
        </p:nvGrpSpPr>
        <p:grpSpPr>
          <a:xfrm>
            <a:off x="468360" y="1916280"/>
            <a:ext cx="7702560" cy="4641840"/>
            <a:chOff x="468360" y="1916280"/>
            <a:chExt cx="7702560" cy="4641840"/>
          </a:xfrm>
        </p:grpSpPr>
        <p:pic>
          <p:nvPicPr>
            <p:cNvPr id="720" name="Picture 5" descr=""/>
            <p:cNvPicPr/>
            <p:nvPr/>
          </p:nvPicPr>
          <p:blipFill>
            <a:blip r:embed="rId1"/>
            <a:stretch/>
          </p:blipFill>
          <p:spPr>
            <a:xfrm>
              <a:off x="468360" y="1916280"/>
              <a:ext cx="3529080" cy="20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1" name="Picture 6" descr=""/>
            <p:cNvPicPr/>
            <p:nvPr/>
          </p:nvPicPr>
          <p:blipFill>
            <a:blip r:embed="rId2"/>
            <a:stretch/>
          </p:blipFill>
          <p:spPr>
            <a:xfrm>
              <a:off x="4859280" y="4292640"/>
              <a:ext cx="3311640" cy="22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2" name="Picture 7" descr=""/>
            <p:cNvPicPr/>
            <p:nvPr/>
          </p:nvPicPr>
          <p:blipFill>
            <a:blip r:embed="rId3"/>
            <a:stretch/>
          </p:blipFill>
          <p:spPr>
            <a:xfrm>
              <a:off x="468360" y="4268880"/>
              <a:ext cx="3456000" cy="22892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203640" y="692280"/>
            <a:ext cx="5254560" cy="14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ук, що сприймається або чується вухом людини, має частоти в діапазоні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20–20 000 Г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subTitle"/>
          </p:nvPr>
        </p:nvSpPr>
        <p:spPr>
          <a:xfrm>
            <a:off x="3347640" y="2205000"/>
            <a:ext cx="503244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вукові хвилі з нижчими частотами називають </a:t>
            </a: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інфразвуком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5" name="Group 7"/>
          <p:cNvGrpSpPr/>
          <p:nvPr/>
        </p:nvGrpSpPr>
        <p:grpSpPr>
          <a:xfrm>
            <a:off x="250920" y="765000"/>
            <a:ext cx="2520720" cy="5205600"/>
            <a:chOff x="250920" y="765000"/>
            <a:chExt cx="2520720" cy="5205600"/>
          </a:xfrm>
        </p:grpSpPr>
        <p:pic>
          <p:nvPicPr>
            <p:cNvPr id="726" name="Picture 4" descr=""/>
            <p:cNvPicPr/>
            <p:nvPr/>
          </p:nvPicPr>
          <p:blipFill>
            <a:blip r:embed="rId1"/>
            <a:stretch/>
          </p:blipFill>
          <p:spPr>
            <a:xfrm>
              <a:off x="250920" y="2349360"/>
              <a:ext cx="252072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Picture 5" descr=""/>
            <p:cNvPicPr/>
            <p:nvPr/>
          </p:nvPicPr>
          <p:blipFill>
            <a:blip r:embed="rId2"/>
            <a:stretch/>
          </p:blipFill>
          <p:spPr>
            <a:xfrm>
              <a:off x="250920" y="4149720"/>
              <a:ext cx="2520720" cy="182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8" name="Picture 6" descr=""/>
            <p:cNvPicPr/>
            <p:nvPr/>
          </p:nvPicPr>
          <p:blipFill>
            <a:blip r:embed="rId3"/>
            <a:stretch/>
          </p:blipFill>
          <p:spPr>
            <a:xfrm>
              <a:off x="250920" y="765000"/>
              <a:ext cx="2520720" cy="16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9" name="Rectangle 8"/>
          <p:cNvSpPr/>
          <p:nvPr/>
        </p:nvSpPr>
        <p:spPr>
          <a:xfrm>
            <a:off x="3203640" y="3942720"/>
            <a:ext cx="5508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Інфразвук викликають, наприклад, землетруси й вібрація важких механізмів, автомобілів, тракторів і побутових приладі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9"/>
          <p:cNvGrpSpPr/>
          <p:nvPr/>
        </p:nvGrpSpPr>
        <p:grpSpPr>
          <a:xfrm>
            <a:off x="539640" y="476280"/>
            <a:ext cx="8283600" cy="5813280"/>
            <a:chOff x="539640" y="476280"/>
            <a:chExt cx="8283600" cy="5813280"/>
          </a:xfrm>
        </p:grpSpPr>
        <p:sp>
          <p:nvSpPr>
            <p:cNvPr id="731" name="Rectangle 4"/>
            <p:cNvSpPr/>
            <p:nvPr/>
          </p:nvSpPr>
          <p:spPr>
            <a:xfrm>
              <a:off x="1332000" y="476280"/>
              <a:ext cx="640080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1280" indent="-341280"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Звукові хвилі з вищими частотами називають </a:t>
              </a: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ультразвуком</a:t>
              </a:r>
              <a:r>
                <a:rPr b="1" lang="ru-RU" sz="24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5"/>
            <p:cNvSpPr/>
            <p:nvPr/>
          </p:nvSpPr>
          <p:spPr>
            <a:xfrm>
              <a:off x="3780000" y="1914840"/>
              <a:ext cx="5043240" cy="176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За допомогою </a:t>
              </a:r>
              <a:r>
                <a:rPr b="0" lang="ru-RU" sz="2200" spc="-1" strike="noStrike">
                  <a:solidFill>
                    <a:srgbClr val="0000ff"/>
                  </a:solidFill>
                  <a:latin typeface="Calibri"/>
                </a:rPr>
                <a:t>ультразвуку</a:t>
              </a: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 «просвічують» металеві вироби для виявлення в них прихованих дефектів — сторонніх включень, тріщин або порожнин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6"/>
            <p:cNvSpPr/>
            <p:nvPr/>
          </p:nvSpPr>
          <p:spPr>
            <a:xfrm>
              <a:off x="971640" y="4580280"/>
              <a:ext cx="56894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Calibri"/>
                </a:rPr>
                <a:t>Знаючи швидкість звуку у воді, можна визначити відстань до дна. Прилад для вимірювання глибини дна називають </a:t>
              </a:r>
              <a:r>
                <a:rPr b="1" i="1" lang="ru-RU" sz="2200" spc="-1" strike="noStrike">
                  <a:solidFill>
                    <a:srgbClr val="0000ff"/>
                  </a:solidFill>
                  <a:latin typeface="Calibri"/>
                </a:rPr>
                <a:t>ехолотом</a:t>
              </a:r>
              <a:r>
                <a:rPr b="1" lang="ru-RU" sz="2200" spc="-1" strike="noStrike">
                  <a:solidFill>
                    <a:srgbClr val="000000"/>
                  </a:solidFill>
                  <a:latin typeface="Calibri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4" name="Picture 7" descr=""/>
            <p:cNvPicPr/>
            <p:nvPr/>
          </p:nvPicPr>
          <p:blipFill>
            <a:blip r:embed="rId1"/>
            <a:stretch/>
          </p:blipFill>
          <p:spPr>
            <a:xfrm>
              <a:off x="7020000" y="3789360"/>
              <a:ext cx="1538280" cy="25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5" name="Picture 8" descr=""/>
            <p:cNvPicPr/>
            <p:nvPr/>
          </p:nvPicPr>
          <p:blipFill>
            <a:blip r:embed="rId2"/>
            <a:stretch/>
          </p:blipFill>
          <p:spPr>
            <a:xfrm>
              <a:off x="539640" y="1844640"/>
              <a:ext cx="2592360" cy="2060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wo_2</cp:lastModifiedBy>
  <dcterms:modified xsi:type="dcterms:W3CDTF">2014-10-11T17:08:08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PT_Export_sFileName">
    <vt:lpwstr>D:\Физика 8 класс\Урок 12 Громкость звука Высота и тембр звука\P-Урок 12 Громкость звука Высота и тембр звука.Ppt</vt:lpwstr>
  </property>
</Properties>
</file>